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4BE5-CA9D-437A-BB19-40401E4BD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40A5-CE18-42DD-8F52-54F12E308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AAD9-1665-4B56-8BC0-75CA6E1CB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3D65-4EEF-4B3E-9529-A58CF3812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B49-E72E-4C8F-9DF8-DFD4D6F9B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FC20-7C97-4FFE-AC7A-712A7A4C6D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5F9E-2ECB-45C6-9682-E55A7528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8678-6158-4F29-BFDD-CD7BADA4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EC7F-9D7D-4401-9E44-3A03D3022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8153-3738-4660-8FD1-A766F5778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6725-09D3-4C7E-B86F-5AF57893A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4DAD-305E-4DD4-9705-9E39EAB7F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D25-1F38-4292-A982-F98AC674EB0B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8f8f8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2771640" y="24181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f8f8f8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8f8f8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0:48Z</dcterms:modified>
  <cp:revision>18</cp:revision>
  <dc:subject/>
  <dc:title>上海诺睿网络信息科技有限公司</dc:title>
</cp:coreProperties>
</file>