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87E8-5D69-4E3C-BFE8-4385CC9E5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B34E-52B6-44CA-A678-81A578646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0961-D407-41A9-A41F-B82FA9C02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6EE1-3195-4134-960B-284379720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9B74-7936-460A-A918-0E9B6E246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F73A-29B5-4E26-B730-2555292774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0B51-ACBC-45E4-88D7-AC5EAE00C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9ED0-9619-4146-9CD4-F5FB87798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5CDF-6939-4D3B-B187-0976ACC88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120B-3707-49F8-87C2-ED6E666C9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638B-DDEA-4179-8856-B9FF1C661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D18C-877E-4C90-9083-667FABF8B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6B07-92FD-4552-AEE9-69B2F884D058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0" y="2276640"/>
            <a:ext cx="468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5640" y="2276640"/>
            <a:ext cx="35272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8f8f8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2771640" y="241812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f8f8f8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f8f8f8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02Z</dcterms:modified>
  <cp:revision>21</cp:revision>
  <dc:subject/>
  <dc:title>上海诺睿网络信息科技有限公司</dc:title>
</cp:coreProperties>
</file>