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283D-2CEE-499F-967B-22F25971E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19A3-9F53-4D53-B0B2-EECDC411B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EAF0-73E2-4BD3-B284-117B866F9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1A32-E59B-458F-910D-77897B5DE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631E-E513-4FCA-88BF-81ED121E1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DEB2-C0DD-486C-9F0F-59A5F5E27C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76F2-757B-4954-86F1-3ABCABAE5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CA52-EDDB-444D-AE87-DC4A49BD7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EEDB-C393-437E-A636-621E80F2F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B1113-C411-45C7-B7E4-D81FB05AC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352A-D0B0-4C43-905F-C5CA5CE81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E815-22C3-4CDC-A562-0236DAB88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524720" y="333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47640" y="627696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6132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0" y="6565680"/>
            <a:ext cx="914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B22B-83EE-4775-87DD-776A5A6BF355}" type="slidenum"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45164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80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2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4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4360" y="5516640"/>
            <a:ext cx="46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黑体"/>
              </a:rPr>
              <a:t>Nordri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黑体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5f5f5f"/>
                </a:solidFill>
                <a:latin typeface="黑体"/>
                <a:ea typeface="黑体"/>
              </a:rPr>
              <a:t>中国专业商务媒体（</a:t>
            </a:r>
            <a:r>
              <a:rPr b="0" lang="zh-CN" sz="1400" spc="-1" strike="noStrike">
                <a:solidFill>
                  <a:srgbClr val="5f5f5f"/>
                </a:solidFill>
                <a:latin typeface="黑体"/>
                <a:ea typeface="黑体"/>
              </a:rPr>
              <a:t>PPT</a:t>
            </a:r>
            <a:r>
              <a:rPr b="0" lang="zh-CN" sz="1400" spc="-1" strike="noStrike">
                <a:solidFill>
                  <a:srgbClr val="5f5f5f"/>
                </a:solidFill>
                <a:latin typeface="黑体"/>
                <a:ea typeface="黑体"/>
              </a:rPr>
              <a:t>）设计开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640" y="4724280"/>
            <a:ext cx="35272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2771640" y="486828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5f5f5f">
                        <a:alpha val="20000"/>
                      </a:srgbClr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5f5f5f">
                      <a:alpha val="20000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58920" y="2781360"/>
            <a:ext cx="21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89892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dddddd">
                        <a:alpha val="0"/>
                      </a:srgbClr>
                    </a:gs>
                    <a:gs pos="100000">
                      <a:srgbClr val="808080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dddddd">
                      <a:alpha val="0"/>
                    </a:srgbClr>
                  </a:gs>
                  <a:gs pos="100000">
                    <a:srgbClr val="808080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3108240"/>
            <a:ext cx="266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Verdana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小田</cp:lastModifiedBy>
  <dcterms:modified xsi:type="dcterms:W3CDTF">2008-08-11T08:41:15Z</dcterms:modified>
  <cp:revision>22</cp:revision>
  <dc:subject/>
  <dc:title>上海诺睿网络信息科技有限公司</dc:title>
</cp:coreProperties>
</file>