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C73F-C37C-46D0-95E5-E744F064F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8152-0944-4F26-A7B7-10EE7BFC9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1E99-A711-4A6A-A730-A5B002623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CCAA-E576-463E-A1B9-8780C2A96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8783-7798-4BD9-811B-563B563FC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37CC-4F53-43FC-BED7-6D722081C5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0F51-FCF6-4904-A48A-735A10FBF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2154-5794-425D-843D-53C9C5856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446D-91F9-4E0E-A4BE-E6E30A10E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409-8F9C-4E18-8F49-57C9336F6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C70F-70C8-4DC7-992E-87EE635EA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4441-1365-4557-BF5C-C41BC72C9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8944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881-D78B-4FEF-A13B-AACADC0DEBF4}" type="slidenum"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1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3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2771640" y="24199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26Z</dcterms:modified>
  <cp:revision>19</cp:revision>
  <dc:subject/>
  <dc:title>上海诺睿网络信息科技有限公司</dc:title>
</cp:coreProperties>
</file>