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BE43-3F28-40C0-9BDA-DB2C85E70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9744-1156-4E83-96F3-BC8DEA476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D559-FB05-445D-AF12-3EB6EEBA7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0A70-FEEA-4CE3-9139-505F8F15B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3D7A-E7F9-4C1B-975E-2AA765A54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7D2E-633D-45D8-924F-05D4F44E94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CE34-3C0F-4995-AF00-7F430BDE1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6325-0D89-424C-8E62-B1E532C92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A19B-4A39-469A-BC09-4AD4D73D3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3296-2510-4264-A0B0-A25D76AD9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F227-29CD-4397-BFF3-C397C4F18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D915-667C-4612-A095-DAF0D1FEA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368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9640" y="549360"/>
            <a:ext cx="80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6545160"/>
            <a:ext cx="914400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5B22-8868-4229-9000-F1566677472D}" type="slidenum">
              <a:rPr b="1" lang="zh-CN" sz="12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28480" y="59500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8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0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0" y="1486080"/>
            <a:ext cx="45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5640" y="1484280"/>
            <a:ext cx="35272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2771640" y="162756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5f5f5f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5f5f5f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615600"/>
            <a:ext cx="806472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58920" y="249228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898920" y="256284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>
                        <a:alpha val="0"/>
                      </a:srgbClr>
                    </a:gs>
                    <a:gs pos="100000">
                      <a:srgbClr val="808080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808080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2819520"/>
            <a:ext cx="2663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1:38Z</dcterms:modified>
  <cp:revision>19</cp:revision>
  <dc:subject/>
  <dc:title>上海诺睿网络信息科技有限公司</dc:title>
</cp:coreProperties>
</file>