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3411360"/>
            <a:ext cx="9144000" cy="34466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796160" y="5013360"/>
            <a:ext cx="1166760" cy="129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9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1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03640" y="1685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5280" y="23493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8:34Z</dcterms:modified>
  <cp:revision>56</cp:revision>
  <dc:subject/>
  <dc:title>PowerPoint Template</dc:title>
</cp:coreProperties>
</file>