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66760" cy="129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 rot="3915000">
            <a:off x="8210880" y="366480"/>
            <a:ext cx="771480" cy="7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03640" y="168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3:39Z</dcterms:modified>
  <cp:revision>57</cp:revision>
  <dc:subject/>
  <dc:title>PowerPoint Template</dc:title>
</cp:coreProperties>
</file>