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276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940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2925720"/>
            <a:ext cx="867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205000"/>
            <a:ext cx="867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6:10Z</dcterms:modified>
  <cp:revision>55</cp:revision>
  <dc:subject/>
  <dc:title>PowerPoint Template</dc:title>
</cp:coreProperties>
</file>