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9528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84360" y="5112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6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8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68360" y="184464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2508120"/>
            <a:ext cx="28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2854440"/>
            <a:ext cx="6659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133720"/>
            <a:ext cx="665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54:54Z</dcterms:modified>
  <cp:revision>56</cp:revision>
  <dc:subject/>
  <dc:title>PowerPoint Template</dc:title>
</cp:coreProperties>
</file>