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15040" y="4976640"/>
            <a:ext cx="1473480" cy="1486080"/>
            <a:chOff x="7115040" y="4976640"/>
            <a:chExt cx="1473480" cy="14860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124040" y="4991040"/>
              <a:ext cx="1356480" cy="13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117920" y="4976640"/>
              <a:ext cx="1428840" cy="142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7115040" y="4989960"/>
              <a:ext cx="1473480" cy="147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1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3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94200" y="5229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5840" y="589284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805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084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7:02:42Z</dcterms:modified>
  <cp:revision>56</cp:revision>
  <dc:subject/>
  <dc:title>PowerPoint Template</dc:title>
</cp:coreProperties>
</file>