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25360"/>
            <a:ext cx="8207280" cy="496764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7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94200" y="1268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2560" y="1932120"/>
            <a:ext cx="33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96848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477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7:47Z</dcterms:modified>
  <cp:revision>53</cp:revision>
  <dc:subject/>
  <dc:title>PowerPoint Template</dc:title>
</cp:coreProperties>
</file>