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2.png"/>
          <p:cNvPicPr/>
          <p:nvPr/>
        </p:nvPicPr>
        <p:blipFill>
          <a:blip r:embed="rId2"/>
          <a:stretch/>
        </p:blipFill>
        <p:spPr>
          <a:xfrm>
            <a:off x="0" y="5018040"/>
            <a:ext cx="9144000" cy="1839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71640" y="486900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5532480"/>
            <a:ext cx="281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05440" y="360360"/>
            <a:ext cx="2338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568840"/>
            <a:ext cx="752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848120"/>
            <a:ext cx="75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6:57Z</dcterms:modified>
  <cp:revision>56</cp:revision>
  <dc:subject/>
  <dc:title>PowerPoint Template</dc:title>
</cp:coreProperties>
</file>