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68360" y="6364440"/>
            <a:ext cx="8280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5108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347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22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2236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22360"/>
            <a:ext cx="758880" cy="730440"/>
            <a:chOff x="4211640" y="2322360"/>
            <a:chExt cx="758880" cy="73044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2236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481480"/>
              <a:ext cx="576000" cy="4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4308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3508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488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5108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510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3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29242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6920" y="358776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805440" y="6058080"/>
            <a:ext cx="23385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68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987640" y="3624120"/>
            <a:ext cx="6156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2903400"/>
            <a:ext cx="615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38:26Z</dcterms:modified>
  <cp:revision>54</cp:revision>
  <dc:subject/>
  <dc:title>PowerPoint Template</dc:title>
</cp:coreProperties>
</file>