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94200" y="42022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5840" y="48657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80544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08000" y="4870440"/>
            <a:ext cx="723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4149720"/>
            <a:ext cx="723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5:11Z</dcterms:modified>
  <cp:revision>56</cp:revision>
  <dc:subject/>
  <dc:title>PowerPoint Template</dc:title>
</cp:coreProperties>
</file>