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37162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43797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03640" y="4437000"/>
            <a:ext cx="579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3716280"/>
            <a:ext cx="579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7:56Z</dcterms:modified>
  <cp:revision>55</cp:revision>
  <dc:subject/>
  <dc:title>PowerPoint Template</dc:title>
</cp:coreProperties>
</file>