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7280" y="1341000"/>
            <a:ext cx="7139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9989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6624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139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64048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197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1:21Z</dcterms:modified>
  <cp:revision>57</cp:revision>
  <dc:subject/>
  <dc:title>PowerPoint Template</dc:title>
</cp:coreProperties>
</file>