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052640"/>
            <a:ext cx="8207280" cy="5040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76720" y="1989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2652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565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4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3:06Z</dcterms:modified>
  <cp:revision>55</cp:revision>
  <dc:subject/>
  <dc:title>PowerPoint Template</dc:title>
</cp:coreProperties>
</file>