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50133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567684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51280" y="5734080"/>
            <a:ext cx="482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5013360"/>
            <a:ext cx="48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5:25:48Z</dcterms:modified>
  <cp:revision>56</cp:revision>
  <dc:subject/>
  <dc:title>PowerPoint Template</dc:title>
</cp:coreProperties>
</file>