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2852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3516480"/>
            <a:ext cx="324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32000" y="3573360"/>
            <a:ext cx="6012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2852640"/>
            <a:ext cx="601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5:56Z</dcterms:modified>
  <cp:revision>55</cp:revision>
  <dc:subject/>
  <dc:title>PowerPoint Template</dc:title>
</cp:coreProperties>
</file>