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Click to edit the outline text format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1" marL="343080" indent="126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2" marL="343080" indent="12600">
              <a:spcBef>
                <a:spcPts val="499"/>
              </a:spcBef>
              <a:buClr>
                <a:srgbClr val="666699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3" marL="343080" indent="12600">
              <a:spcBef>
                <a:spcPts val="499"/>
              </a:spcBef>
              <a:buClr>
                <a:srgbClr val="1c1c1c"/>
              </a:buClr>
              <a:buFont typeface="黑体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4" marL="343080" indent="12600">
              <a:spcBef>
                <a:spcPts val="499"/>
              </a:spcBef>
              <a:buClr>
                <a:srgbClr val="1c1c1c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5" marL="343080" indent="12600">
              <a:spcBef>
                <a:spcPts val="499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6" marL="343080" indent="12600">
              <a:spcBef>
                <a:spcPts val="499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26920" y="36360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6699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111111"/>
              </a:solidFill>
              <a:latin typeface="黑体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黑体"/>
            </a:endParaRPr>
          </a:p>
          <a:p>
            <a:pPr lvl="2" marL="914400" indent="343080" algn="ctr">
              <a:spcBef>
                <a:spcPts val="400"/>
              </a:spcBef>
              <a:buClr>
                <a:srgbClr val="666699"/>
              </a:buClr>
              <a:buFont typeface="黑体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3" marL="1371600" indent="241200" algn="ctr">
              <a:spcBef>
                <a:spcPts val="400"/>
              </a:spcBef>
              <a:buClr>
                <a:srgbClr val="1c1c1c"/>
              </a:buClr>
              <a:buFont typeface="黑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4" marL="1828800" indent="139680" algn="ctr">
              <a:spcBef>
                <a:spcPts val="400"/>
              </a:spcBef>
              <a:buClr>
                <a:srgbClr val="1c1c1c"/>
              </a:buClr>
              <a:buFont typeface="黑体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5" marL="1828800" indent="139680">
              <a:spcBef>
                <a:spcPts val="400"/>
              </a:spcBef>
              <a:buClr>
                <a:srgbClr val="666699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6" marL="1828800" indent="139680">
              <a:spcBef>
                <a:spcPts val="400"/>
              </a:spcBef>
              <a:buClr>
                <a:srgbClr val="666699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99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666699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666699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666699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666699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666699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666699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94200" y="206064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5840" y="272412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6699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黑体"/>
              </a:rPr>
              <a:t>配色方案修改：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配色方案在【格式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幻灯片设计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配色方案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编辑配色方案】下调整。</a:t>
            </a: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黑体"/>
              </a:rPr>
              <a:t>LOGO</a:t>
            </a:r>
            <a:r>
              <a:rPr b="0" lang="zh-CN" sz="1600" spc="-1" strike="noStrike">
                <a:solidFill>
                  <a:srgbClr val="1c1c1c"/>
                </a:solidFill>
                <a:latin typeface="黑体"/>
              </a:rPr>
              <a:t>的添加：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Logo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添加修改在【视图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母版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幻灯片母版】下调整。直接选择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logo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图片删除或修改。</a:t>
            </a: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黑体"/>
              </a:rPr>
              <a:t>字体格式的设置：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母版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幻灯片母版】下调整。</a:t>
            </a: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356000" y="2997360"/>
            <a:ext cx="478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56000" y="2276640"/>
            <a:ext cx="478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53:32Z</dcterms:modified>
  <cp:revision>55</cp:revision>
  <dc:subject/>
  <dc:title>PowerPoint Template</dc:title>
</cp:coreProperties>
</file>