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1" marL="343080" indent="12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2" marL="343080" indent="12600">
              <a:spcBef>
                <a:spcPts val="400"/>
              </a:spcBef>
              <a:buClr>
                <a:srgbClr val="ffffff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3" marL="343080" indent="12600">
              <a:spcBef>
                <a:spcPts val="400"/>
              </a:spcBef>
              <a:buClr>
                <a:srgbClr val="ffffff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4" marL="343080" indent="12600">
              <a:spcBef>
                <a:spcPts val="400"/>
              </a:spcBef>
              <a:buClr>
                <a:srgbClr val="ffffff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5" marL="343080" indent="12600">
              <a:spcBef>
                <a:spcPts val="400"/>
              </a:spcBef>
              <a:buClr>
                <a:srgbClr val="ffffff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6" marL="343080" indent="12600">
              <a:spcBef>
                <a:spcPts val="400"/>
              </a:spcBef>
              <a:buClr>
                <a:srgbClr val="ffffff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11111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2" marL="914400" indent="343080" algn="ctr">
              <a:spcBef>
                <a:spcPts val="400"/>
              </a:spcBef>
              <a:buClr>
                <a:srgbClr val="ffffff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3" marL="1371600" indent="241200" algn="ctr">
              <a:spcBef>
                <a:spcPts val="400"/>
              </a:spcBef>
              <a:buClr>
                <a:srgbClr val="ffffff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4" marL="1828800" indent="139680" algn="ctr">
              <a:spcBef>
                <a:spcPts val="400"/>
              </a:spcBef>
              <a:buClr>
                <a:srgbClr val="ffffff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5" marL="1828800" indent="139680">
              <a:spcBef>
                <a:spcPts val="4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6" marL="1828800" indent="139680">
              <a:spcBef>
                <a:spcPts val="4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4581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2452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11111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【编辑配色方案】下调整。</a:t>
            </a:r>
            <a:endParaRPr b="1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</a:rPr>
              <a:t>【幻灯片母版】下调整。</a:t>
            </a:r>
            <a:endParaRPr b="1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72608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www.nordridesign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0053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1:21Z</dcterms:modified>
  <cp:revision>56</cp:revision>
  <dc:subject/>
  <dc:title>PowerPoint Template</dc:title>
</cp:coreProperties>
</file>