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481480"/>
              <a:ext cx="57600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24360" y="456732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52308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68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22936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508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39:04Z</dcterms:modified>
  <cp:revision>55</cp:revision>
  <dc:subject/>
  <dc:title>PowerPoint Template</dc:title>
</cp:coreProperties>
</file>