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57080" y="1773360"/>
            <a:ext cx="7273800" cy="4798800"/>
          </a:xfrm>
          <a:prstGeom prst="ellipse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6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8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03640" y="4292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5280" y="495612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487044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149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10:52Z</dcterms:modified>
  <cp:revision>56</cp:revision>
  <dc:subject/>
  <dc:title>PowerPoint Template</dc:title>
</cp:coreProperties>
</file>