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61754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56000" y="5357880"/>
            <a:ext cx="43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6021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1437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4230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5:15Z</dcterms:modified>
  <cp:revision>54</cp:revision>
  <dc:subject/>
  <dc:title>PowerPoint Template</dc:title>
</cp:coreProperties>
</file>