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536-12EB-4B19-A40C-1F07B187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BBD-D11C-4C5A-92E4-49D97E2C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A9AA9-9B67-44E0-8223-03918596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23658-5082-4FC6-9FAE-4E0D2A9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41AC-5AFF-4D5D-9E82-EA9421C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C588C-72A5-4277-8207-B1796EAD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24B84-B3DD-45AF-8DBE-AF03367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7567E-1F13-421E-BF7A-E4A775D2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B8228-8959-475D-90FA-8822C800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13B2D-9601-48E3-9BDD-02BC1835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9BF5E-CE15-4235-9971-86CAB705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3A463-956E-40A7-87BC-3DCFBF8A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1A2-3C98-40F4-AE0C-2D1ED306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3F465-C286-40DD-98C7-F5CA6E37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518C0-873F-4570-B329-13DA1C57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07E8B-A93A-4080-8EE7-DF5143B6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FFB64-6C67-4420-B63A-D1E63769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E326D-7934-4271-A4D6-34B329DE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BE86B-70E2-48EA-8524-C44010C5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1A6BE-B952-4327-9DDC-55941AFD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1A6D8-848C-4BF3-B410-4D82A3A2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60F0B-CFBB-4EFC-A478-0AD9B42D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FFA48-5AF6-4796-AE01-9FF0DBBA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3CD-BF66-4BA1-BA1E-6FD44E4E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F0013-DB00-41D0-BE36-D1C585E4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8F4C2-DDE6-4327-95BA-2C38E030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1483E-A9FA-46B3-99A3-A3C7C2A3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873CE-07B5-40C2-8728-9B7A2B3D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13D6E-843A-4ABC-8A17-89E133C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840C0-D31F-4130-9DD3-0ABDAC1C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7D76F-E3A7-4CB1-BF44-69FF785B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60BE9-5120-495D-A4C8-75A877A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D8E37-526B-42A7-9655-5C635E5C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3D76B-86F1-4FDF-A70C-3DA4DF4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27E0-9B2F-4B98-AAD5-A0389D35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2CA70-A066-4C0F-B1CE-90333280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36606-995D-4F51-AF54-EC7A8E83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B3880-0678-4779-BAAA-E5CFA2BF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C09E1-C7D0-4938-A37C-92B25622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940F8-B4A8-406B-99FE-F9FF4184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469FD-501A-45D1-8A6B-E68AB1AB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92C97-9D78-4F53-83A9-3F76D97C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30A01-E3CE-411C-B2C0-D1643B48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54A81-6BBC-4092-A080-47A27F7B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3EB97-7C5C-4238-8D38-F4E62F4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A7F5-D828-4332-A77C-1DD21D89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53E80-501D-4ED9-98BE-7A5D4404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8076D-8162-4407-BA74-A5B508A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38A3D-84BF-4CF4-9E1B-8F72F9F4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97E49-6CA6-46EE-94B2-01752E4E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CC7D6-628E-43D0-872A-0D20CDCB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88F7-0004-49AB-9DE3-5C246948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11CF-4779-4A1B-9613-EC7F31BA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CEDA-9B3C-479A-8BFB-CA909353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CA3B-D258-4F2E-95E3-7E08E098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4049-A538-4CE8-B7D8-D8BA001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0C8-D3D5-4126-81A3-CFBB26BD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7047-7BC7-46BC-ACE4-1A46DFFC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BADB-77BB-4F9E-8417-528AB4C2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4805-301E-47A7-B6C9-1266FAFA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FCFE-1198-4BF0-AC35-4710833D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9C0F-9DD6-4FCD-8179-41BD3013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B4C3-DEDF-405F-8D22-9B9BC62C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DC54-BD4D-4BCA-9724-EFDAB312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0949-24EE-42E5-85F5-A59D832D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5F99-CD38-403A-A666-5BB7756F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9F6F-2625-4C3E-9C70-412CBE69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390-8747-4BB3-9296-86851105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3451-07F4-460F-BBEA-EC85E80B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C31A-8D65-4E4E-982A-8B078977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07D0-A59F-4355-9CF7-64A5F89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C2AD-9CC1-40F9-9079-57766800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67A2-7B02-46DE-8073-DB4DC5FB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9BC8-ACB9-4593-82BD-6E14A475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2B88-4E77-447C-B74D-C0F00436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0FE3-5DB4-41AD-99BB-A36D974C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F5B4-5A36-42F6-BB37-F5A4BF4F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1783-3DD5-420C-885E-1E4448F5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D85-824F-4412-8799-61D908D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D079-8A54-4102-853C-06EBB8A5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1F9A9-E71D-4F8D-BB04-6DBC249E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29A69-B083-464B-8AA8-F1270E57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15E4-1C07-48B2-AD20-83C51DAA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C256-A768-46F5-9A25-01D06E2C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16C8-E637-4DFA-86A6-9DF723A2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6C7BA-2228-4616-B64E-CDA967D2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B6D5A-C39D-47A6-A222-09D558A9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70047-0164-4AFF-8AA5-675C95D1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F231-D497-44F6-B5C5-62563069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157-A51B-484B-9CA8-6E9F2221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D4158-E25F-4CD4-B62C-BC8CA4B8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781A-54FD-46E1-9DB8-EDC3E45E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FAF7-457F-4A54-86E0-CB979959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934A7-05C6-49DA-A511-1A00D285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CE021-A20D-4EA3-B6A9-8343643E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4EE2-ECEF-4C02-99DB-5491DC99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1C93-F9E2-429A-B849-880DDFF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3AD7-34DD-49EE-AA3A-8B67E30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0D21D-A724-45E1-A7AA-016618B6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2FAA-BB3F-4050-B256-8D525B15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A01-BD46-4C3F-9750-71BD6A0E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17594-B65A-4F67-88A0-3EFD2CA5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40A2B-2CEC-4DAD-AAA5-35158611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C67D-411F-4E34-82F0-6CEF4D37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2DFC7-F8F6-4346-B534-922ED1FF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5EB06-C005-48B6-8EFD-7786DF5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85F8-FDC7-453E-9D44-4A6B1D62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FD15-E082-48BD-B20B-966137F3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8637-2A46-4004-8551-29CC7DA1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8C18-4932-4BB5-84D8-6CE10F1F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3EFAA-EB5C-455C-B8A3-73CF07A7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8E5-9561-41E7-BF4C-A4953899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16F58-F306-4145-A2F6-BA742AEF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A7A77-4061-4422-BE61-39AE18AA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13980-9ACD-4FC4-B1E2-B65940AE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9D34E-E035-4B0E-99B3-FD4DC2E6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7C962-7255-49AE-AB49-85552DB5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9EAF-0C89-4985-B906-45BCA251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34272-A4F7-4ED8-BFCD-E96513B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98364-0CF7-48CD-8E1C-676F14CB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E91C-FA4F-41D6-8D2F-08D79BD8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98CBD-BA3E-41E6-A52E-874DCAAE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053-C4E0-4945-8DC8-C6F888A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89AF-D4CB-43C2-B6DF-3452BBD5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3E44F-55B8-4B33-9E8E-84CB2676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4F8E7-C58E-49E5-8BAB-CE7713B0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D884E-9B2A-4462-B987-A81014F3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1FED7-E81F-4FF8-8583-653540E7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57087-B0ED-4A19-ACFA-0B1A966A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BC7C2-21C8-41D0-8932-4FCC9EF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AC135-BC6F-47D8-A352-BB2B694C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C7053-DCE3-4DE3-977B-1D0E952B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45F5E-857F-4142-A73C-173C3133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593-C0E8-49AC-9C4F-F23BD03B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B0B55-93CA-45AD-B111-C8EDD85A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7CFB7-B7B8-46F1-A6AB-06FB3935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0689A-EB51-4F39-8227-19124C50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4A939-015D-4BEE-91BC-C566353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EC590-C037-432A-9F0C-0DF0CFA5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72744-EB2A-4CAD-BB26-1D4924F5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2C434-D2EF-4861-8764-0223470E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8678A-3521-40C1-BEF6-B5B4CA9C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305B5-504E-4291-A6D4-D5082F50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707A1-55B5-4885-8F5B-FAC3B929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4062-3D6C-4199-ABC0-0E0EC952F1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8C5E-8E19-4C28-98DC-E04DFD450F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051F-966B-438C-962E-F92059D4B8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C941-A681-4D27-85CB-28FAFE94C8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C64A-970D-4E32-9BB4-17DB552BE2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1B8C-F04F-4C9C-86F0-6CD69C486F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0D9E-10B5-4A0F-A25A-768C083DC8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7950-0E38-4EDB-8CB6-00C1DFE5B2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A46D-1619-4C3C-9221-ECC0DC07E42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9E0A-76F0-4D1C-B909-109BBCF3FE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3435-EFCA-4113-AA47-2B72FB5B3F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8BD9-6472-42E8-B674-968726BA8E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C8A8-E822-4BD0-A1F8-C22F0E004A5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79D2-FF7D-4742-8383-853FB47311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2BBD-B317-4A4A-98AF-548CE84275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B118-3B94-4DD2-80E2-3F91D14358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4347-0C13-484C-9859-2DBFBB8F3A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5B8F-A91F-48F6-9F68-BD952BFD79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022E-7271-4232-8BBC-7186DF844B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F6F3-CB37-4B19-8AAE-EF3FC79FEC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9AB-D53A-4C87-9345-CD392E3819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4DBF-FABC-4254-A533-6F4EF2DFB8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E7FA-416D-4F88-BF92-7F27E0169C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CC00-DB61-4CBF-9A48-084732CCF4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jpeg"/><Relationship Id="rId3" Type="http://schemas.openxmlformats.org/officeDocument/2006/relationships/image" Target="../media/image29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241200" y="393840"/>
            <a:ext cx="3619440" cy="5778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0" y="6464160"/>
            <a:ext cx="9144000" cy="39384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12"/>
          <p:cNvSpPr/>
          <p:nvPr/>
        </p:nvSpPr>
        <p:spPr>
          <a:xfrm>
            <a:off x="3860640" y="1663560"/>
            <a:ext cx="484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c7c7c"/>
                </a:solidFill>
                <a:latin typeface="微软雅黑"/>
                <a:ea typeface="微软雅黑"/>
              </a:rPr>
              <a:t>我</a:t>
            </a:r>
            <a:r>
              <a:rPr b="1" lang="zh-CN" sz="4400" spc="-1" strike="noStrike">
                <a:solidFill>
                  <a:srgbClr val="7c7c7c"/>
                </a:solidFill>
                <a:latin typeface="微软雅黑"/>
                <a:ea typeface="微软雅黑"/>
              </a:rPr>
              <a:t>为什么要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c7c7c"/>
                </a:solidFill>
                <a:latin typeface="微软雅黑"/>
                <a:ea typeface="微软雅黑"/>
              </a:rPr>
              <a:t>宣传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"/>
          <p:cNvGrpSpPr/>
          <p:nvPr/>
        </p:nvGrpSpPr>
        <p:grpSpPr>
          <a:xfrm>
            <a:off x="3860640" y="4141800"/>
            <a:ext cx="4497480" cy="399960"/>
            <a:chOff x="3860640" y="4141800"/>
            <a:chExt cx="4497480" cy="399960"/>
          </a:xfrm>
        </p:grpSpPr>
        <p:sp>
          <p:nvSpPr>
            <p:cNvPr id="496" name="Freeform 3"/>
            <p:cNvSpPr/>
            <p:nvPr/>
          </p:nvSpPr>
          <p:spPr>
            <a:xfrm>
              <a:off x="3860640" y="4141800"/>
              <a:ext cx="4464720" cy="39996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4464558" h="400113">
                  <a:moveTo>
                    <a:pt x="0" y="400113"/>
                  </a:moveTo>
                  <a:lnTo>
                    <a:pt x="4464558" y="400113"/>
                  </a:lnTo>
                  <a:lnTo>
                    <a:pt x="4464558" y="0"/>
                  </a:lnTo>
                  <a:lnTo>
                    <a:pt x="0" y="0"/>
                  </a:lnTo>
                  <a:lnTo>
                    <a:pt x="0" y="400113"/>
                  </a:lnTo>
                </a:path>
              </a:pathLst>
            </a:custGeom>
            <a:solidFill>
              <a:srgbClr val="ffc000"/>
            </a:solidFill>
            <a:ln w="1260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文本框 15"/>
            <p:cNvSpPr/>
            <p:nvPr/>
          </p:nvSpPr>
          <p:spPr>
            <a:xfrm>
              <a:off x="3991320" y="4172400"/>
              <a:ext cx="4366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矩形 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"/>
          <p:cNvSpPr/>
          <p:nvPr/>
        </p:nvSpPr>
        <p:spPr>
          <a:xfrm>
            <a:off x="1197000" y="2459160"/>
            <a:ext cx="675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7c7c7c"/>
                </a:solidFill>
                <a:latin typeface="微软雅黑"/>
                <a:ea typeface="微软雅黑"/>
              </a:rPr>
              <a:t>总 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"/>
          <p:cNvSpPr/>
          <p:nvPr/>
        </p:nvSpPr>
        <p:spPr>
          <a:xfrm>
            <a:off x="0" y="0"/>
            <a:ext cx="9144000" cy="615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15960"/>
              <a:gd name="textAreaBottom" fmla="*/ 615960 h 615960"/>
            </a:gdLst>
            <a:ahLst/>
            <a:rect l="textAreaLeft" t="textAreaTop" r="textAreaRight" b="textAreaBottom"/>
            <a:pathLst>
              <a:path w="9144000" h="616191">
                <a:moveTo>
                  <a:pt x="0" y="616191"/>
                </a:moveTo>
                <a:lnTo>
                  <a:pt x="9144000" y="616191"/>
                </a:lnTo>
                <a:lnTo>
                  <a:pt x="9144000" y="0"/>
                </a:lnTo>
                <a:lnTo>
                  <a:pt x="0" y="0"/>
                </a:lnTo>
                <a:lnTo>
                  <a:pt x="0" y="616191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3670560" cy="558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"/>
          <p:cNvPicPr/>
          <p:nvPr/>
        </p:nvPicPr>
        <p:blipFill>
          <a:blip r:embed="rId2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578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7"/>
          <p:cNvGrpSpPr/>
          <p:nvPr/>
        </p:nvGrpSpPr>
        <p:grpSpPr>
          <a:xfrm>
            <a:off x="0" y="1068480"/>
            <a:ext cx="9144000" cy="5164200"/>
            <a:chOff x="0" y="1068480"/>
            <a:chExt cx="9144000" cy="5164200"/>
          </a:xfrm>
        </p:grpSpPr>
        <p:pic>
          <p:nvPicPr>
            <p:cNvPr id="580" name="图片 12" descr=""/>
            <p:cNvPicPr/>
            <p:nvPr/>
          </p:nvPicPr>
          <p:blipFill>
            <a:blip r:embed="rId3"/>
            <a:srcRect l="0" t="7898" r="0" b="11416"/>
            <a:stretch/>
          </p:blipFill>
          <p:spPr>
            <a:xfrm>
              <a:off x="0" y="1068480"/>
              <a:ext cx="914400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文本框 14"/>
            <p:cNvSpPr/>
            <p:nvPr/>
          </p:nvSpPr>
          <p:spPr>
            <a:xfrm>
              <a:off x="1957320" y="1338840"/>
              <a:ext cx="5563800" cy="1557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bc0000"/>
                  </a:solidFill>
                  <a:latin typeface="微软雅黑"/>
                  <a:ea typeface="微软雅黑"/>
                </a:rPr>
                <a:t>宣传部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0" y="0"/>
            <a:ext cx="9144000" cy="615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15960"/>
              <a:gd name="textAreaBottom" fmla="*/ 615960 h 615960"/>
            </a:gdLst>
            <a:ahLst/>
            <a:rect l="textAreaLeft" t="textAreaTop" r="textAreaRight" b="textAreaBottom"/>
            <a:pathLst>
              <a:path w="9144000" h="616191">
                <a:moveTo>
                  <a:pt x="0" y="616191"/>
                </a:moveTo>
                <a:lnTo>
                  <a:pt x="9144000" y="616191"/>
                </a:lnTo>
                <a:lnTo>
                  <a:pt x="9144000" y="0"/>
                </a:lnTo>
                <a:lnTo>
                  <a:pt x="0" y="0"/>
                </a:lnTo>
                <a:lnTo>
                  <a:pt x="0" y="616191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"/>
          <p:cNvSpPr/>
          <p:nvPr/>
        </p:nvSpPr>
        <p:spPr>
          <a:xfrm>
            <a:off x="0" y="0"/>
            <a:ext cx="9144000" cy="1123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9144000" h="1124750">
                <a:moveTo>
                  <a:pt x="0" y="1124750"/>
                </a:moveTo>
                <a:lnTo>
                  <a:pt x="9144000" y="1124750"/>
                </a:lnTo>
                <a:lnTo>
                  <a:pt x="9144000" y="0"/>
                </a:lnTo>
                <a:lnTo>
                  <a:pt x="0" y="0"/>
                </a:lnTo>
                <a:lnTo>
                  <a:pt x="0" y="112475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"/>
          <p:cNvPicPr/>
          <p:nvPr/>
        </p:nvPicPr>
        <p:blipFill>
          <a:blip r:embed="rId1"/>
          <a:stretch/>
        </p:blipFill>
        <p:spPr>
          <a:xfrm>
            <a:off x="476280" y="630360"/>
            <a:ext cx="8191440" cy="5491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2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6" descr=""/>
          <p:cNvPicPr/>
          <p:nvPr/>
        </p:nvPicPr>
        <p:blipFill>
          <a:blip r:embed="rId3"/>
          <a:stretch/>
        </p:blipFill>
        <p:spPr>
          <a:xfrm rot="20449200">
            <a:off x="7242120" y="2285640"/>
            <a:ext cx="1328760" cy="1327320"/>
          </a:xfrm>
          <a:prstGeom prst="rect">
            <a:avLst/>
          </a:prstGeom>
          <a:ln w="0">
            <a:noFill/>
          </a:ln>
        </p:spPr>
      </p:pic>
      <p:sp>
        <p:nvSpPr>
          <p:cNvPr id="589" name="Freeform 3"/>
          <p:cNvSpPr/>
          <p:nvPr/>
        </p:nvSpPr>
        <p:spPr>
          <a:xfrm>
            <a:off x="0" y="0"/>
            <a:ext cx="9144000" cy="615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15960"/>
              <a:gd name="textAreaBottom" fmla="*/ 615960 h 615960"/>
            </a:gdLst>
            <a:ahLst/>
            <a:rect l="textAreaLeft" t="textAreaTop" r="textAreaRight" b="textAreaBottom"/>
            <a:pathLst>
              <a:path w="9144000" h="616191">
                <a:moveTo>
                  <a:pt x="0" y="616191"/>
                </a:moveTo>
                <a:lnTo>
                  <a:pt x="9144000" y="616191"/>
                </a:lnTo>
                <a:lnTo>
                  <a:pt x="9144000" y="0"/>
                </a:lnTo>
                <a:lnTo>
                  <a:pt x="0" y="0"/>
                </a:lnTo>
                <a:lnTo>
                  <a:pt x="0" y="616191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4"/>
          <a:stretch/>
        </p:blipFill>
        <p:spPr>
          <a:xfrm>
            <a:off x="291960" y="38160"/>
            <a:ext cx="3670560" cy="55872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8"/>
          <p:cNvSpPr/>
          <p:nvPr/>
        </p:nvSpPr>
        <p:spPr>
          <a:xfrm>
            <a:off x="1108080" y="25560"/>
            <a:ext cx="263988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有前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文本框 1"/>
          <p:cNvSpPr/>
          <p:nvPr/>
        </p:nvSpPr>
        <p:spPr>
          <a:xfrm>
            <a:off x="1197000" y="2459160"/>
            <a:ext cx="675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c7c7c"/>
                </a:solidFill>
                <a:latin typeface="微软雅黑"/>
                <a:ea typeface="微软雅黑"/>
              </a:rPr>
              <a:t>这就是</a:t>
            </a:r>
            <a:r>
              <a:rPr b="1" lang="zh-CN" sz="9600" spc="-1" strike="noStrike">
                <a:solidFill>
                  <a:srgbClr val="fec101"/>
                </a:solidFill>
                <a:latin typeface="微软雅黑"/>
                <a:ea typeface="微软雅黑"/>
              </a:rPr>
              <a:t>原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1"/>
          <p:cNvSpPr/>
          <p:nvPr/>
        </p:nvSpPr>
        <p:spPr>
          <a:xfrm>
            <a:off x="1197000" y="2459160"/>
            <a:ext cx="675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c7c7c"/>
                </a:solidFill>
                <a:latin typeface="微软雅黑"/>
                <a:ea typeface="微软雅黑"/>
              </a:rPr>
              <a:t>这就是</a:t>
            </a:r>
            <a:r>
              <a:rPr b="1" lang="zh-CN" sz="9600" spc="-1" strike="noStrike">
                <a:solidFill>
                  <a:srgbClr val="fec101"/>
                </a:solidFill>
                <a:latin typeface="微软雅黑"/>
                <a:ea typeface="微软雅黑"/>
              </a:rPr>
              <a:t>结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"/>
          <p:cNvSpPr/>
          <p:nvPr/>
        </p:nvSpPr>
        <p:spPr>
          <a:xfrm>
            <a:off x="0" y="0"/>
            <a:ext cx="9144000" cy="615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15960"/>
              <a:gd name="textAreaBottom" fmla="*/ 615960 h 615960"/>
            </a:gdLst>
            <a:ahLst/>
            <a:rect l="textAreaLeft" t="textAreaTop" r="textAreaRight" b="textAreaBottom"/>
            <a:pathLst>
              <a:path w="9144000" h="616191">
                <a:moveTo>
                  <a:pt x="0" y="616191"/>
                </a:moveTo>
                <a:lnTo>
                  <a:pt x="9144000" y="616191"/>
                </a:lnTo>
                <a:lnTo>
                  <a:pt x="9144000" y="0"/>
                </a:lnTo>
                <a:lnTo>
                  <a:pt x="0" y="0"/>
                </a:lnTo>
                <a:lnTo>
                  <a:pt x="0" y="616191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"/>
          <p:cNvSpPr/>
          <p:nvPr/>
        </p:nvSpPr>
        <p:spPr>
          <a:xfrm>
            <a:off x="0" y="0"/>
            <a:ext cx="9144000" cy="1123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9144000" h="1124750">
                <a:moveTo>
                  <a:pt x="0" y="1124750"/>
                </a:moveTo>
                <a:lnTo>
                  <a:pt x="9144000" y="1124750"/>
                </a:lnTo>
                <a:lnTo>
                  <a:pt x="9144000" y="0"/>
                </a:lnTo>
                <a:lnTo>
                  <a:pt x="0" y="0"/>
                </a:lnTo>
                <a:lnTo>
                  <a:pt x="0" y="112475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>
            <a:off x="1432080" y="2654280"/>
            <a:ext cx="6624360" cy="1428840"/>
          </a:xfrm>
          <a:custGeom>
            <a:avLst/>
            <a:gdLst>
              <a:gd name="textAreaLeft" fmla="*/ 0 w 6624360"/>
              <a:gd name="textAreaRight" fmla="*/ 6624720 w 662436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6624193" h="1428750">
                <a:moveTo>
                  <a:pt x="28575" y="28575"/>
                </a:moveTo>
                <a:cubicBezTo>
                  <a:pt x="121411" y="51816"/>
                  <a:pt x="133477" y="56642"/>
                  <a:pt x="264033" y="70104"/>
                </a:cubicBezTo>
                <a:cubicBezTo>
                  <a:pt x="337693" y="77724"/>
                  <a:pt x="411861" y="79375"/>
                  <a:pt x="485775" y="83947"/>
                </a:cubicBezTo>
                <a:lnTo>
                  <a:pt x="554990" y="97790"/>
                </a:lnTo>
                <a:cubicBezTo>
                  <a:pt x="582675" y="102870"/>
                  <a:pt x="610615" y="106172"/>
                  <a:pt x="638175" y="111633"/>
                </a:cubicBezTo>
                <a:cubicBezTo>
                  <a:pt x="656843" y="115443"/>
                  <a:pt x="675259" y="120269"/>
                  <a:pt x="693546" y="125476"/>
                </a:cubicBezTo>
                <a:cubicBezTo>
                  <a:pt x="707516" y="129540"/>
                  <a:pt x="720852" y="136144"/>
                  <a:pt x="735075" y="139319"/>
                </a:cubicBezTo>
                <a:cubicBezTo>
                  <a:pt x="795400" y="152780"/>
                  <a:pt x="854456" y="156083"/>
                  <a:pt x="915162" y="167132"/>
                </a:cubicBezTo>
                <a:cubicBezTo>
                  <a:pt x="988313" y="180340"/>
                  <a:pt x="961390" y="182499"/>
                  <a:pt x="1039875" y="208661"/>
                </a:cubicBezTo>
                <a:cubicBezTo>
                  <a:pt x="1071753" y="219329"/>
                  <a:pt x="1104391" y="227838"/>
                  <a:pt x="1136903" y="236347"/>
                </a:cubicBezTo>
                <a:cubicBezTo>
                  <a:pt x="1147063" y="239014"/>
                  <a:pt x="1359281" y="289941"/>
                  <a:pt x="1400175" y="305689"/>
                </a:cubicBezTo>
                <a:cubicBezTo>
                  <a:pt x="1429003" y="316738"/>
                  <a:pt x="1454658" y="335280"/>
                  <a:pt x="1483233" y="347218"/>
                </a:cubicBezTo>
                <a:cubicBezTo>
                  <a:pt x="1510156" y="358394"/>
                  <a:pt x="1539240" y="364108"/>
                  <a:pt x="1566418" y="374904"/>
                </a:cubicBezTo>
                <a:cubicBezTo>
                  <a:pt x="1585594" y="382524"/>
                  <a:pt x="1602612" y="394970"/>
                  <a:pt x="1621790" y="402590"/>
                </a:cubicBezTo>
                <a:cubicBezTo>
                  <a:pt x="1648968" y="413512"/>
                  <a:pt x="1678431" y="418083"/>
                  <a:pt x="1704975" y="430276"/>
                </a:cubicBezTo>
                <a:cubicBezTo>
                  <a:pt x="1738756" y="445897"/>
                  <a:pt x="1767840" y="470789"/>
                  <a:pt x="1801875" y="485775"/>
                </a:cubicBezTo>
                <a:cubicBezTo>
                  <a:pt x="2027936" y="584708"/>
                  <a:pt x="1831720" y="472948"/>
                  <a:pt x="2023618" y="568833"/>
                </a:cubicBezTo>
                <a:cubicBezTo>
                  <a:pt x="2047620" y="580898"/>
                  <a:pt x="2068702" y="598424"/>
                  <a:pt x="2092832" y="610488"/>
                </a:cubicBezTo>
                <a:cubicBezTo>
                  <a:pt x="2115057" y="621538"/>
                  <a:pt x="2140331" y="626237"/>
                  <a:pt x="2162175" y="638175"/>
                </a:cubicBezTo>
                <a:cubicBezTo>
                  <a:pt x="2191384" y="654050"/>
                  <a:pt x="2216150" y="677418"/>
                  <a:pt x="2245232" y="693547"/>
                </a:cubicBezTo>
                <a:cubicBezTo>
                  <a:pt x="2258059" y="700658"/>
                  <a:pt x="2273426" y="701675"/>
                  <a:pt x="2286762" y="707389"/>
                </a:cubicBezTo>
                <a:cubicBezTo>
                  <a:pt x="2305812" y="715518"/>
                  <a:pt x="2323464" y="726567"/>
                  <a:pt x="2342261" y="735076"/>
                </a:cubicBezTo>
                <a:cubicBezTo>
                  <a:pt x="2374264" y="749681"/>
                  <a:pt x="2407284" y="762000"/>
                  <a:pt x="2439162" y="776732"/>
                </a:cubicBezTo>
                <a:cubicBezTo>
                  <a:pt x="2467356" y="789686"/>
                  <a:pt x="2493899" y="806069"/>
                  <a:pt x="2522346" y="818261"/>
                </a:cubicBezTo>
                <a:cubicBezTo>
                  <a:pt x="2672969" y="882776"/>
                  <a:pt x="2584322" y="842391"/>
                  <a:pt x="2688589" y="873632"/>
                </a:cubicBezTo>
                <a:cubicBezTo>
                  <a:pt x="2716530" y="882014"/>
                  <a:pt x="2771775" y="901319"/>
                  <a:pt x="2771775" y="901319"/>
                </a:cubicBezTo>
                <a:cubicBezTo>
                  <a:pt x="2855595" y="985266"/>
                  <a:pt x="2811780" y="956056"/>
                  <a:pt x="2896362" y="998347"/>
                </a:cubicBezTo>
                <a:cubicBezTo>
                  <a:pt x="2910205" y="1016888"/>
                  <a:pt x="2921634" y="1037463"/>
                  <a:pt x="2938018" y="1053719"/>
                </a:cubicBezTo>
                <a:cubicBezTo>
                  <a:pt x="2949701" y="1065530"/>
                  <a:pt x="2967736" y="1069720"/>
                  <a:pt x="2979546" y="1081532"/>
                </a:cubicBezTo>
                <a:cubicBezTo>
                  <a:pt x="2991357" y="1093216"/>
                  <a:pt x="2997581" y="1109472"/>
                  <a:pt x="3007232" y="1123061"/>
                </a:cubicBezTo>
                <a:cubicBezTo>
                  <a:pt x="3017646" y="1137666"/>
                  <a:pt x="3065652" y="1198244"/>
                  <a:pt x="3076575" y="1220088"/>
                </a:cubicBezTo>
                <a:cubicBezTo>
                  <a:pt x="3083051" y="1233043"/>
                  <a:pt x="3084576" y="1248156"/>
                  <a:pt x="3090418" y="1261618"/>
                </a:cubicBezTo>
                <a:cubicBezTo>
                  <a:pt x="3098545" y="1280541"/>
                  <a:pt x="3110357" y="1297813"/>
                  <a:pt x="3118103" y="1316989"/>
                </a:cubicBezTo>
                <a:cubicBezTo>
                  <a:pt x="3128899" y="1344168"/>
                  <a:pt x="3145789" y="1400175"/>
                  <a:pt x="3145789" y="1400175"/>
                </a:cubicBezTo>
                <a:cubicBezTo>
                  <a:pt x="3168903" y="1395476"/>
                  <a:pt x="3194557" y="1398016"/>
                  <a:pt x="3215005" y="1386332"/>
                </a:cubicBezTo>
                <a:cubicBezTo>
                  <a:pt x="3229482" y="1378076"/>
                  <a:pt x="3231895" y="1357376"/>
                  <a:pt x="3242818" y="1344676"/>
                </a:cubicBezTo>
                <a:cubicBezTo>
                  <a:pt x="3259708" y="1324863"/>
                  <a:pt x="3281171" y="1309116"/>
                  <a:pt x="3298189" y="1289304"/>
                </a:cubicBezTo>
                <a:cubicBezTo>
                  <a:pt x="3359403" y="1217930"/>
                  <a:pt x="3282569" y="1267332"/>
                  <a:pt x="3395218" y="1192276"/>
                </a:cubicBezTo>
                <a:cubicBezTo>
                  <a:pt x="3412363" y="1180845"/>
                  <a:pt x="3432556" y="1174623"/>
                  <a:pt x="3450589" y="1164589"/>
                </a:cubicBezTo>
                <a:cubicBezTo>
                  <a:pt x="3650869" y="1053338"/>
                  <a:pt x="3393566" y="1185544"/>
                  <a:pt x="3589146" y="1095375"/>
                </a:cubicBezTo>
                <a:cubicBezTo>
                  <a:pt x="3678301" y="1054226"/>
                  <a:pt x="3673094" y="1045591"/>
                  <a:pt x="3741546" y="1026032"/>
                </a:cubicBezTo>
                <a:cubicBezTo>
                  <a:pt x="3759834" y="1020826"/>
                  <a:pt x="3778250" y="1016000"/>
                  <a:pt x="3796919" y="1012189"/>
                </a:cubicBezTo>
                <a:cubicBezTo>
                  <a:pt x="3848100" y="1002030"/>
                  <a:pt x="3887215" y="1000632"/>
                  <a:pt x="3935476" y="984504"/>
                </a:cubicBezTo>
                <a:cubicBezTo>
                  <a:pt x="4131056" y="919352"/>
                  <a:pt x="3841622" y="1007618"/>
                  <a:pt x="4101719" y="887476"/>
                </a:cubicBezTo>
                <a:cubicBezTo>
                  <a:pt x="4127245" y="875792"/>
                  <a:pt x="4157471" y="879729"/>
                  <a:pt x="4184903" y="873632"/>
                </a:cubicBezTo>
                <a:cubicBezTo>
                  <a:pt x="4199127" y="870457"/>
                  <a:pt x="4212082" y="862711"/>
                  <a:pt x="4226432" y="859789"/>
                </a:cubicBezTo>
                <a:cubicBezTo>
                  <a:pt x="4258437" y="853439"/>
                  <a:pt x="4291076" y="850519"/>
                  <a:pt x="4323461" y="845947"/>
                </a:cubicBezTo>
                <a:cubicBezTo>
                  <a:pt x="4346575" y="836676"/>
                  <a:pt x="4369053" y="826135"/>
                  <a:pt x="4392676" y="818261"/>
                </a:cubicBezTo>
                <a:cubicBezTo>
                  <a:pt x="4410709" y="812164"/>
                  <a:pt x="4430268" y="811022"/>
                  <a:pt x="4448175" y="804418"/>
                </a:cubicBezTo>
                <a:cubicBezTo>
                  <a:pt x="4545330" y="767969"/>
                  <a:pt x="4464684" y="789177"/>
                  <a:pt x="4545076" y="748919"/>
                </a:cubicBezTo>
                <a:cubicBezTo>
                  <a:pt x="4558157" y="742442"/>
                  <a:pt x="4573270" y="740918"/>
                  <a:pt x="4586605" y="735076"/>
                </a:cubicBezTo>
                <a:cubicBezTo>
                  <a:pt x="4605655" y="726948"/>
                  <a:pt x="4622926" y="715137"/>
                  <a:pt x="4642103" y="707389"/>
                </a:cubicBezTo>
                <a:cubicBezTo>
                  <a:pt x="4798695" y="644779"/>
                  <a:pt x="4655312" y="707644"/>
                  <a:pt x="4794503" y="665861"/>
                </a:cubicBezTo>
                <a:cubicBezTo>
                  <a:pt x="4818252" y="658749"/>
                  <a:pt x="4840351" y="646557"/>
                  <a:pt x="4863719" y="638175"/>
                </a:cubicBezTo>
                <a:cubicBezTo>
                  <a:pt x="4863845" y="638175"/>
                  <a:pt x="4993005" y="594995"/>
                  <a:pt x="5029962" y="582676"/>
                </a:cubicBezTo>
                <a:cubicBezTo>
                  <a:pt x="5056632" y="573786"/>
                  <a:pt x="5085715" y="574929"/>
                  <a:pt x="5113146" y="568833"/>
                </a:cubicBezTo>
                <a:cubicBezTo>
                  <a:pt x="5127370" y="565658"/>
                  <a:pt x="5140705" y="559054"/>
                  <a:pt x="5154676" y="554990"/>
                </a:cubicBezTo>
                <a:cubicBezTo>
                  <a:pt x="5172964" y="549783"/>
                  <a:pt x="5191887" y="546735"/>
                  <a:pt x="5210175" y="541147"/>
                </a:cubicBezTo>
                <a:cubicBezTo>
                  <a:pt x="5251957" y="528320"/>
                  <a:pt x="5294121" y="515874"/>
                  <a:pt x="5334762" y="499618"/>
                </a:cubicBezTo>
                <a:cubicBezTo>
                  <a:pt x="5357876" y="490347"/>
                  <a:pt x="5379846" y="477520"/>
                  <a:pt x="5404104" y="471932"/>
                </a:cubicBezTo>
                <a:cubicBezTo>
                  <a:pt x="5424931" y="466979"/>
                  <a:pt x="5676138" y="429641"/>
                  <a:pt x="5708904" y="416433"/>
                </a:cubicBezTo>
                <a:cubicBezTo>
                  <a:pt x="5755004" y="398018"/>
                  <a:pt x="5804789" y="386588"/>
                  <a:pt x="5847461" y="361061"/>
                </a:cubicBezTo>
                <a:cubicBezTo>
                  <a:pt x="5870575" y="347218"/>
                  <a:pt x="5891149" y="328041"/>
                  <a:pt x="5916676" y="319532"/>
                </a:cubicBezTo>
                <a:cubicBezTo>
                  <a:pt x="5961379" y="304546"/>
                  <a:pt x="6010529" y="306705"/>
                  <a:pt x="6055232" y="291719"/>
                </a:cubicBezTo>
                <a:cubicBezTo>
                  <a:pt x="6112891" y="272542"/>
                  <a:pt x="6092570" y="277495"/>
                  <a:pt x="6166104" y="264033"/>
                </a:cubicBezTo>
                <a:cubicBezTo>
                  <a:pt x="6193663" y="259080"/>
                  <a:pt x="6221094" y="251079"/>
                  <a:pt x="6249162" y="250190"/>
                </a:cubicBezTo>
                <a:cubicBezTo>
                  <a:pt x="6364604" y="246507"/>
                  <a:pt x="6480175" y="250190"/>
                  <a:pt x="6595617" y="250190"/>
                </a:cubicBezTo>
              </a:path>
            </a:pathLst>
          </a:cu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765440" y="1447920"/>
            <a:ext cx="6743520" cy="15112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1295280" y="3390840"/>
            <a:ext cx="3073680" cy="1028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"/>
          <p:cNvPicPr/>
          <p:nvPr/>
        </p:nvPicPr>
        <p:blipFill>
          <a:blip r:embed="rId3"/>
          <a:stretch/>
        </p:blipFill>
        <p:spPr>
          <a:xfrm>
            <a:off x="5880240" y="3390840"/>
            <a:ext cx="2311200" cy="1028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"/>
          <p:cNvPicPr/>
          <p:nvPr/>
        </p:nvPicPr>
        <p:blipFill>
          <a:blip r:embed="rId4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9"/>
          <p:cNvSpPr/>
          <p:nvPr/>
        </p:nvSpPr>
        <p:spPr>
          <a:xfrm>
            <a:off x="2759040" y="2828880"/>
            <a:ext cx="36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c7c7c"/>
                </a:solidFill>
                <a:latin typeface="微软雅黑"/>
                <a:ea typeface="微软雅黑"/>
              </a:rPr>
              <a:t>宣传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4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2502-A26F-4418-A1BE-5849E5005D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2"/>
          <p:cNvSpPr/>
          <p:nvPr/>
        </p:nvSpPr>
        <p:spPr>
          <a:xfrm rot="20692200">
            <a:off x="5535360" y="2444760"/>
            <a:ext cx="1073160" cy="324000"/>
          </a:xfrm>
          <a:prstGeom prst="rect">
            <a:avLst/>
          </a:prstGeom>
          <a:solidFill>
            <a:srgbClr val="fec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reeform 3"/>
          <p:cNvSpPr/>
          <p:nvPr/>
        </p:nvSpPr>
        <p:spPr>
          <a:xfrm>
            <a:off x="0" y="0"/>
            <a:ext cx="9144000" cy="615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15960"/>
              <a:gd name="textAreaBottom" fmla="*/ 615960 h 615960"/>
            </a:gdLst>
            <a:ahLst/>
            <a:rect l="textAreaLeft" t="textAreaTop" r="textAreaRight" b="textAreaBottom"/>
            <a:pathLst>
              <a:path w="9144000" h="616191">
                <a:moveTo>
                  <a:pt x="0" y="616191"/>
                </a:moveTo>
                <a:lnTo>
                  <a:pt x="9144000" y="616191"/>
                </a:lnTo>
                <a:lnTo>
                  <a:pt x="9144000" y="0"/>
                </a:lnTo>
                <a:lnTo>
                  <a:pt x="0" y="0"/>
                </a:lnTo>
                <a:lnTo>
                  <a:pt x="0" y="616191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"/>
          <p:cNvSpPr/>
          <p:nvPr/>
        </p:nvSpPr>
        <p:spPr>
          <a:xfrm>
            <a:off x="5110200" y="5114880"/>
            <a:ext cx="1096920" cy="8100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096492" h="81221">
                <a:moveTo>
                  <a:pt x="0" y="81221"/>
                </a:moveTo>
                <a:lnTo>
                  <a:pt x="1096492" y="81221"/>
                </a:lnTo>
                <a:lnTo>
                  <a:pt x="1096492" y="0"/>
                </a:lnTo>
                <a:lnTo>
                  <a:pt x="0" y="0"/>
                </a:lnTo>
                <a:lnTo>
                  <a:pt x="0" y="81221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114480" y="38160"/>
            <a:ext cx="3327120" cy="25146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7"/>
          <p:cNvGrpSpPr/>
          <p:nvPr/>
        </p:nvGrpSpPr>
        <p:grpSpPr>
          <a:xfrm>
            <a:off x="1879560" y="2127240"/>
            <a:ext cx="6804000" cy="4100400"/>
            <a:chOff x="1879560" y="2127240"/>
            <a:chExt cx="6804000" cy="4100400"/>
          </a:xfrm>
        </p:grpSpPr>
        <p:grpSp>
          <p:nvGrpSpPr>
            <p:cNvPr id="521" name="Group 8"/>
            <p:cNvGrpSpPr/>
            <p:nvPr/>
          </p:nvGrpSpPr>
          <p:grpSpPr>
            <a:xfrm>
              <a:off x="1879560" y="2127240"/>
              <a:ext cx="6804000" cy="4100400"/>
              <a:chOff x="1879560" y="2127240"/>
              <a:chExt cx="6804000" cy="4100400"/>
            </a:xfrm>
          </p:grpSpPr>
          <p:sp>
            <p:nvSpPr>
              <p:cNvPr id="522" name="Freeform 3"/>
              <p:cNvSpPr/>
              <p:nvPr/>
            </p:nvSpPr>
            <p:spPr>
              <a:xfrm>
                <a:off x="1879560" y="2127240"/>
                <a:ext cx="6804000" cy="4100400"/>
              </a:xfrm>
              <a:custGeom>
                <a:avLst/>
                <a:gdLst>
                  <a:gd name="textAreaLeft" fmla="*/ 0 w 6804000"/>
                  <a:gd name="textAreaRight" fmla="*/ 6804360 w 6804000"/>
                  <a:gd name="textAreaTop" fmla="*/ 0 h 4100400"/>
                  <a:gd name="textAreaBottom" fmla="*/ 4100760 h 4100400"/>
                </a:gdLst>
                <a:ahLst/>
                <a:rect l="textAreaLeft" t="textAreaTop" r="textAreaRight" b="textAreaBottom"/>
                <a:pathLst>
                  <a:path w="6803517" h="4100626">
                    <a:moveTo>
                      <a:pt x="382905" y="6350"/>
                    </a:moveTo>
                    <a:lnTo>
                      <a:pt x="719074" y="598042"/>
                    </a:lnTo>
                    <a:lnTo>
                      <a:pt x="6797167" y="598042"/>
                    </a:lnTo>
                    <a:lnTo>
                      <a:pt x="6797167" y="4094276"/>
                    </a:lnTo>
                    <a:lnTo>
                      <a:pt x="6350" y="4094276"/>
                    </a:lnTo>
                    <a:lnTo>
                      <a:pt x="6350" y="557657"/>
                    </a:lnTo>
                    <a:lnTo>
                      <a:pt x="382905" y="557657"/>
                    </a:lnTo>
                    <a:lnTo>
                      <a:pt x="382905" y="6350"/>
                    </a:lnTo>
                  </a:path>
                </a:pathLst>
              </a:custGeom>
              <a:noFill/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14"/>
              <p:cNvSpPr/>
              <p:nvPr/>
            </p:nvSpPr>
            <p:spPr>
              <a:xfrm>
                <a:off x="1930320" y="2819880"/>
                <a:ext cx="6642720" cy="334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4" name="图片 11" descr=""/>
            <p:cNvPicPr/>
            <p:nvPr/>
          </p:nvPicPr>
          <p:blipFill>
            <a:blip r:embed="rId3"/>
            <a:stretch/>
          </p:blipFill>
          <p:spPr>
            <a:xfrm>
              <a:off x="1987920" y="2790360"/>
              <a:ext cx="3293640" cy="24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图片 12" descr=""/>
            <p:cNvPicPr/>
            <p:nvPr/>
          </p:nvPicPr>
          <p:blipFill>
            <a:blip r:embed="rId4"/>
            <a:stretch/>
          </p:blipFill>
          <p:spPr>
            <a:xfrm>
              <a:off x="7517880" y="2790360"/>
              <a:ext cx="106992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图片 13" descr=""/>
            <p:cNvPicPr/>
            <p:nvPr/>
          </p:nvPicPr>
          <p:blipFill>
            <a:blip r:embed="rId5"/>
            <a:stretch/>
          </p:blipFill>
          <p:spPr>
            <a:xfrm>
              <a:off x="5311440" y="2790360"/>
              <a:ext cx="1225080" cy="17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图片 17" descr=""/>
            <p:cNvPicPr/>
            <p:nvPr/>
          </p:nvPicPr>
          <p:blipFill>
            <a:blip r:embed="rId6"/>
            <a:stretch/>
          </p:blipFill>
          <p:spPr>
            <a:xfrm>
              <a:off x="6575040" y="2790360"/>
              <a:ext cx="1303560" cy="17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图片 18" descr=""/>
            <p:cNvPicPr/>
            <p:nvPr/>
          </p:nvPicPr>
          <p:blipFill>
            <a:blip r:embed="rId7"/>
            <a:stretch/>
          </p:blipFill>
          <p:spPr>
            <a:xfrm>
              <a:off x="5319720" y="4544640"/>
              <a:ext cx="122328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图片 19" descr=""/>
            <p:cNvPicPr/>
            <p:nvPr/>
          </p:nvPicPr>
          <p:blipFill>
            <a:blip r:embed="rId8"/>
            <a:stretch/>
          </p:blipFill>
          <p:spPr>
            <a:xfrm>
              <a:off x="6563160" y="4546800"/>
              <a:ext cx="113688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图片 20" descr=""/>
            <p:cNvPicPr/>
            <p:nvPr/>
          </p:nvPicPr>
          <p:blipFill>
            <a:blip r:embed="rId9"/>
            <a:stretch/>
          </p:blipFill>
          <p:spPr>
            <a:xfrm>
              <a:off x="7747560" y="4542480"/>
              <a:ext cx="840600" cy="16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图片 23" descr=""/>
            <p:cNvPicPr/>
            <p:nvPr/>
          </p:nvPicPr>
          <p:blipFill>
            <a:blip r:embed="rId10"/>
            <a:stretch/>
          </p:blipFill>
          <p:spPr>
            <a:xfrm>
              <a:off x="3024360" y="5307120"/>
              <a:ext cx="1191240" cy="83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图片 21" descr=""/>
            <p:cNvPicPr/>
            <p:nvPr/>
          </p:nvPicPr>
          <p:blipFill>
            <a:blip r:embed="rId11"/>
            <a:stretch/>
          </p:blipFill>
          <p:spPr>
            <a:xfrm>
              <a:off x="1936440" y="5307120"/>
              <a:ext cx="1191240" cy="83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图片 24" descr=""/>
            <p:cNvPicPr/>
            <p:nvPr/>
          </p:nvPicPr>
          <p:blipFill>
            <a:blip r:embed="rId12"/>
            <a:stretch/>
          </p:blipFill>
          <p:spPr>
            <a:xfrm>
              <a:off x="4120560" y="5307120"/>
              <a:ext cx="1191240" cy="83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2D7A-F2F5-40DF-A6A4-843C9783B3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"/>
          <p:cNvSpPr/>
          <p:nvPr/>
        </p:nvSpPr>
        <p:spPr>
          <a:xfrm>
            <a:off x="0" y="0"/>
            <a:ext cx="9144000" cy="615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15960"/>
              <a:gd name="textAreaBottom" fmla="*/ 615960 h 615960"/>
            </a:gdLst>
            <a:ahLst/>
            <a:rect l="textAreaLeft" t="textAreaTop" r="textAreaRight" b="textAreaBottom"/>
            <a:pathLst>
              <a:path w="9144000" h="616191">
                <a:moveTo>
                  <a:pt x="0" y="616191"/>
                </a:moveTo>
                <a:lnTo>
                  <a:pt x="9144000" y="616191"/>
                </a:lnTo>
                <a:lnTo>
                  <a:pt x="9144000" y="0"/>
                </a:lnTo>
                <a:lnTo>
                  <a:pt x="0" y="0"/>
                </a:lnTo>
                <a:lnTo>
                  <a:pt x="0" y="616191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"/>
          <p:cNvSpPr/>
          <p:nvPr/>
        </p:nvSpPr>
        <p:spPr>
          <a:xfrm>
            <a:off x="2139840" y="2597040"/>
            <a:ext cx="2114640" cy="71136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115058" h="711072">
                <a:moveTo>
                  <a:pt x="0" y="346836"/>
                </a:moveTo>
                <a:lnTo>
                  <a:pt x="2053463" y="0"/>
                </a:lnTo>
                <a:lnTo>
                  <a:pt x="2115057" y="364108"/>
                </a:lnTo>
                <a:lnTo>
                  <a:pt x="61468" y="711072"/>
                </a:lnTo>
                <a:lnTo>
                  <a:pt x="0" y="346836"/>
                </a:lnTo>
              </a:path>
            </a:pathLst>
          </a:custGeom>
          <a:solidFill>
            <a:srgbClr val="ffd96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3"/>
          <p:cNvSpPr/>
          <p:nvPr/>
        </p:nvSpPr>
        <p:spPr>
          <a:xfrm>
            <a:off x="3492360" y="3357720"/>
            <a:ext cx="5143680" cy="1071360"/>
          </a:xfrm>
          <a:custGeom>
            <a:avLst/>
            <a:gdLst>
              <a:gd name="textAreaLeft" fmla="*/ 0 w 5143680"/>
              <a:gd name="textAreaRight" fmla="*/ 5144040 w 514368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5144643" h="1072388">
                <a:moveTo>
                  <a:pt x="56133" y="0"/>
                </a:moveTo>
                <a:lnTo>
                  <a:pt x="5144642" y="490347"/>
                </a:lnTo>
                <a:lnTo>
                  <a:pt x="5088508" y="1072388"/>
                </a:lnTo>
                <a:lnTo>
                  <a:pt x="0" y="582041"/>
                </a:lnTo>
                <a:lnTo>
                  <a:pt x="56133" y="0"/>
                </a:lnTo>
              </a:path>
            </a:pathLst>
          </a:custGeom>
          <a:solidFill>
            <a:srgbClr val="ffd96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3"/>
          <p:cNvSpPr/>
          <p:nvPr/>
        </p:nvSpPr>
        <p:spPr>
          <a:xfrm>
            <a:off x="3608280" y="3706920"/>
            <a:ext cx="152640" cy="171360"/>
          </a:xfrm>
          <a:custGeom>
            <a:avLst/>
            <a:gdLst>
              <a:gd name="textAreaLeft" fmla="*/ 0 w 152640"/>
              <a:gd name="textAreaRight" fmla="*/ 153000 w 152640"/>
              <a:gd name="textAreaTop" fmla="*/ 0 h 171360"/>
              <a:gd name="textAreaBottom" fmla="*/ 171360 h 171360"/>
            </a:gdLst>
            <a:ahLst/>
            <a:rect l="textAreaLeft" t="textAreaTop" r="textAreaRight" b="textAreaBottom"/>
            <a:pathLst>
              <a:path w="152400" h="171831">
                <a:moveTo>
                  <a:pt x="131191" y="89662"/>
                </a:moveTo>
                <a:lnTo>
                  <a:pt x="131826" y="83312"/>
                </a:lnTo>
                <a:lnTo>
                  <a:pt x="86614" y="78994"/>
                </a:lnTo>
                <a:lnTo>
                  <a:pt x="80137" y="146304"/>
                </a:lnTo>
                <a:lnTo>
                  <a:pt x="130555" y="151130"/>
                </a:lnTo>
                <a:lnTo>
                  <a:pt x="135255" y="102235"/>
                </a:lnTo>
                <a:lnTo>
                  <a:pt x="149733" y="103505"/>
                </a:lnTo>
                <a:lnTo>
                  <a:pt x="143129" y="171830"/>
                </a:lnTo>
                <a:lnTo>
                  <a:pt x="128651" y="170434"/>
                </a:lnTo>
                <a:lnTo>
                  <a:pt x="129286" y="164211"/>
                </a:lnTo>
                <a:lnTo>
                  <a:pt x="0" y="151765"/>
                </a:lnTo>
                <a:lnTo>
                  <a:pt x="5969" y="89662"/>
                </a:lnTo>
                <a:lnTo>
                  <a:pt x="20574" y="91186"/>
                </a:lnTo>
                <a:lnTo>
                  <a:pt x="15875" y="140080"/>
                </a:lnTo>
                <a:lnTo>
                  <a:pt x="65278" y="144907"/>
                </a:lnTo>
                <a:lnTo>
                  <a:pt x="71755" y="77470"/>
                </a:lnTo>
                <a:lnTo>
                  <a:pt x="12446" y="71755"/>
                </a:lnTo>
                <a:lnTo>
                  <a:pt x="18415" y="10033"/>
                </a:lnTo>
                <a:lnTo>
                  <a:pt x="33020" y="11557"/>
                </a:lnTo>
                <a:lnTo>
                  <a:pt x="28321" y="60071"/>
                </a:lnTo>
                <a:lnTo>
                  <a:pt x="73025" y="64389"/>
                </a:lnTo>
                <a:lnTo>
                  <a:pt x="79248" y="0"/>
                </a:lnTo>
                <a:lnTo>
                  <a:pt x="94107" y="1397"/>
                </a:lnTo>
                <a:lnTo>
                  <a:pt x="87884" y="65913"/>
                </a:lnTo>
                <a:lnTo>
                  <a:pt x="133096" y="70230"/>
                </a:lnTo>
                <a:lnTo>
                  <a:pt x="137795" y="21590"/>
                </a:lnTo>
                <a:lnTo>
                  <a:pt x="152400" y="22987"/>
                </a:lnTo>
                <a:lnTo>
                  <a:pt x="145796" y="91059"/>
                </a:lnTo>
                <a:lnTo>
                  <a:pt x="131191" y="89662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3"/>
          <p:cNvSpPr/>
          <p:nvPr/>
        </p:nvSpPr>
        <p:spPr>
          <a:xfrm>
            <a:off x="3778200" y="3727440"/>
            <a:ext cx="169920" cy="158760"/>
          </a:xfrm>
          <a:custGeom>
            <a:avLst/>
            <a:gdLst>
              <a:gd name="textAreaLeft" fmla="*/ 0 w 169920"/>
              <a:gd name="textAreaRight" fmla="*/ 170280 w 169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434" h="159258">
                <a:moveTo>
                  <a:pt x="1270" y="56515"/>
                </a:moveTo>
                <a:lnTo>
                  <a:pt x="81153" y="64261"/>
                </a:lnTo>
                <a:lnTo>
                  <a:pt x="85471" y="19939"/>
                </a:lnTo>
                <a:lnTo>
                  <a:pt x="19304" y="13589"/>
                </a:lnTo>
                <a:lnTo>
                  <a:pt x="20574" y="0"/>
                </a:lnTo>
                <a:lnTo>
                  <a:pt x="162941" y="13716"/>
                </a:lnTo>
                <a:lnTo>
                  <a:pt x="161671" y="27304"/>
                </a:lnTo>
                <a:lnTo>
                  <a:pt x="99949" y="21336"/>
                </a:lnTo>
                <a:lnTo>
                  <a:pt x="95630" y="65659"/>
                </a:lnTo>
                <a:lnTo>
                  <a:pt x="170434" y="72898"/>
                </a:lnTo>
                <a:lnTo>
                  <a:pt x="169036" y="86486"/>
                </a:lnTo>
                <a:lnTo>
                  <a:pt x="94361" y="79248"/>
                </a:lnTo>
                <a:lnTo>
                  <a:pt x="88646" y="138176"/>
                </a:lnTo>
                <a:cubicBezTo>
                  <a:pt x="87884" y="145923"/>
                  <a:pt x="85979" y="151384"/>
                  <a:pt x="82677" y="154559"/>
                </a:cubicBezTo>
                <a:cubicBezTo>
                  <a:pt x="79121" y="158242"/>
                  <a:pt x="72898" y="159892"/>
                  <a:pt x="64135" y="159258"/>
                </a:cubicBezTo>
                <a:cubicBezTo>
                  <a:pt x="58928" y="158750"/>
                  <a:pt x="49276" y="157734"/>
                  <a:pt x="35052" y="156210"/>
                </a:cubicBezTo>
                <a:cubicBezTo>
                  <a:pt x="35052" y="150876"/>
                  <a:pt x="34544" y="145669"/>
                  <a:pt x="33782" y="140335"/>
                </a:cubicBezTo>
                <a:cubicBezTo>
                  <a:pt x="46609" y="142494"/>
                  <a:pt x="55626" y="143891"/>
                  <a:pt x="60705" y="144272"/>
                </a:cubicBezTo>
                <a:cubicBezTo>
                  <a:pt x="65786" y="144779"/>
                  <a:pt x="69342" y="144145"/>
                  <a:pt x="71247" y="142367"/>
                </a:cubicBezTo>
                <a:cubicBezTo>
                  <a:pt x="73025" y="140970"/>
                  <a:pt x="74167" y="137414"/>
                  <a:pt x="74676" y="131826"/>
                </a:cubicBezTo>
                <a:lnTo>
                  <a:pt x="79883" y="77851"/>
                </a:lnTo>
                <a:lnTo>
                  <a:pt x="0" y="70104"/>
                </a:lnTo>
                <a:lnTo>
                  <a:pt x="1270" y="56515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"/>
          <p:cNvSpPr/>
          <p:nvPr/>
        </p:nvSpPr>
        <p:spPr>
          <a:xfrm>
            <a:off x="2849400" y="4437000"/>
            <a:ext cx="5432760" cy="1108080"/>
          </a:xfrm>
          <a:custGeom>
            <a:avLst/>
            <a:gdLst>
              <a:gd name="textAreaLeft" fmla="*/ 0 w 5432760"/>
              <a:gd name="textAreaRight" fmla="*/ 5433120 w 54327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5432425" h="1108709">
                <a:moveTo>
                  <a:pt x="0" y="742822"/>
                </a:moveTo>
                <a:lnTo>
                  <a:pt x="5382006" y="0"/>
                </a:lnTo>
                <a:lnTo>
                  <a:pt x="5432424" y="365886"/>
                </a:lnTo>
                <a:lnTo>
                  <a:pt x="50545" y="1108710"/>
                </a:lnTo>
                <a:lnTo>
                  <a:pt x="0" y="742822"/>
                </a:lnTo>
              </a:path>
            </a:pathLst>
          </a:custGeom>
          <a:solidFill>
            <a:srgbClr val="ffd96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3"/>
          <p:cNvSpPr/>
          <p:nvPr/>
        </p:nvSpPr>
        <p:spPr>
          <a:xfrm>
            <a:off x="1397160" y="1622520"/>
            <a:ext cx="7358040" cy="4692600"/>
          </a:xfrm>
          <a:custGeom>
            <a:avLst/>
            <a:gdLst>
              <a:gd name="textAreaLeft" fmla="*/ 0 w 7358040"/>
              <a:gd name="textAreaRight" fmla="*/ 7358400 w 7358040"/>
              <a:gd name="textAreaTop" fmla="*/ 0 h 4692600"/>
              <a:gd name="textAreaBottom" fmla="*/ 4692960 h 4692600"/>
            </a:gdLst>
            <a:ahLst/>
            <a:rect l="textAreaLeft" t="textAreaTop" r="textAreaRight" b="textAreaBottom"/>
            <a:pathLst>
              <a:path w="7357618" h="4693246">
                <a:moveTo>
                  <a:pt x="413638" y="6350"/>
                </a:moveTo>
                <a:lnTo>
                  <a:pt x="777240" y="683767"/>
                </a:lnTo>
                <a:lnTo>
                  <a:pt x="7351267" y="683767"/>
                </a:lnTo>
                <a:lnTo>
                  <a:pt x="7351267" y="4686896"/>
                </a:lnTo>
                <a:lnTo>
                  <a:pt x="6350" y="4686896"/>
                </a:lnTo>
                <a:lnTo>
                  <a:pt x="6350" y="637667"/>
                </a:lnTo>
                <a:lnTo>
                  <a:pt x="413638" y="637667"/>
                </a:lnTo>
                <a:lnTo>
                  <a:pt x="413638" y="6350"/>
                </a:lnTo>
              </a:path>
            </a:pathLst>
          </a:cu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2057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1536840" y="2413080"/>
            <a:ext cx="7111800" cy="38354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"/>
          <p:cNvSpPr/>
          <p:nvPr/>
        </p:nvSpPr>
        <p:spPr>
          <a:xfrm>
            <a:off x="0" y="0"/>
            <a:ext cx="9144000" cy="615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15960"/>
              <a:gd name="textAreaBottom" fmla="*/ 615960 h 615960"/>
            </a:gdLst>
            <a:ahLst/>
            <a:rect l="textAreaLeft" t="textAreaTop" r="textAreaRight" b="textAreaBottom"/>
            <a:pathLst>
              <a:path w="9144000" h="616191">
                <a:moveTo>
                  <a:pt x="0" y="616191"/>
                </a:moveTo>
                <a:lnTo>
                  <a:pt x="9144000" y="616191"/>
                </a:lnTo>
                <a:lnTo>
                  <a:pt x="9144000" y="0"/>
                </a:lnTo>
                <a:lnTo>
                  <a:pt x="0" y="0"/>
                </a:lnTo>
                <a:lnTo>
                  <a:pt x="0" y="616191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3"/>
          <p:cNvSpPr/>
          <p:nvPr/>
        </p:nvSpPr>
        <p:spPr>
          <a:xfrm>
            <a:off x="893880" y="1766880"/>
            <a:ext cx="7645320" cy="4548240"/>
          </a:xfrm>
          <a:custGeom>
            <a:avLst/>
            <a:gdLst>
              <a:gd name="textAreaLeft" fmla="*/ 0 w 7645320"/>
              <a:gd name="textAreaRight" fmla="*/ 7645680 w 7645320"/>
              <a:gd name="textAreaTop" fmla="*/ 0 h 4548240"/>
              <a:gd name="textAreaBottom" fmla="*/ 4548600 h 4548240"/>
            </a:gdLst>
            <a:ahLst/>
            <a:rect l="textAreaLeft" t="textAreaTop" r="textAreaRight" b="textAreaBottom"/>
            <a:pathLst>
              <a:path w="7645603" h="4549228">
                <a:moveTo>
                  <a:pt x="429590" y="6350"/>
                </a:moveTo>
                <a:lnTo>
                  <a:pt x="807415" y="662939"/>
                </a:lnTo>
                <a:lnTo>
                  <a:pt x="7639252" y="662939"/>
                </a:lnTo>
                <a:lnTo>
                  <a:pt x="7639252" y="4542878"/>
                </a:lnTo>
                <a:lnTo>
                  <a:pt x="6350" y="4542878"/>
                </a:lnTo>
                <a:lnTo>
                  <a:pt x="6350" y="618236"/>
                </a:lnTo>
                <a:lnTo>
                  <a:pt x="429590" y="618236"/>
                </a:lnTo>
                <a:lnTo>
                  <a:pt x="429590" y="6350"/>
                </a:lnTo>
              </a:path>
            </a:pathLst>
          </a:cu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3"/>
          <p:cNvSpPr/>
          <p:nvPr/>
        </p:nvSpPr>
        <p:spPr>
          <a:xfrm>
            <a:off x="1116000" y="3284640"/>
            <a:ext cx="5834160" cy="934920"/>
          </a:xfrm>
          <a:custGeom>
            <a:avLst/>
            <a:gdLst>
              <a:gd name="textAreaLeft" fmla="*/ 0 w 5834160"/>
              <a:gd name="textAreaRight" fmla="*/ 5834520 w 583416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5834202" h="934847">
                <a:moveTo>
                  <a:pt x="0" y="567308"/>
                </a:moveTo>
                <a:lnTo>
                  <a:pt x="5798261" y="0"/>
                </a:lnTo>
                <a:lnTo>
                  <a:pt x="5834201" y="367538"/>
                </a:lnTo>
                <a:lnTo>
                  <a:pt x="35953" y="934846"/>
                </a:lnTo>
                <a:lnTo>
                  <a:pt x="0" y="567308"/>
                </a:lnTo>
              </a:path>
            </a:pathLst>
          </a:custGeom>
          <a:solidFill>
            <a:srgbClr val="ffd96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3"/>
          <p:cNvSpPr/>
          <p:nvPr/>
        </p:nvSpPr>
        <p:spPr>
          <a:xfrm>
            <a:off x="1042920" y="4267080"/>
            <a:ext cx="7435800" cy="1049400"/>
          </a:xfrm>
          <a:custGeom>
            <a:avLst/>
            <a:gdLst>
              <a:gd name="textAreaLeft" fmla="*/ 0 w 7435800"/>
              <a:gd name="textAreaRight" fmla="*/ 7436160 w 743580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7436053" h="1048892">
                <a:moveTo>
                  <a:pt x="33832" y="0"/>
                </a:moveTo>
                <a:lnTo>
                  <a:pt x="7436053" y="681100"/>
                </a:lnTo>
                <a:lnTo>
                  <a:pt x="7402271" y="1048892"/>
                </a:lnTo>
                <a:lnTo>
                  <a:pt x="0" y="367791"/>
                </a:lnTo>
                <a:lnTo>
                  <a:pt x="33832" y="0"/>
                </a:lnTo>
              </a:path>
            </a:pathLst>
          </a:custGeom>
          <a:solidFill>
            <a:srgbClr val="ffd96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3"/>
          <p:cNvSpPr/>
          <p:nvPr/>
        </p:nvSpPr>
        <p:spPr>
          <a:xfrm>
            <a:off x="1266840" y="5234040"/>
            <a:ext cx="5834160" cy="934920"/>
          </a:xfrm>
          <a:custGeom>
            <a:avLst/>
            <a:gdLst>
              <a:gd name="textAreaLeft" fmla="*/ 0 w 5834160"/>
              <a:gd name="textAreaRight" fmla="*/ 5834520 w 583416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5834202" h="934821">
                <a:moveTo>
                  <a:pt x="0" y="567245"/>
                </a:moveTo>
                <a:lnTo>
                  <a:pt x="5798261" y="0"/>
                </a:lnTo>
                <a:lnTo>
                  <a:pt x="5834201" y="367550"/>
                </a:lnTo>
                <a:lnTo>
                  <a:pt x="36017" y="934821"/>
                </a:lnTo>
                <a:lnTo>
                  <a:pt x="0" y="567245"/>
                </a:lnTo>
              </a:path>
            </a:pathLst>
          </a:custGeom>
          <a:solidFill>
            <a:srgbClr val="ffd96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692440" cy="2400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965160" y="2476440"/>
            <a:ext cx="7442280" cy="3759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3"/>
          <p:cNvSpPr/>
          <p:nvPr/>
        </p:nvSpPr>
        <p:spPr>
          <a:xfrm>
            <a:off x="0" y="0"/>
            <a:ext cx="9144000" cy="615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15960"/>
              <a:gd name="textAreaBottom" fmla="*/ 615960 h 615960"/>
            </a:gdLst>
            <a:ahLst/>
            <a:rect l="textAreaLeft" t="textAreaTop" r="textAreaRight" b="textAreaBottom"/>
            <a:pathLst>
              <a:path w="9144000" h="616191">
                <a:moveTo>
                  <a:pt x="0" y="616191"/>
                </a:moveTo>
                <a:lnTo>
                  <a:pt x="9144000" y="616191"/>
                </a:lnTo>
                <a:lnTo>
                  <a:pt x="9144000" y="0"/>
                </a:lnTo>
                <a:lnTo>
                  <a:pt x="0" y="0"/>
                </a:lnTo>
                <a:lnTo>
                  <a:pt x="0" y="616191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3"/>
          <p:cNvSpPr/>
          <p:nvPr/>
        </p:nvSpPr>
        <p:spPr>
          <a:xfrm>
            <a:off x="676440" y="1190520"/>
            <a:ext cx="7573680" cy="4692600"/>
          </a:xfrm>
          <a:custGeom>
            <a:avLst/>
            <a:gdLst>
              <a:gd name="textAreaLeft" fmla="*/ 0 w 7573680"/>
              <a:gd name="textAreaRight" fmla="*/ 7574040 w 7573680"/>
              <a:gd name="textAreaTop" fmla="*/ 0 h 4692600"/>
              <a:gd name="textAreaBottom" fmla="*/ 4692960 h 4692600"/>
            </a:gdLst>
            <a:ahLst/>
            <a:rect l="textAreaLeft" t="textAreaTop" r="textAreaRight" b="textAreaBottom"/>
            <a:pathLst>
              <a:path w="7573594" h="4693246">
                <a:moveTo>
                  <a:pt x="7148017" y="6350"/>
                </a:moveTo>
                <a:lnTo>
                  <a:pt x="6773621" y="683768"/>
                </a:lnTo>
                <a:lnTo>
                  <a:pt x="6350" y="683768"/>
                </a:lnTo>
                <a:lnTo>
                  <a:pt x="6350" y="4686896"/>
                </a:lnTo>
                <a:lnTo>
                  <a:pt x="7567243" y="4686896"/>
                </a:lnTo>
                <a:lnTo>
                  <a:pt x="7567243" y="637666"/>
                </a:lnTo>
                <a:lnTo>
                  <a:pt x="7148016" y="637666"/>
                </a:lnTo>
                <a:lnTo>
                  <a:pt x="7148016" y="6350"/>
                </a:lnTo>
              </a:path>
            </a:pathLst>
          </a:cu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3"/>
          <p:cNvSpPr/>
          <p:nvPr/>
        </p:nvSpPr>
        <p:spPr>
          <a:xfrm>
            <a:off x="826920" y="3284640"/>
            <a:ext cx="7248600" cy="1535040"/>
          </a:xfrm>
          <a:custGeom>
            <a:avLst/>
            <a:gdLst>
              <a:gd name="textAreaLeft" fmla="*/ 0 w 7248600"/>
              <a:gd name="textAreaRight" fmla="*/ 7248960 w 7248600"/>
              <a:gd name="textAreaTop" fmla="*/ 0 h 1535040"/>
              <a:gd name="textAreaBottom" fmla="*/ 1535400 h 1535040"/>
            </a:gdLst>
            <a:ahLst/>
            <a:rect l="textAreaLeft" t="textAreaTop" r="textAreaRight" b="textAreaBottom"/>
            <a:pathLst>
              <a:path w="7247966" h="1533905">
                <a:moveTo>
                  <a:pt x="0" y="892555"/>
                </a:moveTo>
                <a:lnTo>
                  <a:pt x="7168083" y="0"/>
                </a:lnTo>
                <a:lnTo>
                  <a:pt x="7247966" y="641350"/>
                </a:lnTo>
                <a:lnTo>
                  <a:pt x="79857" y="1533905"/>
                </a:lnTo>
                <a:lnTo>
                  <a:pt x="0" y="892555"/>
                </a:lnTo>
              </a:path>
            </a:pathLst>
          </a:custGeom>
          <a:solidFill>
            <a:srgbClr val="ffd3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6261120" y="38160"/>
            <a:ext cx="2882880" cy="15364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"/>
          <p:cNvPicPr/>
          <p:nvPr/>
        </p:nvPicPr>
        <p:blipFill>
          <a:blip r:embed="rId2"/>
          <a:stretch/>
        </p:blipFill>
        <p:spPr>
          <a:xfrm>
            <a:off x="812880" y="2044800"/>
            <a:ext cx="7302600" cy="3708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"/>
          <p:cNvSpPr/>
          <p:nvPr/>
        </p:nvSpPr>
        <p:spPr>
          <a:xfrm>
            <a:off x="0" y="0"/>
            <a:ext cx="9144000" cy="615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15960"/>
              <a:gd name="textAreaBottom" fmla="*/ 615960 h 615960"/>
            </a:gdLst>
            <a:ahLst/>
            <a:rect l="textAreaLeft" t="textAreaTop" r="textAreaRight" b="textAreaBottom"/>
            <a:pathLst>
              <a:path w="9144000" h="616191">
                <a:moveTo>
                  <a:pt x="0" y="616191"/>
                </a:moveTo>
                <a:lnTo>
                  <a:pt x="9144000" y="616191"/>
                </a:lnTo>
                <a:lnTo>
                  <a:pt x="9144000" y="0"/>
                </a:lnTo>
                <a:lnTo>
                  <a:pt x="0" y="0"/>
                </a:lnTo>
                <a:lnTo>
                  <a:pt x="0" y="616191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"/>
          <p:cNvSpPr/>
          <p:nvPr/>
        </p:nvSpPr>
        <p:spPr>
          <a:xfrm>
            <a:off x="388800" y="1477800"/>
            <a:ext cx="7574040" cy="4694400"/>
          </a:xfrm>
          <a:custGeom>
            <a:avLst/>
            <a:gdLst>
              <a:gd name="textAreaLeft" fmla="*/ 0 w 7574040"/>
              <a:gd name="textAreaRight" fmla="*/ 7574400 w 7574040"/>
              <a:gd name="textAreaTop" fmla="*/ 0 h 4694400"/>
              <a:gd name="textAreaBottom" fmla="*/ 4694760 h 4694400"/>
            </a:gdLst>
            <a:ahLst/>
            <a:rect l="textAreaLeft" t="textAreaTop" r="textAreaRight" b="textAreaBottom"/>
            <a:pathLst>
              <a:path w="7573581" h="4693246">
                <a:moveTo>
                  <a:pt x="7148004" y="6350"/>
                </a:moveTo>
                <a:lnTo>
                  <a:pt x="6773608" y="683767"/>
                </a:lnTo>
                <a:lnTo>
                  <a:pt x="6350" y="683767"/>
                </a:lnTo>
                <a:lnTo>
                  <a:pt x="6350" y="4686896"/>
                </a:lnTo>
                <a:lnTo>
                  <a:pt x="7567231" y="4686896"/>
                </a:lnTo>
                <a:lnTo>
                  <a:pt x="7567231" y="637666"/>
                </a:lnTo>
                <a:lnTo>
                  <a:pt x="7148004" y="637666"/>
                </a:lnTo>
                <a:lnTo>
                  <a:pt x="7148004" y="6350"/>
                </a:lnTo>
              </a:path>
            </a:pathLst>
          </a:cu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"/>
          <p:cNvSpPr/>
          <p:nvPr/>
        </p:nvSpPr>
        <p:spPr>
          <a:xfrm>
            <a:off x="826920" y="3538440"/>
            <a:ext cx="6729480" cy="1408320"/>
          </a:xfrm>
          <a:custGeom>
            <a:avLst/>
            <a:gdLst>
              <a:gd name="textAreaLeft" fmla="*/ 0 w 6729480"/>
              <a:gd name="textAreaRight" fmla="*/ 6729840 w 6729480"/>
              <a:gd name="textAreaTop" fmla="*/ 0 h 1408320"/>
              <a:gd name="textAreaBottom" fmla="*/ 1408680 h 1408320"/>
            </a:gdLst>
            <a:ahLst/>
            <a:rect l="textAreaLeft" t="textAreaTop" r="textAreaRight" b="textAreaBottom"/>
            <a:pathLst>
              <a:path w="6728790" h="1409065">
                <a:moveTo>
                  <a:pt x="0" y="828802"/>
                </a:moveTo>
                <a:lnTo>
                  <a:pt x="6656527" y="0"/>
                </a:lnTo>
                <a:lnTo>
                  <a:pt x="6728790" y="580263"/>
                </a:lnTo>
                <a:lnTo>
                  <a:pt x="72250" y="1409065"/>
                </a:lnTo>
                <a:lnTo>
                  <a:pt x="0" y="828802"/>
                </a:lnTo>
              </a:path>
            </a:pathLst>
          </a:custGeom>
          <a:solidFill>
            <a:srgbClr val="ffd3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1"/>
          <a:stretch/>
        </p:blipFill>
        <p:spPr>
          <a:xfrm>
            <a:off x="6095880" y="0"/>
            <a:ext cx="2806920" cy="2044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457200" y="2260440"/>
            <a:ext cx="7365960" cy="3848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572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8:40:00Z</dcterms:created>
  <dc:creator>陈通</dc:creator>
  <dc:description/>
  <dc:language>en-US</dc:language>
  <cp:lastModifiedBy>微软用户</cp:lastModifiedBy>
  <dcterms:modified xsi:type="dcterms:W3CDTF">2015-02-08T02:12:20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