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A38A-3B3C-41D3-BEFF-696477DC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264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B155-AA6C-4551-836B-79CC610F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64AB-1D22-4A92-A3F3-6B41E150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08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08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264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264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264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C647-7C3F-43F7-881A-601CEB1C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08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690A-2402-41D5-82F3-9507BAA2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99EE-02CE-4D76-8DEF-591A212F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95F1-8567-4348-B99D-486B1686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4CEB-BEDE-47D2-8E97-E8DDD2AB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C2C4-CA90-46AB-85C7-EF6D9C52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71C7-5797-43F1-9519-1E5F434B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55E0-391D-4828-880F-D623BE53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9FFE-A663-4196-85AB-F50CECCB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08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5960"/>
            <a:ext cx="21337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5960"/>
            <a:ext cx="289584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5960"/>
            <a:ext cx="21337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4B8D-9635-495B-89E8-25CD91A2D9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48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36400"/>
            <a:ext cx="640080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图片 3" descr="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3560"/>
          </a:xfrm>
          <a:prstGeom prst="rect">
            <a:avLst/>
          </a:prstGeom>
          <a:ln w="0">
            <a:noFill/>
          </a:ln>
        </p:spPr>
      </p:pic>
      <p:sp>
        <p:nvSpPr>
          <p:cNvPr id="44" name="矩形 4"/>
          <p:cNvSpPr/>
          <p:nvPr/>
        </p:nvSpPr>
        <p:spPr>
          <a:xfrm>
            <a:off x="755640" y="91296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述职报告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3995640" y="14158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x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月  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http://pica.nipic.com/2008-05-08/200858142654232_2.jpg"/>
          <p:cNvPicPr/>
          <p:nvPr/>
        </p:nvPicPr>
        <p:blipFill>
          <a:blip r:embed="rId2"/>
          <a:stretch/>
        </p:blipFill>
        <p:spPr>
          <a:xfrm>
            <a:off x="4718160" y="3289320"/>
            <a:ext cx="4273560" cy="1552680"/>
          </a:xfrm>
          <a:prstGeom prst="rect">
            <a:avLst/>
          </a:prstGeom>
          <a:ln w="0">
            <a:noFill/>
          </a:ln>
        </p:spPr>
      </p:pic>
      <p:sp>
        <p:nvSpPr>
          <p:cNvPr id="47" name="矩形 8"/>
          <p:cNvSpPr/>
          <p:nvPr/>
        </p:nvSpPr>
        <p:spPr>
          <a:xfrm>
            <a:off x="6733800" y="47293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3560"/>
          </a:xfrm>
          <a:prstGeom prst="rect">
            <a:avLst/>
          </a:prstGeom>
          <a:ln w="0">
            <a:noFill/>
          </a:ln>
        </p:spPr>
      </p:pic>
      <p:sp>
        <p:nvSpPr>
          <p:cNvPr id="49" name="单圆角矩形 4"/>
          <p:cNvSpPr/>
          <p:nvPr/>
        </p:nvSpPr>
        <p:spPr>
          <a:xfrm flipV="1">
            <a:off x="4610160" y="226080"/>
            <a:ext cx="4357800" cy="5306760"/>
          </a:xfrm>
          <a:custGeom>
            <a:avLst/>
            <a:gdLst>
              <a:gd name="textAreaLeft" fmla="*/ 0 w 4357800"/>
              <a:gd name="textAreaRight" fmla="*/ 4233960 w 4357800"/>
              <a:gd name="textAreaTop" fmla="*/ -360 h 5306760"/>
              <a:gd name="textAreaBottom" fmla="*/ 5306760 h 5306760"/>
            </a:gdLst>
            <a:ahLst/>
            <a:rect l="textAreaLeft" t="textAreaTop" r="textAreaRight" b="textAreaBottom"/>
            <a:pathLst>
              <a:path w="4357688" h="5307012">
                <a:moveTo>
                  <a:pt x="0" y="0"/>
                </a:moveTo>
                <a:lnTo>
                  <a:pt x="3934861" y="0"/>
                </a:lnTo>
                <a:lnTo>
                  <a:pt x="3934861" y="0"/>
                </a:lnTo>
                <a:arcTo wR="422827" hR="422827" stAng="-5400000" swAng="5400008"/>
                <a:lnTo>
                  <a:pt x="4357688" y="5307012"/>
                </a:lnTo>
                <a:lnTo>
                  <a:pt x="0" y="5307012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单圆角矩形 5"/>
          <p:cNvSpPr/>
          <p:nvPr/>
        </p:nvSpPr>
        <p:spPr>
          <a:xfrm flipH="1">
            <a:off x="3967920" y="961920"/>
            <a:ext cx="3816360" cy="12636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156360" y="2424240"/>
            <a:ext cx="14400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培训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活动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2" descr="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356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"/>
          <p:cNvGrpSpPr/>
          <p:nvPr/>
        </p:nvGrpSpPr>
        <p:grpSpPr>
          <a:xfrm>
            <a:off x="179280" y="431640"/>
            <a:ext cx="5835600" cy="636840"/>
            <a:chOff x="179280" y="431640"/>
            <a:chExt cx="5835600" cy="636840"/>
          </a:xfrm>
        </p:grpSpPr>
        <p:sp>
          <p:nvSpPr>
            <p:cNvPr id="54" name="Rectangle 14"/>
            <p:cNvSpPr/>
            <p:nvPr/>
          </p:nvSpPr>
          <p:spPr>
            <a:xfrm>
              <a:off x="429840" y="556560"/>
              <a:ext cx="558504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cc00"/>
                  </a:solidFill>
                  <a:latin typeface="微软雅黑"/>
                  <a:ea typeface="微软雅黑"/>
                </a:rPr>
                <a:t>培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单圆角矩形 5"/>
            <p:cNvSpPr/>
            <p:nvPr/>
          </p:nvSpPr>
          <p:spPr>
            <a:xfrm>
              <a:off x="179280" y="431640"/>
              <a:ext cx="144360" cy="636840"/>
            </a:xfrm>
            <a:custGeom>
              <a:avLst/>
              <a:gdLst>
                <a:gd name="textAreaLeft" fmla="*/ 0 w 144360"/>
                <a:gd name="textAreaRight" fmla="*/ 137520 w 144360"/>
                <a:gd name="textAreaTop" fmla="*/ 0 h 636840"/>
                <a:gd name="textAreaBottom" fmla="*/ 636840 h 636840"/>
              </a:gdLst>
              <a:ahLst/>
              <a:rect l="textAreaLeft" t="textAreaTop" r="textAreaRight" b="textAreaBottom"/>
              <a:pathLst>
                <a:path w="144462" h="636588">
                  <a:moveTo>
                    <a:pt x="0" y="0"/>
                  </a:moveTo>
                  <a:lnTo>
                    <a:pt x="120385" y="0"/>
                  </a:lnTo>
                  <a:lnTo>
                    <a:pt x="120385" y="0"/>
                  </a:lnTo>
                  <a:arcTo wR="24077" hR="24077" stAng="-5400000" swAng="5400000"/>
                  <a:lnTo>
                    <a:pt x="144462" y="636588"/>
                  </a:lnTo>
                  <a:lnTo>
                    <a:pt x="0" y="63658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矩形 6"/>
          <p:cNvSpPr/>
          <p:nvPr/>
        </p:nvSpPr>
        <p:spPr>
          <a:xfrm>
            <a:off x="395280" y="1128600"/>
            <a:ext cx="4734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企业发展情况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订和执行企业、人员培训计划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善和监督执行企业的培训制度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立内部培训师队伍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实施培训，管理培训人员材料并建立培训档案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跟踪培训计划执行情况，培训后续效果的评估和反馈工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"/>
          <p:cNvGrpSpPr/>
          <p:nvPr/>
        </p:nvGrpSpPr>
        <p:grpSpPr>
          <a:xfrm>
            <a:off x="250920" y="2846520"/>
            <a:ext cx="5929200" cy="647640"/>
            <a:chOff x="250920" y="2846520"/>
            <a:chExt cx="5929200" cy="647640"/>
          </a:xfrm>
        </p:grpSpPr>
        <p:sp>
          <p:nvSpPr>
            <p:cNvPr id="58" name="Rectangle 15"/>
            <p:cNvSpPr/>
            <p:nvPr/>
          </p:nvSpPr>
          <p:spPr>
            <a:xfrm>
              <a:off x="492120" y="2846520"/>
              <a:ext cx="56880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cc00"/>
                  </a:solidFill>
                  <a:latin typeface="微软雅黑"/>
                  <a:ea typeface="微软雅黑"/>
                </a:rPr>
                <a:t>团队建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单圆角矩形 9"/>
            <p:cNvSpPr/>
            <p:nvPr/>
          </p:nvSpPr>
          <p:spPr>
            <a:xfrm>
              <a:off x="250920" y="2855880"/>
              <a:ext cx="144360" cy="638280"/>
            </a:xfrm>
            <a:custGeom>
              <a:avLst/>
              <a:gdLst>
                <a:gd name="textAreaLeft" fmla="*/ 0 w 144360"/>
                <a:gd name="textAreaRight" fmla="*/ 137520 w 1443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144463" h="638175">
                  <a:moveTo>
                    <a:pt x="0" y="0"/>
                  </a:moveTo>
                  <a:lnTo>
                    <a:pt x="120385" y="0"/>
                  </a:lnTo>
                  <a:lnTo>
                    <a:pt x="120385" y="0"/>
                  </a:lnTo>
                  <a:arcTo wR="24078" hR="24078" stAng="-5400000" swAng="5400000"/>
                  <a:lnTo>
                    <a:pt x="144463" y="638175"/>
                  </a:lnTo>
                  <a:lnTo>
                    <a:pt x="0" y="63817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矩形 10"/>
          <p:cNvSpPr/>
          <p:nvPr/>
        </p:nvSpPr>
        <p:spPr>
          <a:xfrm>
            <a:off x="468360" y="3360600"/>
            <a:ext cx="4572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协助参与学校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组织的团队活动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树立正向的企业价值观，宣扬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院文化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级交办的其他工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2" descr="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356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4"/>
          <p:cNvGrpSpPr/>
          <p:nvPr/>
        </p:nvGrpSpPr>
        <p:grpSpPr>
          <a:xfrm>
            <a:off x="179280" y="554040"/>
            <a:ext cx="5940360" cy="690480"/>
            <a:chOff x="179280" y="554040"/>
            <a:chExt cx="5940360" cy="690480"/>
          </a:xfrm>
        </p:grpSpPr>
        <p:sp>
          <p:nvSpPr>
            <p:cNvPr id="63" name="TextBox 8"/>
            <p:cNvSpPr/>
            <p:nvPr/>
          </p:nvSpPr>
          <p:spPr>
            <a:xfrm>
              <a:off x="363240" y="554040"/>
              <a:ext cx="57564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cc00"/>
                  </a:solidFill>
                  <a:latin typeface="微软雅黑"/>
                  <a:ea typeface="微软雅黑"/>
                </a:rPr>
                <a:t>试用期考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单圆角矩形 5"/>
            <p:cNvSpPr/>
            <p:nvPr/>
          </p:nvSpPr>
          <p:spPr>
            <a:xfrm>
              <a:off x="179280" y="607680"/>
              <a:ext cx="144360" cy="636840"/>
            </a:xfrm>
            <a:custGeom>
              <a:avLst/>
              <a:gdLst>
                <a:gd name="textAreaLeft" fmla="*/ 0 w 144360"/>
                <a:gd name="textAreaRight" fmla="*/ 137520 w 144360"/>
                <a:gd name="textAreaTop" fmla="*/ 0 h 636840"/>
                <a:gd name="textAreaBottom" fmla="*/ 637200 h 636840"/>
              </a:gdLst>
              <a:ahLst/>
              <a:rect l="textAreaLeft" t="textAreaTop" r="textAreaRight" b="textAreaBottom"/>
              <a:pathLst>
                <a:path w="144462" h="636587">
                  <a:moveTo>
                    <a:pt x="0" y="0"/>
                  </a:moveTo>
                  <a:lnTo>
                    <a:pt x="120385" y="0"/>
                  </a:lnTo>
                  <a:lnTo>
                    <a:pt x="120385" y="0"/>
                  </a:lnTo>
                  <a:arcTo wR="24077" hR="24077" stAng="-5400000" swAng="5400000"/>
                  <a:lnTo>
                    <a:pt x="144462" y="636587"/>
                  </a:lnTo>
                  <a:lnTo>
                    <a:pt x="0" y="63658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矩形 6"/>
          <p:cNvSpPr/>
          <p:nvPr/>
        </p:nvSpPr>
        <p:spPr>
          <a:xfrm>
            <a:off x="395280" y="120024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-08-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-08-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505480" y="237960"/>
            <a:ext cx="3132000" cy="2511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" descr=""/>
          <p:cNvPicPr/>
          <p:nvPr/>
        </p:nvPicPr>
        <p:blipFill>
          <a:blip r:embed="rId3"/>
          <a:stretch/>
        </p:blipFill>
        <p:spPr>
          <a:xfrm>
            <a:off x="171360" y="3078000"/>
            <a:ext cx="1913040" cy="153036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5"/>
          <p:cNvGrpSpPr/>
          <p:nvPr/>
        </p:nvGrpSpPr>
        <p:grpSpPr>
          <a:xfrm>
            <a:off x="2195640" y="3260880"/>
            <a:ext cx="5317920" cy="637920"/>
            <a:chOff x="2195640" y="3260880"/>
            <a:chExt cx="5317920" cy="637920"/>
          </a:xfrm>
        </p:grpSpPr>
        <p:sp>
          <p:nvSpPr>
            <p:cNvPr id="69" name="Rectangle 10"/>
            <p:cNvSpPr/>
            <p:nvPr/>
          </p:nvSpPr>
          <p:spPr>
            <a:xfrm>
              <a:off x="2411280" y="3402000"/>
              <a:ext cx="510228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cc00"/>
                  </a:solidFill>
                  <a:latin typeface="微软雅黑"/>
                  <a:ea typeface="微软雅黑"/>
                </a:rPr>
                <a:t>新员工入职培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单圆角矩形 11"/>
            <p:cNvSpPr/>
            <p:nvPr/>
          </p:nvSpPr>
          <p:spPr>
            <a:xfrm>
              <a:off x="2195640" y="3260880"/>
              <a:ext cx="144360" cy="637920"/>
            </a:xfrm>
            <a:custGeom>
              <a:avLst/>
              <a:gdLst>
                <a:gd name="textAreaLeft" fmla="*/ 0 w 144360"/>
                <a:gd name="textAreaRight" fmla="*/ 137520 w 14436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144462" h="638175">
                  <a:moveTo>
                    <a:pt x="0" y="0"/>
                  </a:moveTo>
                  <a:lnTo>
                    <a:pt x="120385" y="0"/>
                  </a:lnTo>
                  <a:lnTo>
                    <a:pt x="120385" y="0"/>
                  </a:lnTo>
                  <a:arcTo wR="24077" hR="24077" stAng="-5400000" swAng="5400000"/>
                  <a:lnTo>
                    <a:pt x="144462" y="638175"/>
                  </a:lnTo>
                  <a:lnTo>
                    <a:pt x="0" y="63817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矩形 12"/>
          <p:cNvSpPr/>
          <p:nvPr/>
        </p:nvSpPr>
        <p:spPr>
          <a:xfrm>
            <a:off x="2454120" y="386568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-08-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2" descr="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35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4"/>
          <p:cNvSpPr/>
          <p:nvPr/>
        </p:nvSpPr>
        <p:spPr>
          <a:xfrm>
            <a:off x="0" y="336600"/>
            <a:ext cx="323856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4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6:54:26Z</dcterms:created>
  <dc:creator>Administrator</dc:creator>
  <dc:description/>
  <dc:language>en-US</dc:language>
  <cp:lastModifiedBy>Administrator</cp:lastModifiedBy>
  <dcterms:modified xsi:type="dcterms:W3CDTF">2015-01-14T07:08:58Z</dcterms:modified>
  <cp:revision>4</cp:revision>
  <dc:subject/>
  <dc:title>幻灯片 1</dc:title>
</cp:coreProperties>
</file>