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A96-1C35-4FF7-B493-F7FBD242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ABAB-469C-44DC-98FD-49CF334C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CFD-B418-4615-8C82-953F4181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89D-A728-4BE7-A970-F13ACEDA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8DAC-9A9C-4B1B-80A9-BC43F420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7109-EB90-4A24-8CF2-BBB02905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7497-502A-49F6-87AB-6F3F18D9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D13-EF85-4083-AB94-78DFFD4A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4A5-FDDC-409D-855B-13106818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2197-3D52-413C-BF66-D08B0618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68FE-FA0C-46CE-A8AC-F8CA5019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0F2A-3A73-457F-A299-6FC59E4F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未标题-1-02.jpg"/>
          <p:cNvPicPr/>
          <p:nvPr/>
        </p:nvPicPr>
        <p:blipFill>
          <a:blip r:embed="rId2"/>
          <a:srcRect l="0" t="19983" r="0" b="0"/>
          <a:stretch/>
        </p:blipFill>
        <p:spPr>
          <a:xfrm>
            <a:off x="1440" y="1370160"/>
            <a:ext cx="9142560" cy="5487840"/>
          </a:xfrm>
          <a:prstGeom prst="rect">
            <a:avLst/>
          </a:prstGeom>
          <a:ln w="0">
            <a:noFill/>
          </a:ln>
        </p:spPr>
      </p:pic>
      <p:pic>
        <p:nvPicPr>
          <p:cNvPr id="1" name="图片 6" descr="未标题-1-02.jpg"/>
          <p:cNvPicPr/>
          <p:nvPr/>
        </p:nvPicPr>
        <p:blipFill>
          <a:blip r:embed="rId3"/>
          <a:srcRect l="0" t="0" r="0" b="82213"/>
          <a:stretch/>
        </p:blipFill>
        <p:spPr>
          <a:xfrm>
            <a:off x="0" y="430200"/>
            <a:ext cx="9142560" cy="122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0705BF-35B2-43E9-82D9-F6BC1B6C348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DD332-C6F8-49BE-B679-06545117C6E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未标题-1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7" descr="未标题-1-03.jpg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2:19:00Z</dcterms:created>
  <dc:creator>黄蕊 1</dc:creator>
  <dc:description/>
  <dc:language>en-US</dc:language>
  <cp:lastModifiedBy>ztc</cp:lastModifiedBy>
  <dcterms:modified xsi:type="dcterms:W3CDTF">2013-12-02T13:25:01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