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sldIdLst>
    <p:sldId id="256" r:id="rId39"/>
    <p:sldId id="257" r:id="rId40"/>
    <p:sldId id="258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933-1FFD-4EA6-ADF8-23AC0570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0060-9383-41C6-A08E-E903161D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59141-2CC4-4456-8381-BBC4C406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AF4C5-1EF2-41FE-A8EC-6227EA9D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C78D4-FF6B-429B-A14D-5F845675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CBF939-3FCD-4EB2-9B35-3FB9384B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1FB4AF-6955-42C1-BA18-D7E48E66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0959D-C78C-4773-B798-D51DC8F6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F7D92-4B40-4AB0-92C3-CA9135EB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39ABA7-5467-49C6-9CA8-BAE91840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5C6D06-B3F9-48A7-8BB7-08B16B00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7797CB-77AC-4D94-92A6-699AD720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6EEB-EBCB-4489-8857-9C56F997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B99A14-AA40-4B2E-81DE-5BAAAB2E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C0E69-6260-4E54-ADA7-FD903B22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1DB5AF-74F5-4C30-9343-ECEE084F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BDFAD-87F4-4A19-A5F5-5FE7AD9A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3E8B2-CD29-4A6A-B84D-CBFD5D7D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740351-3F78-4527-B9D3-6567802D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1EA301-1F2E-428F-89F8-2F90EB39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2CABD-7625-4BFB-B761-7A53D9B1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13F81-DF23-4B7C-AA05-4B7FC338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5669B3-E599-4B32-BD02-C2A84EB5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988-B45C-47B3-BDA2-9F6F6C97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07794F-F4B9-45E6-BB8F-C9F9D694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A1F929-31D9-48FC-B5DB-A83CF238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B73A5C-971E-4B96-94F4-D6697D2D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1F47F0-9942-417C-BD5E-C13A08D6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02E08E-ABB3-4D2A-9707-1A0F744F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AE7E15-65F2-4EB8-A16A-CDBE8562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80D7A9-708C-4E1E-B82E-4763CE85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7B2BD1-AC68-47FC-82B8-C4D396C2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E1C338-AC37-4A0C-83AC-76F23B7A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F785E7-9152-4EF4-8695-CB0DCDC6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05E57-D481-48F8-9AC9-2A00A14C82B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DA8CA6-439C-4C66-A2DA-71754F39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A6DC5B-BD68-4849-BB31-AED4EC2F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770E64-7900-46BE-8EC2-497B2AB2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E0B14A-E6E3-4908-ABFC-68A73A4C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3FB8FA-94C2-4B09-8A85-E77CD564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5B4C0-0218-43D7-BAE7-DE3AD66B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43FB53-070F-4E10-984C-6FC9E0D1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C0C2E-556A-41A2-A5FD-E7A0A3AC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FC2095-CCA7-4ABC-91D7-76616817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3315D7-C3C4-418A-B5D0-79D1A9DE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FAFAE-6632-43BF-BCA0-843639F3337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A1C629-E002-42F4-9CC2-D2B3D92F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A5C8E9-8EA8-4434-BCC0-4ECDBF0E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52CA48-A39E-4034-9C5C-028A44BD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8DF4BF-F4D4-4240-A6CA-699F6BA5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4DC81D-D5E0-49F0-8A8B-05E53DCB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351C8F-374F-426E-A01E-756BA463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D17EAA-7619-49E7-BCFC-5F4A826D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D4A0CB-00B1-4253-8983-5B234585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8CFE432-4F33-4A85-9017-34798482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9EEBC2-6C31-4855-9A85-3BFC20A6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96652-76AF-494C-8985-55F080DA87A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83F921-49FE-45BE-A1BF-B532DA98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DC4E1ED-7098-4D36-9C4F-34EC1A1A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747F1F-D578-497E-9B0D-03B4EE15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AEB305-8FF1-4BF4-B9D2-6A2E66D9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BBBE46-7E6F-4766-98A6-7C2EB0FB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420145A-5B12-468F-A761-24C23F4C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A7AEEA-CDBC-41AE-B0C5-8F063D3D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AF73605-AB03-45C5-98E8-3D888742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B589B9D-A410-4D3C-9318-1DD8E651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98C4384-9FEE-4599-9316-AC0F4E94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428D6-1584-435A-A9A6-7D4AE5846D3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ABE6CC5-857C-4F01-BBF2-8FA4B0CD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6AC5EEC-CEC3-41FF-B82B-643CBD74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14DBF34-C9EA-449A-8943-914D5384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41F65BE-D7C6-4E47-A884-9FCEF34B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57F8D0A-F5A5-48E4-98DC-13EFF0CF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6D3B641-9FBE-4999-91B3-9311B32F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655F88A-8A05-45D2-821E-C110D215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64C18A-6321-490F-AD5F-D490D0C8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E4A847A-0980-4110-8A3E-245D8C3B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7ADB162-9885-4D69-A45E-D3554AB4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87101-9BE9-4BFD-96F6-0E15975D639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13EBA33-0033-4023-9134-592D857B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AAFAB28-E723-49A9-B51F-409F9327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630C352-7F90-4959-865A-956D86AB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A0DBF48-9953-400D-B192-2F94482D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6BDF691-0C1E-440E-A2D9-90BE846D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06903DC-7808-424C-8C4E-8A4B65A8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4BA0C2A-C56B-4646-901B-29CF4732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9B3843E-C350-43D6-9CC8-D4A96CC5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720F5BD-3C2E-49C8-8D9D-B1C31D4F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C09B1F0-D149-4A84-8ABC-DA0430EE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F6BB5-B703-420E-88ED-2EE5579EA1C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F09F202-BBC4-4808-A45B-B783FEF3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8AAF646-601A-4D74-BC5C-91C2D80B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8CA8308-CAD2-457F-9579-9A36E4D9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55120B4-07B3-4579-8C7C-D4296A51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625B304-6B55-4C9F-8126-F8318900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D8897B2-EFA4-42F9-B489-F13CC9D4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0D216AE-F473-4DE1-BA47-DA6E5A74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96F93AD-C107-4F7A-A3F8-DE26582F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543127A-6D48-4CA0-A747-07ACFB02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38D467-97E7-4CAE-B8A7-933F16EF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8594A-E21D-41A0-814E-2A070444826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C27344F-2AF6-4CC4-B567-247795E4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4E0CD73-B10D-4BED-82FD-003375ED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74E18AA-E693-423C-97E1-569A7385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409EEC7-52AD-40D5-9A58-C053860D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9ADB622-6E66-42CF-AE0D-57D854F7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B121F47-24B9-48D8-83A3-27B24320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6CD3D0C-70E5-4785-B205-F38076BF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9E86240-6F23-4A94-BCF5-DE705848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F841C63-1614-448F-821E-D0B50786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295B6C2-DF89-49C5-A2BF-FC0C8C2D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773-9E35-495F-93BE-BC5C25D7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324A0-E67C-42A9-9569-9CA04FE495A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F3592CA-AC28-4892-B6DA-F6557826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E5F500B-E4C0-4FF2-AB8F-338B44C8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45BA194-3286-41E4-B401-B9125C13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8D1D261-633A-4A93-AF13-8A42909D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19270D9-C937-4E41-BFF8-B5322C32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C3F2982-AD34-4622-8026-37433CCD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15C052A-67FB-4423-8D75-FEE7A2FD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CA62E88-3903-44DE-981B-EA00D84C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7DB30B7-4BA9-4DC7-B71C-00307A9A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0E34598-C580-4EF7-AE6A-4EB37F85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15241-24D8-4B65-A6A5-7890DE1CBCF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6D28CC2-7A78-4A91-B7BD-D998A445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0175CA2-B86A-4CA5-A473-563C8BEE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BEC9B96-01EA-4BD8-A039-EB0FBD73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89EB7F6-B3BA-4C17-89E2-72962AB5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87F8FDE-02F4-4ABC-8F7D-03F50CCF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640600F-DF3C-4470-8B7A-70835CEE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7AAA4D7-D7C5-493C-95E8-F3CFCF1D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4365A9D-FB55-47E8-9E01-C6D7BABD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8634420-A301-4636-B819-934AE08E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F75105F-C1AF-4BBF-BD45-886197DF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5CD82-C3EC-4C7B-92D7-4AAD33C12EA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F07ABFA-ACB8-43B3-97A8-62432943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780024B-A1FD-4C60-90B2-370B52A7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F420A6A-E03D-4F28-8D4F-E34D28EB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2AE824E-1A65-4F23-95E0-57EEFF9A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DE44518-C6DB-41E8-A4FE-9EBF50F3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F10D1D0-1042-4075-A9C6-F37DBA21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FAA17E4-D399-4485-B066-AA2342C4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6BFE991-6397-4EB9-872A-55664472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3F10375-F223-480D-9261-B12602C0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5EC0AA7-391C-4BAB-BDB9-5E35E54B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6E5BD-2F10-4A42-99A2-1616204039F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70610F2-4176-4C7F-8374-99D24F3C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C0EF612-6C49-4E30-9C4B-C01A071E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69390DD-B07B-4FA8-909A-F99E65E2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C24CED0-7FD6-4495-91F7-DC0230E4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74FC51C-13C0-4AC5-B4A7-573F5C0E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CF5AD32-213B-4EB1-9BC4-081FD43F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F78D99A-1E6D-4C61-84B8-84391623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ED1DBF0-9CBB-4A4D-92EC-41F9A1FA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CADFA57-9F46-4139-B2E4-6CF9C5DC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E317103-F97D-40A6-88EE-6C35ACF7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1EA90-8A92-4F9F-AFCC-7A99B750E6F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B9E2C22-DADB-4C01-A3DF-342C2379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75ACE5B-F420-4BE3-8FBC-971941B2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D880DA6-D348-4F02-BB6A-8AD32C5E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88C5B81-31AB-4A02-8B1E-04A65A10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C17E48C-E03F-4DE5-9239-23281778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C8C76B4-07B0-4BA5-ABDC-8C7E4D93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48B4739-F54F-46FC-8E2E-6B43429D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E44A732-9413-428D-8877-8ECCF5C1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9F72F39-EC09-41F6-A2D4-429BD56F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F4AA522-758C-40A9-BBCD-4EB642D8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44E5C2-6501-4E4E-8248-1C48B2182DE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D1888FA-2B4B-48BA-9A6E-5C8607D1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76758A8-03CB-4856-A0CC-4589FCC7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4F50E19-6169-4811-87BA-79E8EA3B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C816C26-A222-4444-A267-4730F188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499588C-2DD0-4464-8C8B-FC0AC528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79FFB4E-47AF-440C-ABFB-ABEA8CAC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9D03B17-3724-482C-8E9D-D30F08B0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B61A7ED-98EA-499D-B52A-74DE6E2B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CB2C1B9-072E-4F04-807A-D67A675F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3224622-9B12-47F0-8301-CABC122B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B52663-D37B-4074-B1FB-41D2EA0EDA3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6251A2F-083B-40B6-BE7F-10BA3C5C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1353369-27A0-4FA7-9B76-5921848B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9301FE6-BE5A-443B-A49D-40708A72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24DD071-368B-48AA-89C5-A712E67E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DEADC8E-3AB3-4FA9-B3CF-E0DDB448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2278239-1508-477F-8AF0-54B9554C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A5433F7-F322-4C96-869C-E8E8FFC7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930B450-9B16-4995-BF33-C1CC5BFB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7D413A2-6DCA-41C4-AE0B-B64B9004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71AB50E-1A0B-4F2C-9832-01A3E799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A2FDBC-EADB-4370-B1A0-2BE25716ACD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B7FBAFF-5BB3-4747-96EF-41626B34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6FDA862-238C-4C82-B685-66E7DA31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B88B55E-0119-4D9E-BD47-DBD41662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2119110-2999-4156-AC36-18BD94ED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575D774-5D1D-431F-93C1-BEA5AF7B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03ED0FE-BF55-4A64-B1D1-CEAB8535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8090B14-7717-49AC-B1E5-D0BE8508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0AFB5C5-0B8A-42B3-8FF2-CB42631F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52C757A-7C20-4DA8-B5EF-C403973A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9605ADE-9214-4A60-B25B-52B1C93E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E19132-3F9D-4C55-A622-52659F134FD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B07F701-0259-410B-9C26-9218E384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B7A8761-6ABD-4C1F-A775-1858E6E9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F172028-9C1C-430E-B61F-42D83BD2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1F2C917-EE64-4344-BBF6-99DBF79D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45C6DF7-ADEE-4BAA-9353-2D1595E8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A6962AA-BBCB-4259-893C-3009BF1A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0F4B5EE-3C3D-4A9A-AAF4-337C5609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AA275E5-A906-44A1-9C09-95A9DCC2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90E9887-81E9-4B30-AA1D-7B4E1A02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529104F-D37E-4D1C-B05E-A58EB95D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81EA04-1CB4-4016-828C-2E41D612091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A63E556-51FE-4764-A36E-2858FAE5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C994C31-7485-42C6-AC52-4C16AF91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A633F7A-6044-4013-BB79-FBE00A58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DFAFC02-2EE4-4A8F-80A1-5146C115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16BE28C-CA7F-4FDB-B5BA-E3CB8A63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5C86879-BA09-4C8B-A43D-A3FE1330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8EC7AE7-6663-4569-827D-FE17BE2B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D4903AC-D655-4C8F-809D-278A3AFB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67601BA-4B2C-4284-999F-A6B261A2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921B2CD-8152-43F6-AD5A-F92FEF1C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1FE-F258-4AA0-8891-42794824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5A7A25-CDA6-4A7D-8A86-CCEB18F588F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3215D93-64C6-42A7-9F5F-5F85B2C1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F039E69-D88B-46F1-A646-8A90622B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1F713B4-476C-4B03-9E9E-4BC03F2F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0977E9D-1BD9-4A43-B6B4-B27AFA1B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BFAB29B-6D99-4E23-91D2-FC951E89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C0F25A3-24D7-415B-B171-391063CB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5277FC0-D0C8-4CE1-8B5C-BCBB759A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1540B44-356B-473F-9E19-A6135C71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C9D3281-B3C1-4076-B483-51FE8F77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93BE88F-71DC-4E95-8FE6-0FD49CD6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B34CB5-F157-4B9D-97E7-E1E017B24F6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790C988-85FA-43C1-93AF-9245EFB8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37026D6-12FE-4DA4-9211-A69A29E4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C8DCC30-9B3B-4B84-9EF9-27BC95C9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1DD95E7-80C9-4E6E-9914-346E8770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66E81B5-3094-48B1-B1A3-AD6307E8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42458A3-5BBB-4D0A-BF4D-50CDB0EA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21BB3D2-4C97-4989-A7B0-FFF78C6B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8B9AE01-CB11-41C2-84C3-5450AA6F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A398F51-849B-4F53-A367-78E250E2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3534D9B-B0DB-432B-B8D3-7FCA0F85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16BB95-78AB-40A8-93DC-EF41CE04AFD8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902C645-A4A3-4049-A64E-000BDD79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3766B6D-C923-4A82-A64A-E268CF3E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975A027-D298-48B2-8672-F6E249F2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3C72AFC-2951-44E6-B3D1-A95F2578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B4F5DEE-9074-4D17-A1B0-8D3825DD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36AAE26-418F-425C-B2C5-A66E4F16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D9BB3B0-C37A-477E-8249-D770D89B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55BE648-E745-4C0F-9353-4E050B66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84D7F3B-4897-4419-AB82-45DA5A79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00DDCE9-F477-4B2B-B724-98F62794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4537B2-2BFD-462F-8C60-8904E28B65A5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6EA5740-1A00-4B9D-BA45-B1C1D942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53F05EE-8E32-4A67-A2D1-63B3E19A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3CF002B-5CBE-4B02-8C28-35A3FF20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F2A5BD1-FD5A-456A-A592-980599BD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425FFC7-8E15-4071-AA1D-FC14A3AC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C39A872-B32F-4772-A841-EDCCE466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FC82DFC-A6D2-4C26-872C-84EDAE83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580D0B7-42F4-4322-B50C-08E035E7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C2BF583-28FB-4061-91AF-3EA64C73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1BBA031-E7AB-41BD-B745-C27AE61B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9088FB-0111-4400-B4D4-E817F3DA1856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8953C33-822A-4CC7-AC25-5CE1826E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363B2C4-88DA-4BBD-8F1D-A772CBB4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733396B-8E93-4966-AE16-88550520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6F73AB8-DEFD-4FBA-8856-BB299DD5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9297931-E4D7-4BA8-8929-9BDD269D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20A36AB-1D33-42AD-AE16-DD221D58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72497A9-1ADD-41C0-823F-60D26138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4BABAA6-5670-4123-9AEE-5EF76604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C04BE0A-79B5-4E50-9153-2B17F665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DF02C47-F864-4DBB-8F78-53B22ACC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34D219-6AA0-44AC-92E8-5BD613662358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923D8D6-C8F7-4375-AEA5-DE044D30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F20E60A-9EE5-4C2D-AD68-B85FFBED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4E8AF70-7722-4389-9BBC-0D926F90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42010B5-B0B4-452C-8D9C-CEF90A17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A812DB2-702B-4215-92AB-E726286F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DEF612C-50F2-489E-8482-667757A8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7ABF501-39F3-4D77-86F4-FEAC88DF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51ABBC8-B1F7-4BBF-BA92-B00BF5A7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8D17C73-016A-40DC-B3A5-14C2FC0A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DFD4CBF-1917-4BA0-A98E-66F7F276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3515CA-311F-4CA0-BA39-631B5FCECB8C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897A654-A608-48D2-AFF7-22A09491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41A4347-7A65-491E-AF25-486AFC1A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72EBE91-B52B-4B6A-8CB3-6454E0EB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868F7A2-3B29-4002-A047-32B8961C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363E318-B869-40CD-9200-4C10FC0A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2AF1C5F-6C60-4B74-9199-DA778B3E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9B71BDC-FEA0-417B-95B7-536E4CCE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ACC9F7B-6402-425D-801D-B25BCB85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1419006-F771-449B-9405-986A8279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6D96EC3-7B93-40B0-B47C-9CC4B1F5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28B9EA-18BA-4C6E-BAE7-D2C7C55D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CEEC3D7-B45F-44B5-A5D0-244B27F2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D27FEAF-681A-40A7-BC58-2F4C1E31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6F22DE5-A9B4-4051-A2D3-6BF2BE8A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DF86309-55FC-44C1-9A11-D034E5E0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986DD27-237B-46DF-8FC8-519F1D5A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0335D1C-C42F-45F0-8805-19F59967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E381C85-9FB0-41FC-B64B-CA005314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BA5F7D0-E787-43D3-9A0A-32B647AA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9A584C9-D20C-4742-BFAC-3FBFF48C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9ED4F2A-7F47-4257-A5BE-A8079828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285B9E-13C3-40CA-87C9-32ABAC62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3D7848B-FDFD-4695-B8BE-1C8BEC0D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F58A652-8CAE-4890-AE7C-67F2720A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E6ED68F-61FC-4CF4-9261-05CD9F2C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F655DDF-368D-4CD9-B5EA-98AD7DEF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8EE1DDF-6AFE-4A58-A0EC-DA1E1A6E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5AC23EE-9C58-4749-B5BD-D082BD1F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E70FCFF-78A4-42CD-ACF2-E607D695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E672DEF-3D9C-443D-B113-96C1FED4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6E170DD-7D75-4D3A-A5A9-DAD63D12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FB5C5A8-E5F0-4D59-A65F-6D23A390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F59AE2-6E22-4E86-9004-BE35EC31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61D26EA-8DB3-49E8-B011-39322234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DE41F7B-E4B9-4B91-B58D-A3802545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F630432-7EAB-4BDE-B476-1C7A295B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3A8AE70-2FDD-41A5-87B9-D94A1023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16B6D65-015F-4588-A887-71A74199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BEE22F6-8951-4FD3-915F-6B9104F0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CA3CADD-ECCA-4081-A9BB-EF05AAE8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2DCFC2B-597D-4D3D-9C20-7F41C4EB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327A3DD-42F7-4173-846A-312B1196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00F9209-A863-40C4-BCC8-C157300C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B3B-937F-48A1-AFBA-CAC6EE7C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DE68AB-14E2-42E0-B5F9-5B497B94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CEA69D4-A32D-4CD3-AC32-E9BA7731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D1DDA4B-451D-40F1-865E-828C86AE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A9D40B2-BEA2-48D6-A9B7-07A3F9E8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4B88F1C-3B12-4CA7-A7FE-8A9D4A78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1ED18D2-D4AA-4500-939A-8C0FB86F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7DCE66E-D916-4188-B819-BF6404FC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99BF333-3E1E-4920-9F7F-7078A6C9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A881B2A-65EC-4A59-8192-F9946B4E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9FCB801-9F08-4FD8-B533-F4912BCC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3C686A0-6E9A-42F8-9402-FAA0810B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6FD841-4997-402D-AC2A-5E51DD5F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85F64A1-22A3-42FD-A020-96947E45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F592E37-C01A-4FAF-9149-7DD2381E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1FC3FC1-551E-48E1-AEA7-96E284A0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AAA9C55-CE3A-4CE1-95EC-CA14C455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15EABA9-4CED-4D45-B6F2-B40A0289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D43BF9C-6213-4AEF-8408-A34F783E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E1E4363-E2D7-4588-B0C3-55BCC77A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B91C434-E611-4ABB-B0A0-E6F6C820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FA4CADF-FC81-43CB-8420-99E93D2F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94B3306-9DBD-43CF-BC91-9DF9A802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4A5E8B-5A4F-4897-80CC-9BD14D79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54DE2A7-F535-4EC4-91C7-AD55A0D0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993CF06-BF67-4F60-8ED9-740DD6C3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ED9C3AA-6063-44B2-BF88-4BB6B4F5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7024E71-9EBC-469E-9F6D-EC2A3120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6A179B9-9379-4357-8AC5-B3C74436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310B1AB-1C57-49CC-B29E-EC59EC33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8D2BE96-E13F-40F3-9AF4-A93858EE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C1CF3FE-5FCD-47FB-AF93-3C6EEA49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3A75D5D-B4CF-4BBA-8E88-B2A3EB03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A3F2838-4B67-4590-B35E-1CCBBFC5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A42616-BE32-4334-B036-0F7169E1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D4DE6F2-3986-4CD8-ADE0-B4847C32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6C2C1BF-07CF-4508-9431-E233C83C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93F5628-E82E-47B7-B45C-DFD33AA5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EA03897-F142-4508-8353-A950A290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81E31CC-0636-49AC-B120-CBCCF1A5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429DA6D-23A7-4417-B0C0-389138D8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E0986E4-7D85-4310-B326-F8DE2D03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83041E5-3ACE-4404-ADBF-79269C36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AA2DFF8-F0C6-437C-B899-8701A52A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768F494-6DE6-435D-843F-8C65EE3C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8EEFDA-82AD-4C8C-BC01-F7046457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68ED6D1-1330-4E5F-8C8B-C8F4E048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4C9A9D5-7419-4E77-94C9-1C0BCB86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87D4682-0544-4358-8858-E9C1C0D7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BC9927B-53CB-4B7C-97B0-B167B9B0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717E2B0-17BC-4FE3-B82C-2E7DB63A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053190-BFC3-49F2-AE87-6A18846E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C1ECF7-A21B-44D6-B014-5144F2FC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571874-75CC-47D5-9F10-DA731264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1CE2D3-4C58-4B35-BD55-F5776D71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D152C8-378F-4A74-9D85-F250B31C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FF68-5144-4706-BDC7-360A9E9E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9EB097-916E-4461-B074-D9486135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66A468-7557-41AE-9EF2-55CCB41E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45EF74-4360-4E2D-A0F2-B907FE21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B50331-A64B-4505-A8DC-7E84D420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3ED3CA-C064-4934-AFDC-DE513398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EF61C-895A-44DD-8EB0-0D55A848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C9198A-90E8-444B-A082-0AB65129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8F6DC2-7318-452C-9B10-61E718A3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D9D8FB-4C13-44F5-B74C-98EB24C8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A1A400-956E-422F-BB2A-FAB99537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9344-F338-41D8-B5FB-8B8FD31F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5AC349-80BD-4CBE-90FC-AA0165D3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5348AC-3D96-46E9-B55D-36F8AF1D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8AA905-C603-4F6A-990A-C7E48404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66DDA5-62C9-42E8-BFE0-E63EC2AC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AB5072-9C21-4438-951E-6ACB8C8F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8637CE-AB50-4AA3-AAC8-0812E4AB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2B5D53-839F-47B5-883E-68A7A95D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ED54E7-DA05-4659-9C6C-C289A755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F4FEAE-F56D-4766-B63A-81E88E16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4617C4-8E50-4ACE-A9BB-D42ECE06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65D2-D636-4EEC-A9F5-C409536B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A94858-F2CF-423E-8334-6B6ACF14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F34A33-2AA4-49F3-B075-5F2E3FF8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5BC0FA-B7C3-48D6-A36E-23C87E04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9A25EC-2558-4CDF-9901-F9B508B0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47A259-EE15-49C9-91A3-346D05C2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F5ABE7-7AC2-4523-A2A0-EED414D8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28C724-C660-4D3A-A5D1-CC2BFEF5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682102-8B1A-4459-AF8C-C396A502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68ADFA-D800-46C1-89F8-431EF2D4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DE0439-0BE4-42B0-B8C0-23304AF9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1E26-43CA-4CC8-AFA7-6EEDAF29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74C41C-E3A9-4E51-B964-7E4A5EE7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906D61-49C1-4360-9475-CB53C865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9AC42D-966B-4278-BE02-725C55A1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C0CB4C-D813-4358-AC8B-8EDF8097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4BC5D8-3FA1-48E6-BED9-6E268C3C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68D1CF-56EA-480C-9E60-0BF43710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9000DE-C157-4CD6-8E67-6FB073F8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B1754B-6B0B-455A-B188-62863D00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22E22E-F667-44C7-B694-96A84113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8CD973-D350-40AB-96E5-FDE224CB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9E16-6A81-49AB-B959-2E6ECB17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355EDD-DB21-4F38-995E-21EBACB3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B39D95-BB5E-4C27-8ADB-1250BEC3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78D399-03AD-4802-A4B3-3E189211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94887E-B9D4-4519-BAF7-CC706ECD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974810-CFB1-439D-BE95-A3206704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08941D-2600-48CB-9809-EDA27635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A6C6DE-E8E1-49F4-8733-4C15EF8B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6874A3-288B-4051-B1F4-7F94A9D6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E17FB7-09D8-42AE-B1D1-FD8370C6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7FC57-42E9-409D-ADA8-25BF4311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89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F502-1068-4D5F-86F3-5261730577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5" name="Group 190"/>
          <p:cNvGrpSpPr/>
          <p:nvPr/>
        </p:nvGrpSpPr>
        <p:grpSpPr>
          <a:xfrm>
            <a:off x="123840" y="6489720"/>
            <a:ext cx="2376360" cy="252360"/>
            <a:chOff x="123840" y="6489720"/>
            <a:chExt cx="2376360" cy="252360"/>
          </a:xfrm>
        </p:grpSpPr>
        <p:sp>
          <p:nvSpPr>
            <p:cNvPr id="6" name="WordArt 188"/>
            <p:cNvSpPr txBox="1"/>
            <p:nvPr/>
          </p:nvSpPr>
          <p:spPr>
            <a:xfrm>
              <a:off x="123840" y="6489720"/>
              <a:ext cx="100800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7" name="WordArt 189"/>
            <p:cNvSpPr txBox="1"/>
            <p:nvPr/>
          </p:nvSpPr>
          <p:spPr>
            <a:xfrm>
              <a:off x="1058760" y="666900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926A-3D55-4179-BA0D-26330F7E43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16A7-0548-4282-B54B-36CA0D9BC8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D25F-3891-41AA-8502-A049351EE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7D80-9C03-48F4-AAF9-1E1865677F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EA75-B38F-4F4E-A004-7FB4C6CECC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AD00-59A6-401B-B87A-A5CA0F8590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2C5D-90CB-4926-B5F6-EE4D200CF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687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5502-1FC0-47F6-904C-E13F5F036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731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dt" idx="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ftr" idx="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sldNum" idx="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267C-993E-417D-A31D-09BA3CB39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775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5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6CAD-C883-4B52-A224-226937227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8EEB-4D96-4ED8-BA71-B6AE589111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48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819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82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5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5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5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65DB-77B0-49DF-805F-E84434960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863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86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dt" idx="5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ftr" idx="6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 type="sldNum" idx="6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8DB7-B707-4D6E-91F2-B36458EFA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07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6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6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6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BC7A-1589-4F4E-9666-0145FF16B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51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95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dt" idx="6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ftr" idx="6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sldNum" idx="6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11AE-AD21-4F37-B275-5F1C037F4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95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99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6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6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7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F7CB-E922-4623-A85B-2A0F80714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39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7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7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 type="sldNum" idx="7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FBBC-4E20-4F15-95C9-21CA64C00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83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0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7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7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7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96D0-D320-4589-A62C-72483E4C4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127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7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7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7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F4A0-6CAD-4CA1-9D1C-2B3584553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 type="dt" idx="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 type="ftr" idx="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 type="sldNum" idx="8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AE27-052C-4B38-96C7-7201D1D72E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 type="dt" idx="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 type="ftr" idx="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 type="sldNum" idx="8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0A58-807C-4F79-B698-CE5E82D1556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4739-D5F6-4E27-BF78-3AA22B00B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1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dt" idx="8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ftr" idx="8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 type="sldNum" idx="8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C731-70B8-4FDE-8CAF-5533E63237D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dt" idx="8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ftr" idx="9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 type="sldNum" idx="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B34F-AF7F-4B1B-B7F6-A4E70492D6B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 type="dt" idx="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 type="ftr" idx="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 type="sldNum" idx="9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4EBF-1CC8-4152-80E9-DD1DC447D98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dt" idx="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 type="ftr" idx="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 type="sldNum" idx="9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64E7-2232-463D-94FE-D4EBEAC7B9F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 type="sldNum" idx="1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11BC-20A3-4FCA-AE7B-B23F5835F8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1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0F47-792D-40BC-940E-F3D213B4DE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 type="dt" idx="1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 type="ftr" idx="1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 type="sldNum" idx="10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329C-C00F-4A32-B9E1-0D517BB6D0F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1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1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10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96DA-1E82-4347-AB86-BF33781110C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BC03-97C2-4397-B7A5-F6A0742CA65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00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WordArt 183"/>
          <p:cNvSpPr txBox="1"/>
          <p:nvPr/>
        </p:nvSpPr>
        <p:spPr>
          <a:xfrm>
            <a:off x="595440" y="476280"/>
            <a:ext cx="1152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Impact"/>
              </a:rPr>
              <a:t>' LOGO '</a:t>
            </a:r>
            <a:endParaRPr b="0" lang="en-US" sz="14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457200" y="1589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DEA5-31F3-4E4C-AF4A-B940EBFDBC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4187-40C8-4C87-A8E2-A55A43D7C6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CC70-D64E-4F68-A64E-79F4174F6D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7C5E-BA57-4A92-ACD5-6563C8563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ED44-B068-4613-AFEE-075A6B3304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WordArt 8"/>
          <p:cNvSpPr txBox="1"/>
          <p:nvPr/>
        </p:nvSpPr>
        <p:spPr>
          <a:xfrm>
            <a:off x="179280" y="210960"/>
            <a:ext cx="5472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e1f00">
                      <a:alpha val="50000"/>
                    </a:srgbClr>
                  </a:outerShdw>
                </a:effectLst>
                <a:latin typeface="Times New Roman"/>
              </a:rPr>
              <a:t>CLICK TO EDIT TITLE STYLE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3e1f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WordArt 12"/>
          <p:cNvSpPr txBox="1"/>
          <p:nvPr/>
        </p:nvSpPr>
        <p:spPr>
          <a:xfrm>
            <a:off x="179280" y="155520"/>
            <a:ext cx="5472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e1f00">
                      <a:alpha val="50000"/>
                    </a:srgbClr>
                  </a:outerShdw>
                </a:effectLst>
                <a:latin typeface="Times New Roman"/>
              </a:rPr>
              <a:t>CLICK TO EDIT TITLE STYLE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3e1f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2" name="矩形 5"/>
          <p:cNvSpPr/>
          <p:nvPr/>
        </p:nvSpPr>
        <p:spPr>
          <a:xfrm>
            <a:off x="108000" y="6597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6:36:06Z</dcterms:created>
  <dc:creator/>
  <dc:description/>
  <dc:language>en-US</dc:language>
  <cp:lastModifiedBy/>
  <dcterms:modified xsi:type="dcterms:W3CDTF">2015-02-09T08:28:0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