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81146-997D-4DB1-AE2D-F45494C7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29B84-CB1C-4414-A185-82B83BCD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571B8-9C72-435E-85ED-CB947431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A2BEB-2C5B-491B-A1AE-39E893DD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51194-174E-44E9-994D-03DB60F1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5D167-4C35-47DE-AF0D-3B87D8D9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B9F7A-563A-494E-8EB9-6A2DB5F6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C0C24-507C-4102-848E-F3A34619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78351-D60D-40AB-9E79-CE55FEDD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9F1BD-0522-42B1-B34F-D48A80C4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86C75-91F5-4A88-88BD-1FD3977D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A9C3C-C80E-4598-B879-CB7EB82E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D2B57-DF96-4077-8B18-ABB2676D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9F225-49D7-44AF-AC68-229C0701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D59C6-E40E-48E9-89B3-A0BA0506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6C94E-207E-457F-91FE-D67F249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4237F-FC0E-4950-830B-AEA00C5E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0A60D-2CC3-4253-93D9-81705504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6E91E-B9B3-4151-9158-B300A66E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9DC4C-62E4-4345-9A99-D3C9AEDB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38F87-DFA8-4EE5-ACCD-AE40B538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9F8-77B1-4BBD-A68C-1A0CC23A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774DD-590C-4A0F-8F72-ADC90726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B6369-49B2-4781-891C-98F50146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5CB26-F90D-4446-875B-C837B370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CD0AB-5891-4F22-8455-860155F0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307EB-D7F7-4477-AA0C-FAA61CA9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DE4EF-56B1-422C-B932-5261655A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3462B-16C7-467A-97A2-D093A10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88B-83BF-4308-AA31-D4610AE4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A3D6E-83DF-4C43-8F1A-FF52EB6E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3FB1D-7FFD-4B94-8483-CD407023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2525C-D405-4844-B9CA-91138444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7442A-8741-4493-BBEA-DBF7E07D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1DE6D-933C-4964-A89C-4724FB73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C53-10E8-4B8A-92E3-B837ABB6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2751A-727E-456B-930C-28BD01BE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378D9-C7CB-43FB-8F8B-E43D860D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4DE5C-E78A-42DC-906D-9520470A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AD8-8366-447A-995C-58B27D69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C960C-9069-4B74-A281-7CBA4907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81F14-1F04-4BAC-8FE2-A2DB43F6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62BA5-7BE9-4AF4-9C50-947DB642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21980-D101-481E-A60B-6366AD1B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8D50E-AE02-452C-B2A0-E35C91B1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E86C2-07D4-4023-BC57-817E6F8F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FC7A8-505B-4697-BFD2-685C5FA8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0548A-56C0-45A9-8985-E572D1C2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EF75D-36F7-4FBA-AF41-2252F7B7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4FF85-E397-4E53-A89A-8111C8FE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DEF-690B-4A95-8264-7AFE8C67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CA78C-4DAE-4684-86DB-8C3FA069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2A870-B565-491E-85CF-9EF4D587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D425C-4B73-45FB-98FD-C13A7D53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53DA4-408B-4A98-BF3C-38752CA5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7F328-38F2-45B9-B3B2-A5298C20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F55FA-78B5-4ACD-A5D8-5F54B8DC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CD787-E8C4-42C6-BACF-A66BB07F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C7D94-2420-4922-A8BB-AA968221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6B0D9-6722-4ABD-9C31-3595C9CB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2F148-8841-4BD8-A672-E06F376A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F4A-D627-41FC-8CBB-AA6F0483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CE409-B3B8-4541-B570-903570D4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04D-703D-4567-A901-0E77B411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1F653-3173-4AD6-815D-18E27CFF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4B9E8-9B55-41C9-8F7E-86DF44A6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3EDB0-32A6-4E0B-8CF9-B68C4140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DE185-E387-4312-97DF-E7C2CE50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33D52-F26E-4947-A9B9-35E1162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10C4D-4A90-4CFD-9A33-99D37EDB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D12FE-3DB8-4BC6-86D0-14B95D43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8C0-B693-412C-B1E9-ABAC52A4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D5811-B3A7-4264-8A1B-E6C3ECD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4FE28-4905-403C-B2D7-DE0901A3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E7FC8-A019-4D5A-B43A-DB53EBC0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47042-BB71-41E0-99C9-54D40DC6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2EB34-4F5D-441A-BC02-34500B08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7C214-E4F2-4424-B22C-B52AA9D4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D2D30-BCF7-4B6D-B7F2-238D7A09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AF0B9-7532-4071-811D-A82DA1A8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8074B-A03C-4F1E-A8A4-81F544CA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9DFE9-71AC-44EF-BB57-32F1045B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FDF-988C-4951-B787-47726E42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6699B-578F-427B-9FA7-8BD1D09F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364FC-B718-4CAA-87C8-9EE30AE2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583FA-DCCA-4B45-99FF-645D5EF8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65202-EEF1-43E1-9637-B6E65E1F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2B0BC-AA14-4D89-B2B5-E4130BAC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CC41F-985B-4BE2-A026-A4E0DA72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07FBB-E9CC-48D8-BBE9-287DB3E9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D9590-1BE2-4745-80FE-B7A6E203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95DBB-1D4C-4AD5-B170-767228AD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8D191-7B27-47E6-8B6A-E5339077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505-3F23-46F2-9DBF-0E543D4D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BE75B-5959-4A6D-A820-035E8663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D3A2E-065F-4896-B162-9385DC6F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10519-A314-4FC8-8C76-B4981614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81CFC-A713-4001-8FCC-482A2F6C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772EC-0BB1-4199-9CA0-75DA7CB0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DD5C0-0C1D-4CB5-BA70-99C211B6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7B741-ED18-44BB-94FB-C363D7FA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F19BA-4D3B-4DB2-9587-523DDE94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8052C-2490-44DF-8CFB-59C4CEA2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76B26-7769-42A4-BB6E-6170016C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DE4-B2C9-483E-AAD7-B4DF1166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9D718-DDC5-4B7E-BCFB-9AF52A89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6CD90-189E-4464-9EC5-D7580EDD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E8D34B-4A4C-4641-AC28-3B6FC810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178058-DBB9-4E09-BB8D-645178E0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BA073-A004-41A5-A7D4-E98282DA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6CF6D-1FC9-441F-9AA7-DEEF2AAB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6023A-6E7E-4AAD-B104-8ABAC53F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9850D-C2C4-47EA-B314-F4444357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9D682-AE2F-44B7-B0D5-92CF3190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80D39-7E98-4297-B4D1-4040B534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236-CA12-4CF9-B159-F9B0634D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0CC19-5604-43E7-9BF4-C1426E5B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B479E-49EE-4E11-B785-104D49A6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3ADA7-5AD8-4BC9-8B76-AF53A663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0E3E6C-7BFC-4CB4-BFBF-37D182FD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16779-83A9-4F15-9EAD-FDA17688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C65CD-60FA-452C-9735-2F16C13C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22CAA-A67D-4871-9BFA-59D3350F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F2327-F934-4C76-8ADB-82228B84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6FE02-DD54-4AAE-8ADB-B3452B26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5190D-4B55-40BB-BBD9-3C75C13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A9B73-4BE1-446E-A691-F21617B2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80F42-CE6A-4559-BF63-29127872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524C9-AF9E-449C-9A3D-529DA77B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EFC03-2A87-47CC-AEE6-58BF0B7C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56BE4-CDC6-4710-B746-4AC64AB8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BEBF1-735C-4E49-A54C-DBCA7C78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7D68D1-D881-417F-943F-1B1CC618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4C4DB-4ECD-4389-959D-634AE203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C904C-086B-4C7A-99CF-8343E0E8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74CBB-A7D7-4E17-A46D-B8F3EFA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6BF970-8855-4AF3-823D-B41BAD39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8949C-B92E-4119-8DA5-CC5C8A9C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01F33-7B6A-4A56-A5FD-98091751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E6F1F-842F-4567-9289-7F657F69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80DAA-C816-4C67-B894-6FE88F8B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0CE25-2680-41BC-A871-F88DABBD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2AB5E-C853-4C20-972D-16350521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E9998-562B-4010-8CEC-F063534E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AB7E1-9C8B-4BFC-97E7-D07DAD9C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3506C0-B50D-4DC1-91EE-1230A6F9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1F3F1-DEF8-4321-9F64-5A84C13E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464F82-E63D-4E50-AF16-429C1D61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D43D2-ECDF-4D96-9BA5-34B1845F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97312C-885C-4734-8847-BD822880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38261-E137-4110-A6BF-A54969DD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C6DA11-57C1-402D-BE26-EF3188DF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4FC95-DD9C-41CA-BF18-7BB14ED8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CD87DF-5BB9-4BEB-9D93-078FE584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4AA5B7-CADF-4041-9FF8-E772B33B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92227-05E8-4334-83AF-A60B8858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6E604C-D878-4F58-912B-F3075208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6AE211-D08D-4957-B386-85C32108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574A43-FC90-407D-8D26-FA15F74F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D33B8-0ADC-47FB-87ED-1C21ED90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79A132-4908-400D-8B56-F577425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DD86EF-6751-45FA-8EEB-D80C3AE6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360BA6-B80A-499C-AC1A-A47F52CB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09212-BC4F-41A2-92AB-4B8FBF1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B3F5E9-89B5-40DF-95F1-EEBA42F3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5EA6F-0615-4C57-9974-56C6B012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0567C-C418-4EFB-80F8-2FC46868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868FD-6854-4CA9-ACC8-C67AAFDD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B8DCD7-7C04-4C89-A42A-45E8A25F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A6231F-E798-4F2F-872D-6E1052F4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8722A-749F-4457-AA3D-30575C0E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E050B-32E9-4C43-9892-C2552303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9695DE-B9CD-48A1-A103-C8725C04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452504-C703-4BA1-8DBF-07166887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38C798-A051-49AB-BDCE-25C86F94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34F99E-81D5-4D56-AB03-4CBBA549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F6672D-D0DF-4258-B842-FC07E79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52B4DE-5BBB-43DC-AA07-0E4CC0B7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7B4141-2572-4292-95C1-0901CCE6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A1A962-3076-4BA4-B6F2-F9CA4FCD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5C7C39-308A-4AC1-9D6A-9C2BFF4A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72580-7C5A-4F25-A0D8-1DE1C8B1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4898B1-69EA-48C7-959C-D1861CB4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E2D90-7A01-4B17-8902-8E13D78C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30A4FE-178C-4065-BF7B-0EBC2FD5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D045AF-2EE7-41BF-B3D1-1379B650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5332DF-E259-43B4-9814-0609FD59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566A4-48C4-4CBD-936E-9B919C64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5088FD-BA12-483B-86FC-443D73D2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5E7FDA-CD01-4677-BB0B-DF5E444C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7931E2-F728-4188-B009-5666089D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B65C1-BE2A-4F64-918F-D739434A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7BAAA-0FA9-485B-A095-D92724D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D4EAF-B09C-482C-9FF0-8990484F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889FE9-F8AD-4858-867D-A5F0816E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C5E61-985B-4D43-BFE4-761EF08E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8058B9-A4B2-4451-B387-214A05D5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3551B0-0E29-468A-B95B-1E1288A2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7B328B-745F-414C-AA9B-C48230CC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52E6C2-2EF5-4AFB-A427-DB6BC421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BC5014-1480-4CCD-B5DE-47AC4BD0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2EE2E5-4594-43B8-B126-8B1B58E0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71A71E-B47D-41B6-8758-6D1E0BD7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28358-9664-46D3-A22B-752A20C0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204C99-0695-42F0-B464-F1C9259C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592A89-5DF8-4EA4-AEBD-753931F6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390804-731D-4B83-813C-0AB4C569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657A30-F18D-4237-BA9B-C80908E5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5B58A3-B740-4AC1-B25F-23963C32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36DDF2-A9CE-4A02-86DB-FB200997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E2A922-5A9F-4D57-BE46-505D18E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BA4B54-B1A4-48B7-AD67-CA477625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7EC6AC-225A-4E49-A31E-28BC63C9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8D812D-4677-483B-B2DE-791BEE6F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B3B8B-D76F-4A63-A6DF-ADBC36F6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E10888-04CB-48E6-9CDB-B8C5134B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DF1171-C7E4-42B3-AD9C-897DEB65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E46F13-5008-4669-9BDB-4041377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78B078-74A9-4290-BE50-89F9CF83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1F57D0-67B0-42B4-86FC-47A3025B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2EA788-BED0-4F58-BB11-D280DD4F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3912C5-2556-48D0-A3D8-45F8C232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D035CE-F633-4B25-B7C4-E8F0EABB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B4B690-723E-4520-89E5-41A106A2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8DC336-CCE4-4BA4-8965-68DA33E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090F9-0BF8-4A7F-AE7A-C04DA7B3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F1439C-3A4C-4E44-970D-7B4D0B4B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9F3E5D-6DB5-48BE-9684-C7B48E9D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58429D-5D28-49F3-A1B8-E125865E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15CC30-F9C5-4677-A509-7C861201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BE5A77-F831-4D99-940D-98B5C275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090E08-6EBD-40D9-95E0-5EBEC366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AEAFA6-944B-4391-91E6-AF43DB96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2C505B-A096-4641-8588-94EFA2E8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4DE85A-AB1F-474B-8F89-31028140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6C54-A95F-4481-8E46-18415A48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C211D-DBB7-4514-B930-F0A9DF56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CAAF-29A9-46EA-8BB6-C3518CA3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A34F-4F2E-4A07-B935-8E36E848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01BB-B95D-4DBF-BD5C-68ABD8FF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5F29-A3DA-43C0-AE99-07A9C570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AEF9-ADB1-4453-9A08-7F478730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E754-5415-4DFE-B2CF-2A8D3221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15B3-675E-4CCA-AAE9-C7916221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F44D-D6FC-433C-8295-77E84ADD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3EC7-D20A-4973-8666-A9B48FEB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9770-B48D-4540-A216-DB22977E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DE28-CAAD-418E-B20C-6646ADF5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19EA-D7DF-4CC4-AF6E-DC0DFA9A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16535-1C9C-494D-A86A-52F19510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FB50-6CF2-4480-AC21-52821C20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0ED8-8C05-431E-93F4-834F5990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B333-67E4-40E5-997A-3245BE4E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3F96-92BF-412D-AF4B-FB543786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5445-5410-46C1-BBE9-8CAFB2E4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06C6-97EF-4D91-8761-1844B66C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A246-FD7B-43E9-A009-F9E87B75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2F2CE-9DF9-4778-83D5-96E0B5A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CFC31-FD11-450E-B63E-4FB44613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1C43C-CCA2-4035-A2C9-D2BC33F0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6961-C055-47A3-9F2F-7B3FA72B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B76F9-AC93-42A5-8B02-FED3F392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A7D80-05FC-4260-B186-B79A6773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65E32-A2CE-43B1-BD62-11CE750A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98549-4D9D-40DD-B936-9AB19A73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5298E-4F28-44A9-8E76-60060D30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CEA94-D6E1-4757-AFB1-635ABB6C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625E6-D93B-4BE0-84BF-B796D1CE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A733-4E53-4795-9664-E254C572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1F3E4-7610-4555-A40C-3CC54E09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C424D-F2B5-4ED5-99CC-4CAB32AB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2FA8A-B73D-4ED5-9948-27369B80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4117C-B731-4975-A44D-842C3408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3E232-2F15-4B25-852D-8EF515A0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335DF-E0C5-491F-9FB9-32C9B058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6BAB-DF5E-4656-84E5-ED1CC90E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634B5-D53F-41EE-8760-99A27944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8D17-D972-44C1-BE19-C2F41C44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B24D-0D60-4275-ADAE-A8C34E95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B84FF-4E9E-4044-A53D-FFAC58CF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5197B-357D-47DD-A000-B8737A1B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45F57-B486-4447-8438-92224066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A3BFC-2000-461F-93ED-23130CDB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A71A3-E9B1-4E34-823E-92CE9D1B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77558-B7A7-4F58-AEF5-58099AB4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F07C2-C727-4D5D-B8AF-7AC06657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C13CD-9C89-44E2-81D2-1307799B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8AD70-FE97-4909-A103-D5EE8036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7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93.xml"/><Relationship Id="rId11" Type="http://schemas.openxmlformats.org/officeDocument/2006/relationships/slideLayout" Target="../slideLayouts/slideLayout194.xml"/><Relationship Id="rId12" Type="http://schemas.openxmlformats.org/officeDocument/2006/relationships/slideLayout" Target="../slideLayouts/slideLayout195.xml"/><Relationship Id="rId13" Type="http://schemas.openxmlformats.org/officeDocument/2006/relationships/slideLayout" Target="../slideLayouts/slideLayout196.xml"/><Relationship Id="rId14" Type="http://schemas.openxmlformats.org/officeDocument/2006/relationships/slideLayout" Target="../slideLayouts/slideLayout197.xml"/><Relationship Id="rId15" Type="http://schemas.openxmlformats.org/officeDocument/2006/relationships/slideLayout" Target="../slideLayouts/slideLayout198.xml"/><Relationship Id="rId16" Type="http://schemas.openxmlformats.org/officeDocument/2006/relationships/slideLayout" Target="../slideLayouts/slideLayout199.xml"/><Relationship Id="rId17" Type="http://schemas.openxmlformats.org/officeDocument/2006/relationships/slideLayout" Target="../slideLayouts/slideLayout200.xml"/><Relationship Id="rId18" Type="http://schemas.openxmlformats.org/officeDocument/2006/relationships/slideLayout" Target="../slideLayouts/slideLayout201.xml"/><Relationship Id="rId19" Type="http://schemas.openxmlformats.org/officeDocument/2006/relationships/slideLayout" Target="../slideLayouts/slideLayout202.xml"/><Relationship Id="rId20" Type="http://schemas.openxmlformats.org/officeDocument/2006/relationships/slideLayout" Target="../slideLayouts/slideLayout203.xml"/><Relationship Id="rId21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BFED-D1CB-4352-B6CF-103E25B209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3999-0CCB-4DA5-8839-CE9A5CB1A2F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528" name="Line 3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9" name="Line 4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0" name="Line 5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1" name="Line 6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2" name="Line 7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3" name="Line 8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4" name="Line 9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5" name="Line 10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6" name="Line 11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7" name="Line 12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8" name="Line 13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9" name="Line 14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0" name="Line 15"/>
            <p:cNvSpPr/>
            <p:nvPr/>
          </p:nvSpPr>
          <p:spPr>
            <a:xfrm flipH="1">
              <a:off x="12600" y="711360"/>
              <a:ext cx="6769440" cy="3002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2" name="Line 17"/>
            <p:cNvSpPr/>
            <p:nvPr/>
          </p:nvSpPr>
          <p:spPr>
            <a:xfrm flipH="1">
              <a:off x="12600" y="733680"/>
              <a:ext cx="6701400" cy="207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3" name="Line 18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4" name="Line 19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5" name="Line 20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6" name="Line 21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7" name="Line 22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8" name="Line 23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9" name="Line 24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0" name="Line 25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1" name="Line 26"/>
            <p:cNvSpPr/>
            <p:nvPr/>
          </p:nvSpPr>
          <p:spPr>
            <a:xfrm>
              <a:off x="6799320" y="73368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2" name="Line 27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3" name="Line 28"/>
            <p:cNvSpPr/>
            <p:nvPr/>
          </p:nvSpPr>
          <p:spPr>
            <a:xfrm>
              <a:off x="6793560" y="749520"/>
              <a:ext cx="1275480" cy="6108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4" name="Line 29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5" name="Line 30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6" name="Line 31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7" name="Line 32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8" name="Line 33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9" name="Line 34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0" name="Line 35"/>
            <p:cNvSpPr/>
            <p:nvPr/>
          </p:nvSpPr>
          <p:spPr>
            <a:xfrm>
              <a:off x="6779160" y="692280"/>
              <a:ext cx="2326680" cy="19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61" name="Group 36"/>
            <p:cNvGrpSpPr/>
            <p:nvPr/>
          </p:nvGrpSpPr>
          <p:grpSpPr>
            <a:xfrm>
              <a:off x="12600" y="3275280"/>
              <a:ext cx="9092880" cy="1936080"/>
              <a:chOff x="12600" y="3275280"/>
              <a:chExt cx="9092880" cy="1936080"/>
            </a:xfrm>
          </p:grpSpPr>
          <p:sp>
            <p:nvSpPr>
              <p:cNvPr id="562" name="Line 37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3" name="Line 38"/>
              <p:cNvSpPr/>
              <p:nvPr/>
            </p:nvSpPr>
            <p:spPr>
              <a:xfrm flipH="1">
                <a:off x="12600" y="449712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4" name="Line 39"/>
              <p:cNvSpPr/>
              <p:nvPr/>
            </p:nvSpPr>
            <p:spPr>
              <a:xfrm flipH="1">
                <a:off x="15480" y="385128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5" name="Line 40"/>
              <p:cNvSpPr/>
              <p:nvPr/>
            </p:nvSpPr>
            <p:spPr>
              <a:xfrm flipH="1">
                <a:off x="15480" y="327528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66" name="Line 41"/>
            <p:cNvSpPr/>
            <p:nvPr/>
          </p:nvSpPr>
          <p:spPr>
            <a:xfrm flipH="1">
              <a:off x="12240" y="278316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7" name="Line 42"/>
            <p:cNvSpPr/>
            <p:nvPr/>
          </p:nvSpPr>
          <p:spPr>
            <a:xfrm flipH="1" flipV="1">
              <a:off x="12240" y="23101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8" name="Line 43"/>
            <p:cNvSpPr/>
            <p:nvPr/>
          </p:nvSpPr>
          <p:spPr>
            <a:xfrm flipH="1">
              <a:off x="12240" y="1876680"/>
              <a:ext cx="909324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9" name="Line 44"/>
            <p:cNvSpPr/>
            <p:nvPr/>
          </p:nvSpPr>
          <p:spPr>
            <a:xfrm flipH="1">
              <a:off x="53640" y="153216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0" name="Line 45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1" name="Line 46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2" name="Line 47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3" name="Line 48"/>
            <p:cNvSpPr/>
            <p:nvPr/>
          </p:nvSpPr>
          <p:spPr>
            <a:xfrm flipH="1">
              <a:off x="12600" y="82728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4" name="Line 49"/>
            <p:cNvSpPr/>
            <p:nvPr/>
          </p:nvSpPr>
          <p:spPr>
            <a:xfrm flipH="1">
              <a:off x="12240" y="76536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75" name="Group 54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576" name="未知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 flipH="1">
              <a:off x="12960" y="0"/>
              <a:ext cx="913104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78" name="Picture 57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8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9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61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49ED-BC18-4ACF-96BC-4D6AC49830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2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570E-1C44-4B7C-A4E6-4B7321C16248}" type="slidenum">
              <a:rPr b="1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4735-B647-47B1-A1C5-ACC59F50E9E1}" type="slidenum">
              <a:rPr b="0" lang="zh-CN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0"/>
    <p:sldLayoutId id="2147483858" r:id="rId11"/>
    <p:sldLayoutId id="2147483859" r:id="rId12"/>
    <p:sldLayoutId id="2147483860" r:id="rId13"/>
    <p:sldLayoutId id="2147483861" r:id="rId14"/>
    <p:sldLayoutId id="2147483862" r:id="rId15"/>
    <p:sldLayoutId id="2147483863" r:id="rId16"/>
    <p:sldLayoutId id="2147483864" r:id="rId17"/>
    <p:sldLayoutId id="2147483865" r:id="rId18"/>
    <p:sldLayoutId id="2147483866" r:id="rId19"/>
    <p:sldLayoutId id="2147483867" r:id="rId20"/>
    <p:sldLayoutId id="2147483868" r:id="rId21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D0B9-0E74-4C4C-BCFA-244508331D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0524-5914-492E-8E58-374ACA4CA2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0983-4BE4-40A3-8411-2D20900C247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FB9E-AE37-4800-9145-E49CFBE89C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4663-94A4-47C6-8353-2442510903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3014-48CE-43DC-9504-734CDD0A69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10D7-290A-4F52-8B12-D46FFB52E9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20E6-E984-4968-9E4A-2610C7C382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3FE5-8F2B-440D-8499-5F13F83E60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2C94-C69E-4CA0-84C7-7FCDDA54FD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A34F-B90C-4E8A-93DB-A1D489F2A2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F30A-FF0D-42EB-98E0-BF48897B95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890B-8C29-482A-98C4-2A5B0864CC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 flipV="1">
            <a:off x="469800" y="1479240"/>
            <a:ext cx="8229600" cy="20520"/>
          </a:xfrm>
          <a:prstGeom prst="line">
            <a:avLst/>
          </a:prstGeom>
          <a:ln cap="rnd" w="3492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5"/>
          </p:nvPr>
        </p:nvSpPr>
        <p:spPr>
          <a:xfrm>
            <a:off x="64274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6AA7-56A8-4F51-B964-5E235E6448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8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9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68F1-9D62-4DB9-9D2B-F13B0EF957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A094-7FE7-4E81-9718-7C5064FC8551}" type="slidenum">
              <a:rPr b="1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90B0-5AC6-43E3-9EDB-3DD7095953D6}" type="slidenum">
              <a:rPr b="0" lang="zh-CN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803A-F7A7-44BA-925E-30BBB5C365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4D5E-45EF-4E52-8F93-2AC58417D0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5977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个人简历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96720" y="909360"/>
            <a:ext cx="41529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姓    名：胡亚梅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性    别：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出生年月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992.2.13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政治面貌：党员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学    历：大学专课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专    业：计算机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毕业学校：徐州工业职业技术             学院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联系电话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50943434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电子邮箱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792585643@qq.com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家庭地址：东台市东台填垛团村八组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9" name="Picture 4" descr="DSCN0825"/>
          <p:cNvPicPr/>
          <p:nvPr/>
        </p:nvPicPr>
        <p:blipFill>
          <a:blip r:embed="rId2"/>
          <a:stretch/>
        </p:blipFill>
        <p:spPr>
          <a:xfrm>
            <a:off x="3997440" y="155736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5" descr="DSCN0829"/>
          <p:cNvPicPr/>
          <p:nvPr/>
        </p:nvPicPr>
        <p:blipFill>
          <a:blip r:embed="rId3"/>
          <a:stretch/>
        </p:blipFill>
        <p:spPr>
          <a:xfrm>
            <a:off x="6492960" y="3068640"/>
            <a:ext cx="2111400" cy="158580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6" descr="DSCN0833"/>
          <p:cNvPicPr/>
          <p:nvPr/>
        </p:nvPicPr>
        <p:blipFill>
          <a:blip r:embed="rId4"/>
          <a:stretch/>
        </p:blipFill>
        <p:spPr>
          <a:xfrm>
            <a:off x="5580000" y="5229360"/>
            <a:ext cx="1873440" cy="1404720"/>
          </a:xfrm>
          <a:prstGeom prst="rect">
            <a:avLst/>
          </a:prstGeom>
          <a:ln w="0">
            <a:noFill/>
          </a:ln>
        </p:spPr>
      </p:pic>
      <p:sp>
        <p:nvSpPr>
          <p:cNvPr id="1242" name="矩形 9"/>
          <p:cNvSpPr/>
          <p:nvPr/>
        </p:nvSpPr>
        <p:spPr>
          <a:xfrm>
            <a:off x="7439040" y="30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3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3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3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6" dur="3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1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3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3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3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3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993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       </a:t>
            </a:r>
            <a:r>
              <a:rPr b="0" lang="zh-CN" sz="3200" spc="-1" strike="noStrike">
                <a:solidFill>
                  <a:srgbClr val="1984cc"/>
                </a:solidFill>
                <a:latin typeface="微软雅黑"/>
              </a:rPr>
              <a:t>专业介绍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78920" y="127008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虚拟仿真技术，或称为模拟技术，就是用一个系统模仿另一个真实系统的技术。从狭义上讲，是指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4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年代伴随着计算机技术的发展而逐步形成的一类试验研究的新技术；从广义上来说，仿真则是在人类认识自然界客观规律的历程中一直被有效地使用着。由于计算机技术的发展，仿真技术逐步自成体系，成为继数学推理、科学实验之后人类认识自然界客观规律的第三类基本方法，而且正在发展成为人类认识、改造和创造客观世界的一项通用性、战略性技术。</a:t>
            </a:r>
            <a:endParaRPr b="0" lang="en-US" sz="1800" spc="-1" strike="noStrike">
              <a:solidFill>
                <a:srgbClr val="4d4d4d"/>
              </a:solidFill>
              <a:latin typeface="微软雅黑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788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虚拟现实技术，简称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VR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，是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8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年代新崛起的一种综合集成技术，涉及计算机图形学、人机交互技术、传感技术、人工智能等。它由计算机硬件、软件以及各种传感器构成的三维信息的人工环境——虚拟环境，可以逼真地模拟现实世界（甚至是不存在的）的事物和环境，人投入到这种环境中，立即有“亲临其境”的感觉，并可亲自操作，自然地与虚拟环境进行交互。虚拟仿真技术具有以下四个基本特性：沉浸性、交互性、虚幻性、逼真性。</a:t>
            </a:r>
            <a:endParaRPr b="0" lang="en-US" sz="18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transition advTm="5000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30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3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2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2" dur="3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2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2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3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2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2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主修课程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6360" y="1701720"/>
            <a:ext cx="7786800" cy="48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计算机辅助工程制图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AD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）、计算机网络及应、高等数学、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ASP.NE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开发应用 、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语言程序设计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Excel VB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动画设计与制作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 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统计分析系统 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Visual Basic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信息系统设计基础 、互联网概论  、计算机基础与应用 、计算机网络  、计算机网络实践、平面图像处理、手机编程与手机游戏设计 、数据库编程技术、数字图像处理与特效、计算机应用基础、多煤体技术、计算机应用基础、网页设计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 spd="slow" advTm="5000"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0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5" dur="3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30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30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30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3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5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5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4" dur="50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c414f"/>
                </a:solidFill>
                <a:latin typeface="Arial"/>
              </a:rPr>
              <a:t>自我介绍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本人性格热情开朗，待人友好，为人诚实谦虚。工作勤奋，认真负责，能吃苦耐劳，尽职尽责，有耐心。具有亲和力，平易近人，善于与人沟通。活泼开朗、乐观向上、兴趣广泛、适应力强、勤奋好学、脚踏实地、认真负责、坚毅不拔、吃苦耐劳、勇于迎接新挑战 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学习刻苦认真，成绩优秀，品学兼优，此外，还积极参加课外文体活动，以增加自己的阅历，提高自己的能力。在工作中体会办事方式，锻炼口才和人际交往能力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大学生涯，使我具备良好的心理素质，让我在竞争中拥有更大的优势，让我在人生事业中走得更高更远。获得了“优秀大学生”和“优秀毕业生”的称号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30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05" dur="20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0" dur="20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5" dur="20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30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30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30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42" dur="50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47" dur="50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52" dur="50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能力与特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专业能力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：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掌握了工业工程的基本知识，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如网页制作、动画制作等等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计算机能力：熟</a:t>
            </a:r>
            <a:r>
              <a:rPr b="0" lang="en-US" sz="2400" spc="-1" strike="noStrike">
                <a:solidFill>
                  <a:srgbClr val="335338"/>
                </a:solidFill>
                <a:latin typeface="Verdana"/>
                <a:ea typeface="宋体"/>
              </a:rPr>
              <a:t>Office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等应用办公软件、计算机网络及多媒体知识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语言能力：有良好的沟通技能，交际能力较强、英语</a:t>
            </a:r>
            <a:r>
              <a:rPr b="0" lang="en-US" sz="2400" spc="-1" strike="noStrike">
                <a:solidFill>
                  <a:srgbClr val="335338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级 ，听说读写能力较强、粤话、普通话标准、流利，且具备较好的理解能力、书面与口头交流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2716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5338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综合能力：  ◇责任心强，有独立工作能力强，吃苦耐劳，有团队精神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具有良好的策划、组织、协调、管理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做事细心和有条理，尤其胜任财务、秘书、资料整理等方面工作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数学运算能力较好，思考、逻辑能力较强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日期占位符 3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www.1ppt.co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育经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96720" y="15573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2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9-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5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垛团小学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小学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5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9-200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8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明德外国语学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      初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20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08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9-20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11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第二职业高中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     高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20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11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9-20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14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徐州工业职业技术学院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专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科      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200" fill="hold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200" fill="hold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3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200" fill="hold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200" fill="hold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3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200" fill="hold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200" fill="hold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3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200" fill="hold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200" fill="hold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3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200" fill="hold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200" fill="hold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10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10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0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10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0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10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10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0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10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10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0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10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10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0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技能证书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9080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级                            ◆ 计算机一级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计算机冈位证书               ◆ 计算机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4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9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4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3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200" fill="hold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200" fill="hold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3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200" fill="hold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200" fill="hold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荣誉证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2340000" y="1412640"/>
            <a:ext cx="65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垛团小学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学生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-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评为明德外国语学校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学员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样被称为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干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校称为优秀团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在徐州工业职业技术学院中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讲比赛中得第二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96720" y="299700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                    </a:t>
            </a:r>
            <a:r>
              <a:rPr b="0" lang="zh-CN" sz="7200" spc="-1" strike="noStrike">
                <a:solidFill>
                  <a:srgbClr val="003300"/>
                </a:solidFill>
                <a:latin typeface="Verdana"/>
              </a:rPr>
              <a:t>谢谢观看！</a:t>
            </a:r>
            <a:endParaRPr b="0" lang="en-US" sz="7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23:22:00Z</dcterms:created>
  <dc:creator>admin</dc:creator>
  <dc:description/>
  <dc:language>en-US</dc:language>
  <cp:lastModifiedBy>lenovo</cp:lastModifiedBy>
  <dcterms:modified xsi:type="dcterms:W3CDTF">2015-07-06T09:55:38Z</dcterms:modified>
  <cp:revision>3</cp:revision>
  <dc:subject/>
  <dc:title>          个人简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