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3" descr=""/>
          <p:cNvPicPr/>
          <p:nvPr/>
        </p:nvPicPr>
        <p:blipFill>
          <a:blip r:embed="rId1"/>
          <a:stretch/>
        </p:blipFill>
        <p:spPr>
          <a:xfrm>
            <a:off x="1216080" y="476280"/>
            <a:ext cx="6648480" cy="5545080"/>
          </a:xfrm>
          <a:prstGeom prst="rect">
            <a:avLst/>
          </a:prstGeom>
          <a:ln w="0">
            <a:noFill/>
          </a:ln>
        </p:spPr>
      </p:pic>
      <p:sp>
        <p:nvSpPr>
          <p:cNvPr id="39" name="矩形 4"/>
          <p:cNvSpPr/>
          <p:nvPr/>
        </p:nvSpPr>
        <p:spPr>
          <a:xfrm>
            <a:off x="2266920" y="6189840"/>
            <a:ext cx="31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1244520" y="692280"/>
            <a:ext cx="69184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1303200" y="692280"/>
            <a:ext cx="65376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1187280" y="450720"/>
            <a:ext cx="67392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1260360" y="506520"/>
            <a:ext cx="66247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1332000" y="888840"/>
            <a:ext cx="634500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1332000" y="725400"/>
            <a:ext cx="65196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1260360" y="703440"/>
            <a:ext cx="64548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1332000" y="731880"/>
            <a:ext cx="65260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243080" y="692280"/>
            <a:ext cx="648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1332000" y="681120"/>
            <a:ext cx="66373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" descr=""/>
          <p:cNvPicPr/>
          <p:nvPr/>
        </p:nvPicPr>
        <p:blipFill>
          <a:blip r:embed="rId1"/>
          <a:stretch/>
        </p:blipFill>
        <p:spPr>
          <a:xfrm>
            <a:off x="1332000" y="601560"/>
            <a:ext cx="66960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tretch/>
        </p:blipFill>
        <p:spPr>
          <a:xfrm>
            <a:off x="1332000" y="569880"/>
            <a:ext cx="625932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1403280" y="619200"/>
            <a:ext cx="64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900000" y="419040"/>
            <a:ext cx="71280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1260360" y="631800"/>
            <a:ext cx="65516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755640" y="279360"/>
            <a:ext cx="756756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1116000" y="539640"/>
            <a:ext cx="69120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971640" y="438120"/>
            <a:ext cx="6985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1187280" y="592200"/>
            <a:ext cx="68202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72480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1260360" y="757080"/>
            <a:ext cx="648036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260360" y="471600"/>
            <a:ext cx="661824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68803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"/>
          <p:cNvPicPr/>
          <p:nvPr/>
        </p:nvPicPr>
        <p:blipFill>
          <a:blip r:embed="rId1"/>
          <a:stretch/>
        </p:blipFill>
        <p:spPr>
          <a:xfrm>
            <a:off x="1260360" y="620640"/>
            <a:ext cx="6708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1332000" y="723960"/>
            <a:ext cx="62593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1187280" y="601560"/>
            <a:ext cx="669636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1116000" y="569880"/>
            <a:ext cx="70246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"/>
          <p:cNvSpPr/>
          <p:nvPr/>
        </p:nvSpPr>
        <p:spPr>
          <a:xfrm>
            <a:off x="1979640" y="2349360"/>
            <a:ext cx="6494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1101600" y="549360"/>
            <a:ext cx="684072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1200240" y="620640"/>
            <a:ext cx="675648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187280" y="592200"/>
            <a:ext cx="664848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9:37:41Z</dcterms:created>
  <dc:creator>Administrator</dc:creator>
  <dc:description/>
  <dc:language>en-US</dc:language>
  <cp:lastModifiedBy>User</cp:lastModifiedBy>
  <dcterms:modified xsi:type="dcterms:W3CDTF">2015-07-03T09:38:1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