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B3F9D-6576-42F4-B72C-912E40F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3ABAC-0970-4547-9D8D-6CB205FC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2811-312B-46BC-96F6-0FBCFE1C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15DD9-78F1-4CA1-84F1-2DA0190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9B5F-AFF5-47C1-AF98-C833EBCE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5C8C0-6FA5-494C-99D4-93D11E2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0F8CD-1EF4-4A2E-91CF-E37C962C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4D27B-8F8D-4B7F-B449-4733FFAF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9A84E-1DF2-4F8A-9821-75A88BC6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35407-203A-4A52-91A7-7401148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D4D8-EED4-4AE5-9634-2786E175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ED617-53EB-4DF8-8AEF-BBACEB9C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EC492-33C5-4A11-BEE5-CB2F75D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FE309-5C1A-4686-8FDD-C96E62C9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5CD33-5E0E-4C4C-AFC0-E2FCF1D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BBFB0-9DAB-47E3-9ED3-22A7BDBD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04BDA-A41D-4D34-A682-03A1240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14D73-C27A-49BA-808A-33A6B7F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24B7-8BD0-4394-BA30-8B805940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62FF1-566E-4E2F-8A9A-721442E2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811B0-94EA-4336-8AE5-FC390FF7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BB9BD-289D-441D-B9A2-92190684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6445B-E9C2-4DD7-AF50-0BA38314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86478-FC32-4C7D-9C18-B53E883C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4938C-55DF-4A84-BA07-FDF273B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90E24-9A08-4BAD-9AF8-A4EEDA7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055B8-B2F3-4406-B24B-FCA0E3B1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FFA78-4530-4A38-8EED-5F8B1EE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4E68E-3A67-4F30-80C6-75B7407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CB589-739F-47AF-8932-96810710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764-4AAE-4E23-8204-947B5A12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A4275-015A-4ED9-99EA-31164379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6E893-F117-41BD-8169-9EFBD837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BC4FA-58B9-46C5-B4DF-BECCF95B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9F06B-617E-4B59-B994-36B7C47D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223DE-0984-415A-B056-867E134D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EABB1-85A9-4088-87EF-6EDCBA5E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18698-00B0-469B-B29A-7240798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75804-4899-4A80-9C49-DF9B26E6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4F4FC-5398-442E-8FBE-197F0EE7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8B131-3C74-42BA-8A08-D2E8905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35A-7724-4FED-A8F2-B8BF5D62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BC23-C5E2-4122-8A83-F958C8C2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7E1DB-D266-40FE-8254-CAE03621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CC3D8-860D-47D8-B1B4-6884269A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F6A51-4A01-466E-B54E-0187B235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B5FEB-2E9D-4C2B-A794-3C713C0C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628E6-E923-4882-A0D3-A6F5362A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8C916-9638-4FB8-AD8D-A368DAAE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92CA6-7328-4D1D-8A8D-7A215300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066D0-E639-4D82-A632-D33535BB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F1881-D8C6-4C82-86C4-929628E0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1C3-C513-4A14-951A-6CAED23A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54AE5-913D-497B-BADB-014668A0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72C66-1E2A-4344-82CF-E119A19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D1922-C2E7-4A9E-971A-70BF175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93FDD-25A3-4DB4-9D8B-4A89361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1C92-E09C-4DE4-B4BF-BDDB7D5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46F97-28C2-44AA-932D-1F57179A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A6B83-4FDD-43C6-917F-A689E755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504-D6D1-4AB4-8860-5D96305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0C8-B3D0-46D6-92A1-66BE64B3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FFC-2CCA-4E7A-8C61-A218C4F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389-0CCD-438D-B0FD-7F923D3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7F0-070B-4DD6-A8B8-89BEED0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CE9-8F4C-45D4-ACEB-77EB7D0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8A2-47CE-413C-9200-7064785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B10-9F73-4F0F-8F05-2B5C484C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364-FBE5-44C6-919A-F3D8033B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24B2-D869-4F8F-9A72-E2DEE176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8166-BA48-48D2-A8AD-89FC801B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B17-20E5-48D5-8EDE-43E9E57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654E-42F5-4544-835E-1841AE67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90AD-2B58-432A-8DA5-C01695D3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D973-8758-4E8B-8375-7BBC4EB6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8807-DBAB-4A10-B006-DD83B64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584B-11F4-4AE5-9824-B59D6C4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096F-87FC-40CD-895E-B402B05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80ED-2B2D-416F-829E-963FE30A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F27F-01BB-48ED-9D00-6F9211D5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8030-C7BD-4E56-8396-417FA775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2027-AD5E-439C-9823-83733CFB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05CF-FE13-4CD9-BBA7-3435D334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78FF-BBDF-4589-9795-A56DB2EC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0D51-4206-44B7-BBB4-60E1A1A6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3A13-6C2E-4D61-831F-DC1C12A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7C05-4A38-4883-8765-73FCD430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CF01-2B32-45DC-B385-06780F7F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4C4C-BFC0-44D2-A706-D7519A2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987D-FA79-40EA-ACF5-FC77B03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E31B-09C2-49F2-854A-CB83B7DD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FB98-5F05-465E-8320-5280734B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A43E-3EAD-42EE-A455-25D1064B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14D6-B05B-4D44-A9BF-BAA672B6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F69D-91AD-4BA8-B60A-C703FA1E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81FD-5032-4E36-BAA1-67C675F0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CA44-ABC4-4937-A3C4-7ACED059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6E03-CCB7-4171-8EAF-232575B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210E-1C9B-4797-B30D-D6E52E6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2543A-9582-4263-8C98-0ED71262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F0FB-94D5-47D6-A4D1-1AD88CE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6CCA7-88C6-471D-804B-9491544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B7C0-7FEC-4DDD-89D7-66CCCA03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6D64D-440D-438F-A5F8-8B5558CD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9B0B-B05C-4F68-9F8B-E6D4F397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1BA8-86F4-4376-87B2-C8C32D1F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75EDB-8E21-4514-AE36-8AE3E059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A73B-42B4-4F07-A8F8-AEEB2FC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E4AB-AFDC-40D5-8EB6-BBC500DB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1429F-6D0E-4D0C-9C54-C4DAC6B1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77F2-8ACF-4FD8-83AE-C2CC827E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15D8-C7DD-4EE3-A2B4-6B9C470F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87E1-8027-42B4-BB98-C2ED754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50079-52F5-403E-8409-EEBB1635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1C58-9B52-46BD-95A3-D9C44A28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BD7EE-1191-4371-8772-EF52041D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1B05-9340-4CAE-94D6-4AF472CD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093E-4E17-4700-8F88-DE01DB45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083E-40BB-48DE-ABD8-903F571D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B1887-0D26-4402-9864-4B44BEA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3A2A-1F84-45B3-9474-594A79BA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85A7-A9D3-40A4-AA5D-A0C3E2D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5C05-3CFE-465E-B124-35EA62C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44A0-29AE-431D-A424-06B1584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3AF2-F5EB-44CB-A76B-ECFF2B9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B317B-2645-458F-9A9B-200BD295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6855-DDAD-4A87-B476-C2AED1F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72D50-F0BD-4B96-A983-147FBE4E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F36D-B0F4-4B1A-A936-A6E16C96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F0218-E3E7-4745-9839-A5B723BD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AB8C4-32F9-4724-8D0F-542D5D9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3D22-7914-4EB5-BC41-38896BF2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00A55-074A-4FC4-A02D-C871603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A5A0-635C-4505-9F2E-D7D2F15D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9723-A18C-44B4-8959-797D1B27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7864-8666-4CC8-A7A4-474EFB9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BFB5-478D-42A4-9FAF-D8378755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8894-CF14-4EEC-B86A-B66568D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DF7F-7838-473E-9CC9-71DC597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B9B15-B1B8-426D-B4FE-61C49052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B51AA-DD84-4C83-B548-A48F7BBB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F559F-F044-4C3D-9205-0EB9BE10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E215E-F919-466B-8796-1ADDD088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54B2D-8E65-4446-A48C-45C20E55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6F66-3199-4D84-8FE6-E2CDCE54CE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E234-B791-4927-B73D-0636810AA3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CD0-F516-4115-B5AC-2043CD0A4C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D6DD-BBB3-4DF7-9828-566569701A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6BE-96F7-4FB6-B72F-8661186E6E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C349-04D8-46D6-B32F-AA7CAE5B0B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4E5D-1A76-4240-B41B-5A2352CC8F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50D-3B04-4D02-A550-1C8173396A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32B-5568-482E-95DA-3C3F952FC7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E5B9-348B-40EE-936C-A8F65C2971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AA66-C534-4E61-8987-43935F7570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85A1-5A8E-489E-9347-6C9A43AE2B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矩形 5"/>
          <p:cNvSpPr/>
          <p:nvPr/>
        </p:nvSpPr>
        <p:spPr>
          <a:xfrm>
            <a:off x="2514600" y="59436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16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7920" y="541440"/>
            <a:ext cx="912816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9:21:22Z</dcterms:created>
  <dc:creator/>
  <dc:description/>
  <dc:language>en-US</dc:language>
  <cp:lastModifiedBy>User</cp:lastModifiedBy>
  <dcterms:modified xsi:type="dcterms:W3CDTF">2015-07-03T09:26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