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DD0-65C2-4879-B311-70E64CCC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EC7-B41E-431B-943D-52DB92CB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387D-9FDC-4F89-A312-A1D91AD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21AB6-BEEC-4155-9B42-4D5413D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DC5FB-6591-4FA6-B29C-0149CA8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3765E-A285-4E58-9E03-1F4647F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1DFB-B156-4A25-9E9D-DF3501C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975A-0940-411E-BC2A-921E17F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4F90B-EF35-4016-A541-8517D14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E42C1-1016-4588-AB20-1C12AB6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D3ABE-BF3F-46CC-88B4-56B3521C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AE4C-20D4-476D-BEFA-710CB497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73D-1976-49E4-B08D-A6028342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5149B-C803-4C33-B1EA-454DA04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6FFBB-DE00-428C-B06E-57F010C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04A71-AF7D-43A2-8D5B-BBA56AF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4A6FA-B735-45BF-B025-5390918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A6D90-08D6-4D70-BE9A-F6A861B3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E93A2-9506-4FBE-8B6B-F6F22BE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1C812-8744-414D-886A-46D9E25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41FE-A982-42A0-8EC0-2E39403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A578E-0BFB-4875-BDC3-67388543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6A6F-E08C-44B0-AE7C-47E83FA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7C2-0BFD-4B18-A38F-E6B4782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DEDE1-3802-40E5-AE78-FF944F67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EB67D-B459-4435-8D94-B7953B1C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4F925-CCEA-4892-909E-DE0D5D2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F9031-3823-48CA-B3D1-6AB60E5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1246-2C3B-41DD-935B-33A86D6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1F50-3BAF-4D7E-BE6E-86BFB22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343F3-6B92-4657-8D02-FB6966D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76D74-DF07-4C45-A6FD-2E8B6D4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9222F-BC84-4D9D-9C59-93C8402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81F0B-F21C-4AF3-BA28-5CD7047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FCE8-CB81-44F6-8E12-3096517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EAA19-18B5-4D1A-BFDC-5CF2DA5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D36A2-133F-4D94-8B20-A986BD3F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A1CE-50DE-41CC-8F58-DC95FEE2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C9959-BF01-4303-A449-5D6F174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E54A1-ECDC-4612-87E3-9FA3BAE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EADA-432A-480D-A88E-8081806A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86DD8-AAA7-452B-A2D8-7F6AFE4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B8B26-E1E7-4304-ABEB-54A09B8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4FE54-8787-4469-A381-23CF055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C9999-6704-40E6-8E9C-6B5002B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063-577B-4A23-94E4-7606F46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9902F-0167-4B3E-A782-4DC9D25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3E613-7C90-49C5-9E44-E6A0D64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F94A4-1CB9-4C00-90A2-8AD6933C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9C3F9-E473-4D85-9ACF-0E9AF17C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089F8-694D-47CE-ABA0-246791EF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9B4F-1575-41D3-BF5E-1998EFAD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C6F-5771-41D2-A921-27CF4ED7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368-4E22-46D2-B1B2-0A08C3E5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789-AEA3-4435-BF05-6674211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5098-FF72-465B-8BA0-84959E1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AB3-3339-47C8-908C-FC7E2C22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FE4-DA6A-489C-90C9-CB5B74E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84E9-FE35-4D3E-8244-D973B5D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141-8AAD-4CB6-B060-E0A734E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8185-1284-4668-BF33-C46CC133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6AF3-1052-47F8-B338-3E78E155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9CAC-F67A-402B-B6DB-C5447243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4D5B-B5AE-49DD-8361-727873A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FC60-6682-4B13-A6B4-54094653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D75D-B8A7-459D-A491-3569895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60C8-2458-4D87-8C70-B0CF687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11A-67F3-4746-A759-A7573A5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F59B-6CF3-4307-8AF8-5FF97D9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D0F0-4CA4-4D5E-864A-122DEC7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1B71-3A1F-4399-BA05-178B28B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FB35-31E0-4D5C-AC81-65CDFAD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044F-5E7F-40B2-8E79-814E8EC6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DB6D-4FA3-4EA2-A504-97AAA916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CBEF-37D7-4949-962B-1F0F1F79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90BF-3B20-48B6-85B6-49CFFAE3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FEB6-E9CA-4891-AB96-C1813D6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2FFF-596F-4AC3-BD4A-C48A649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108-2524-43C1-8DD7-B03A45A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46F3-4786-4D72-A95F-EF9799F1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4F02-60D6-4273-AA66-40165F6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52CC-2B63-471D-8FAC-7847E1E8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BE18-F48A-4049-A160-42E6975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1770-147C-4026-9A31-73B39BA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6060-255F-43E7-81E9-224063B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D7FC-F259-47D2-A765-0522E49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9E33-1737-4C26-96B1-BA38FD9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7695-7A24-40CD-9D62-07F96C7F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F965-69D0-4A35-A174-EA9DD116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FE1-5CAC-4C9B-BF4A-B6F1975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C406-0A05-40FE-BEDF-12EE662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07561-BF77-4BB6-8D9C-B38D9D5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0AC3-01DE-495A-84B3-2DBC6CE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9E95-820B-4A06-864A-7B68755B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357D-17AB-4113-B549-7C5E26C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4876-7AD7-4658-8920-FACC022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F0FD-104B-41D6-B4B5-FA821E0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2475-8D53-477F-A455-DE72702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8084-9CF9-4E08-B41C-4B3AA213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6FB2-D658-4F8E-B1D1-434C05EB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B1B-1F8A-45DE-A5B6-75ABBD3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A917-23CF-4BE2-9676-76E92F60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793B1-3CF5-46CC-BF68-41917AFF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51E6-C19A-4A70-A470-26066BF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7969-7515-4CB9-97B6-AC6237E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26DDB-1CBC-4105-A063-297F758C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D2CB-6CA1-4752-8DAD-3E47893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50E2D-1C74-4D64-A334-940B568A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563D-9D0D-47A3-B06D-8CFC6E5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ED73-414E-4980-A862-33480EA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1096-FA97-4947-BEC4-9FB9B32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E35-8BDF-4594-80EB-BBD51B3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9525F-1E92-40C2-B11F-CF19634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D503-1362-48D0-B41F-F7354426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75271-BCF5-4AE1-B6ED-333CE2B1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0B8E-36DE-4695-B82A-2C5ECDB4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37F2-C2A4-4C69-9859-D40D0E1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A8C07-DA1D-42A1-9030-EE858F81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9C6E2-811A-4FC4-AD03-0B835023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5A6C-DD88-4B0B-B055-654DADF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BAB8-0171-4369-82E5-EF81D17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0679-BCA4-4232-8953-550BD2C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66F-91C1-481B-B701-A576FF0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4BE14-D86E-4F71-A024-9D09D76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03DF-32EC-4377-96CC-2C9AA71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DFBA-4EEC-4109-A47D-EAD55942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5B77-BE90-4AD8-8333-462081AE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E2D3-A569-42FD-B5B1-924668A9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9A033-968C-4396-BA44-ECDF66F7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C1847-A2C5-41EE-80F7-EF43BF14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64DA-34E5-453B-9A8D-D00C4201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B28E-81D2-4EC9-BD1D-59F8D859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4479-D103-4054-B99E-5B47FA63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C88-9D33-4E84-91ED-F9FEFE1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4C17-32D5-441E-BE8B-3A588B3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0834-41FB-453A-9A6A-35E2E62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89643-56B1-4040-9602-027963E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4F4D-419C-4BE6-8C96-5AA0D3A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7F2B-D37E-48DA-8441-8DA44EE9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FCF7B-220B-4353-85DA-D0C7A4CB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BB97-3295-4D6D-9E4B-9482DEF6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F4AE-F338-4AA1-A3EE-90A714E8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ED7AD-4C37-4EE4-94FF-03F6BF2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1AB4-4B95-43D1-BEDA-12F6D9D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B7E4-B6FB-45AE-B250-54BEAB31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2F8-1AC5-4E7A-BD17-C21DB0386F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7B1-1788-4260-A30A-7523A39401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FBC8-277A-49E1-A318-4E32A8346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A02-C969-4EA7-8485-76D13FCC4C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378-528D-480B-B44B-D5C3B86026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6BD9-4A43-47EE-B31F-AF5CE33509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88BC-833C-4F8D-8FDD-88CCC13408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7F9-54BB-46E6-A3D4-5582104DAC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670-4002-4A74-BE8C-BED6F4AA65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A8BE-4FE6-4D38-8732-C4E9AEF0C0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604-159E-4985-BFE8-AB6458286B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圆圆的月亮056"/>
          <p:cNvPicPr/>
          <p:nvPr/>
        </p:nvPicPr>
        <p:blipFill>
          <a:blip r:embed="rId1"/>
          <a:srcRect l="2891" t="0" r="0" b="0"/>
          <a:stretch/>
        </p:blipFill>
        <p:spPr>
          <a:xfrm>
            <a:off x="1763640" y="0"/>
            <a:ext cx="58644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5"/>
          <p:cNvSpPr/>
          <p:nvPr/>
        </p:nvSpPr>
        <p:spPr>
          <a:xfrm>
            <a:off x="2268360" y="630864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圆圆的月亮065"/>
          <p:cNvPicPr/>
          <p:nvPr/>
        </p:nvPicPr>
        <p:blipFill>
          <a:blip r:embed="rId1"/>
          <a:srcRect l="0" t="926" r="0" b="6845"/>
          <a:stretch/>
        </p:blipFill>
        <p:spPr>
          <a:xfrm>
            <a:off x="1258920" y="0"/>
            <a:ext cx="64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圆圆的月亮066"/>
          <p:cNvPicPr/>
          <p:nvPr/>
        </p:nvPicPr>
        <p:blipFill>
          <a:blip r:embed="rId1"/>
          <a:srcRect l="2159" t="3381" r="0" b="2516"/>
          <a:stretch/>
        </p:blipFill>
        <p:spPr>
          <a:xfrm>
            <a:off x="140328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圆圆的月亮067"/>
          <p:cNvPicPr/>
          <p:nvPr/>
        </p:nvPicPr>
        <p:blipFill>
          <a:blip r:embed="rId1"/>
          <a:srcRect l="0" t="3946" r="0" b="0"/>
          <a:stretch/>
        </p:blipFill>
        <p:spPr>
          <a:xfrm>
            <a:off x="1332000" y="115920"/>
            <a:ext cx="606888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圆圆的月亮068"/>
          <p:cNvPicPr/>
          <p:nvPr/>
        </p:nvPicPr>
        <p:blipFill>
          <a:blip r:embed="rId1"/>
          <a:srcRect l="3252" t="1875" r="0" b="4947"/>
          <a:stretch/>
        </p:blipFill>
        <p:spPr>
          <a:xfrm>
            <a:off x="1627200" y="0"/>
            <a:ext cx="61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圆圆的月亮069"/>
          <p:cNvPicPr/>
          <p:nvPr/>
        </p:nvPicPr>
        <p:blipFill>
          <a:blip r:embed="rId1"/>
          <a:srcRect l="0" t="0" r="0" b="4970"/>
          <a:stretch/>
        </p:blipFill>
        <p:spPr>
          <a:xfrm>
            <a:off x="1403280" y="0"/>
            <a:ext cx="626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圆圆的月亮070"/>
          <p:cNvPicPr/>
          <p:nvPr/>
        </p:nvPicPr>
        <p:blipFill>
          <a:blip r:embed="rId1"/>
          <a:srcRect l="3252" t="3381" r="0" b="8762"/>
          <a:stretch/>
        </p:blipFill>
        <p:spPr>
          <a:xfrm>
            <a:off x="1476360" y="93600"/>
            <a:ext cx="64692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圆圆的月亮071"/>
          <p:cNvPicPr/>
          <p:nvPr/>
        </p:nvPicPr>
        <p:blipFill>
          <a:blip r:embed="rId1"/>
          <a:srcRect l="2159" t="926" r="2083" b="5896"/>
          <a:stretch/>
        </p:blipFill>
        <p:spPr>
          <a:xfrm>
            <a:off x="1258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圆圆的月亮072"/>
          <p:cNvPicPr/>
          <p:nvPr/>
        </p:nvPicPr>
        <p:blipFill>
          <a:blip r:embed="rId1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圆圆的月亮073"/>
          <p:cNvPicPr/>
          <p:nvPr/>
        </p:nvPicPr>
        <p:blipFill>
          <a:blip r:embed="rId1"/>
          <a:srcRect l="0" t="0" r="1992" b="2754"/>
          <a:stretch/>
        </p:blipFill>
        <p:spPr>
          <a:xfrm>
            <a:off x="2048040" y="0"/>
            <a:ext cx="600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5"/>
          <p:cNvSpPr/>
          <p:nvPr/>
        </p:nvSpPr>
        <p:spPr>
          <a:xfrm>
            <a:off x="3203640" y="33577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圆圆的月亮074"/>
          <p:cNvPicPr/>
          <p:nvPr/>
        </p:nvPicPr>
        <p:blipFill>
          <a:blip r:embed="rId16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圆圆的月亮057"/>
          <p:cNvPicPr/>
          <p:nvPr/>
        </p:nvPicPr>
        <p:blipFill>
          <a:blip r:embed="rId1"/>
          <a:srcRect l="2918" t="1262" r="0" b="6794"/>
          <a:stretch/>
        </p:blipFill>
        <p:spPr>
          <a:xfrm>
            <a:off x="147636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圆圆的月亮075"/>
          <p:cNvPicPr/>
          <p:nvPr/>
        </p:nvPicPr>
        <p:blipFill>
          <a:blip r:embed="rId1"/>
          <a:srcRect l="0" t="0" r="1190" b="4970"/>
          <a:stretch/>
        </p:blipFill>
        <p:spPr>
          <a:xfrm>
            <a:off x="1332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圆圆的月亮076"/>
          <p:cNvPicPr/>
          <p:nvPr/>
        </p:nvPicPr>
        <p:blipFill>
          <a:blip r:embed="rId1"/>
          <a:srcRect l="4323" t="2805" r="0" b="8126"/>
          <a:stretch/>
        </p:blipFill>
        <p:spPr>
          <a:xfrm>
            <a:off x="1547640" y="2700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圆圆的月亮077"/>
          <p:cNvPicPr/>
          <p:nvPr/>
        </p:nvPicPr>
        <p:blipFill>
          <a:blip r:embed="rId1"/>
          <a:srcRect l="1093" t="0" r="904" b="10927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圆圆的月亮078"/>
          <p:cNvPicPr/>
          <p:nvPr/>
        </p:nvPicPr>
        <p:blipFill>
          <a:blip r:embed="rId1"/>
          <a:srcRect l="3230" t="2805" r="926" b="8126"/>
          <a:stretch/>
        </p:blipFill>
        <p:spPr>
          <a:xfrm>
            <a:off x="147636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圆圆的月亮079"/>
          <p:cNvPicPr/>
          <p:nvPr/>
        </p:nvPicPr>
        <p:blipFill>
          <a:blip r:embed="rId1"/>
          <a:srcRect l="0" t="0" r="0" b="10927"/>
          <a:stretch/>
        </p:blipFill>
        <p:spPr>
          <a:xfrm>
            <a:off x="104292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圆圆的月亮058"/>
          <p:cNvPicPr/>
          <p:nvPr/>
        </p:nvPicPr>
        <p:blipFill>
          <a:blip r:embed="rId1"/>
          <a:srcRect l="3252" t="3381" r="1992" b="5896"/>
          <a:stretch/>
        </p:blipFill>
        <p:spPr>
          <a:xfrm>
            <a:off x="1476360" y="0"/>
            <a:ext cx="62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圆圆的月亮059"/>
          <p:cNvPicPr/>
          <p:nvPr/>
        </p:nvPicPr>
        <p:blipFill>
          <a:blip r:embed="rId1"/>
          <a:srcRect l="3650" t="2754" r="0" b="5901"/>
          <a:stretch/>
        </p:blipFill>
        <p:spPr>
          <a:xfrm>
            <a:off x="1476360" y="0"/>
            <a:ext cx="62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圆圆的月亮060"/>
          <p:cNvPicPr/>
          <p:nvPr/>
        </p:nvPicPr>
        <p:blipFill>
          <a:blip r:embed="rId1"/>
          <a:srcRect l="3252" t="2455" r="0" b="10927"/>
          <a:stretch/>
        </p:blipFill>
        <p:spPr>
          <a:xfrm>
            <a:off x="1476360" y="115920"/>
            <a:ext cx="6469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圆圆的月亮061"/>
          <p:cNvPicPr/>
          <p:nvPr/>
        </p:nvPicPr>
        <p:blipFill>
          <a:blip r:embed="rId1"/>
          <a:srcRect l="0" t="0" r="1227" b="5821"/>
          <a:stretch/>
        </p:blipFill>
        <p:spPr>
          <a:xfrm>
            <a:off x="147636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圆圆的月亮062"/>
          <p:cNvPicPr/>
          <p:nvPr/>
        </p:nvPicPr>
        <p:blipFill>
          <a:blip r:embed="rId1"/>
          <a:srcRect l="3230" t="3381" r="926" b="7547"/>
          <a:stretch/>
        </p:blipFill>
        <p:spPr>
          <a:xfrm>
            <a:off x="161928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圆圆的月亮063"/>
          <p:cNvPicPr/>
          <p:nvPr/>
        </p:nvPicPr>
        <p:blipFill>
          <a:blip r:embed="rId1"/>
          <a:srcRect l="0" t="0" r="1394" b="7771"/>
          <a:stretch/>
        </p:blipFill>
        <p:spPr>
          <a:xfrm>
            <a:off x="1403280" y="0"/>
            <a:ext cx="63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圆圆的月亮064"/>
          <p:cNvPicPr/>
          <p:nvPr/>
        </p:nvPicPr>
        <p:blipFill>
          <a:blip r:embed="rId1"/>
          <a:srcRect l="3230" t="2805" r="2019" b="8126"/>
          <a:stretch/>
        </p:blipFill>
        <p:spPr>
          <a:xfrm>
            <a:off x="133200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2:33:28Z</dcterms:created>
  <dc:creator>新教育</dc:creator>
  <dc:description/>
  <dc:language>en-US</dc:language>
  <cp:lastModifiedBy>User</cp:lastModifiedBy>
  <dcterms:modified xsi:type="dcterms:W3CDTF">2015-07-02T09:47:12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