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3" descr=""/>
          <p:cNvPicPr/>
          <p:nvPr/>
        </p:nvPicPr>
        <p:blipFill>
          <a:blip r:embed="rId1"/>
          <a:stretch/>
        </p:blipFill>
        <p:spPr>
          <a:xfrm>
            <a:off x="1793880" y="0"/>
            <a:ext cx="555624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矩形 4"/>
          <p:cNvSpPr/>
          <p:nvPr/>
        </p:nvSpPr>
        <p:spPr>
          <a:xfrm>
            <a:off x="2700360" y="155736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1835280" y="-23760"/>
            <a:ext cx="54543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835280" y="-34920"/>
            <a:ext cx="547344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1835280" y="468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1835280" y="-19080"/>
            <a:ext cx="547344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1835280" y="-6480"/>
            <a:ext cx="5400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1"/>
          <a:stretch/>
        </p:blipFill>
        <p:spPr>
          <a:xfrm>
            <a:off x="1763640" y="25560"/>
            <a:ext cx="561672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0" y="612720"/>
            <a:ext cx="91440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1"/>
          <a:stretch/>
        </p:blipFill>
        <p:spPr>
          <a:xfrm>
            <a:off x="0" y="612720"/>
            <a:ext cx="91440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0" y="58572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2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0" y="622440"/>
            <a:ext cx="914400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0" y="625320"/>
            <a:ext cx="91440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1690560" y="0"/>
            <a:ext cx="57610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1835280" y="-12600"/>
            <a:ext cx="54734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797120" y="0"/>
            <a:ext cx="554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1763640" y="25560"/>
            <a:ext cx="5488200" cy="67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1763640" y="-12600"/>
            <a:ext cx="56167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1763640" y="-1440"/>
            <a:ext cx="56167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1835280" y="19080"/>
            <a:ext cx="54892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1908000" y="34920"/>
            <a:ext cx="535464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1797120" y="6480"/>
            <a:ext cx="5472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2T09:11:18Z</dcterms:created>
  <dc:creator>Administrator</dc:creator>
  <dc:description/>
  <dc:language>en-US</dc:language>
  <cp:lastModifiedBy>User</cp:lastModifiedBy>
  <dcterms:modified xsi:type="dcterms:W3CDTF">2015-07-02T09:11:44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