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4D83-AB44-4C7F-8E33-908A2ACC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870-B672-4B98-B6CA-2D6AB9B3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824A1-2AD8-4317-B535-8E32F300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D034-6BA7-468C-AAAD-B85F9FAA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85CB0A-20E9-4542-9995-8E92108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4A622-0351-418A-8251-D4BF9E6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F66BA-F5A6-4EAB-9CE1-E5469D1F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F35E34-A189-4F58-BC88-592697B0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6FC87-92CB-43B9-833D-C3FC39A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DB88E0-4718-45DE-8A22-F62F03F2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96262-597C-49E9-A076-E251B2AEF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561E27-21E6-42C8-8CA3-109ED2FB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004-AA1B-49E4-9CBF-01DD9DA0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B0EDE-4AFA-413E-869D-6F64EE01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D5916-9B87-4A30-9F90-3D7F330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7AFAC-79C2-4884-88FA-16B6C223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D3859-4E90-43FF-851B-180477BA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F93BA-65DC-4FFE-9FF3-DE791DDF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6F088A-36B0-459C-92A7-C997E40D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752D4-3B3C-4671-B251-F30B3E59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FE225-223F-4266-A080-F76A8BE8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64157-A87F-4FD2-94C1-832065EE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54D18-18FB-4195-BB22-0ED1A448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A33-457E-495C-B73F-4FC42A2A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CBBAD-C8F8-4644-BE5A-46A7A318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E1C2F-E9F2-45B1-99A0-0D4AD0B1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124FE-96C3-4D8E-AD05-F4BA19C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2E3F5-4C97-46C3-B341-77C12012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B9A38-2816-4FBB-8ACA-9FA39E6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3DE86-B8D9-4B9D-879A-85DEB70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B8876-34D1-4E5E-A934-2DDA1C85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36D7-0FE2-4619-AF32-6C1B44D1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89781-06E5-4208-BC05-ABDA80E5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EB55D-F2D9-43C5-BB40-5B379D85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FE1D-8217-4B33-96DF-8AB9D92D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7A3A5-1CFD-482E-BAE5-B5D25E27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0A470-0E4F-4F80-A7D9-E0C87798C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CE769-370D-4071-871E-8F2EC204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01C65-B3B6-4262-865F-CC46B4B2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E81D68-CB2B-444D-9D0D-5B1364BC1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370D4-7B10-4EFA-8892-3F6EA2F5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10F1D-4BA1-4ECF-AB4F-DA89C566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9B244B-8970-4BBC-B14E-57F2340A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2C2EF-92C0-4C7F-9FC9-1231A7FB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5ADD4-9A2A-4236-86E3-B3EBA7C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6BD6-3CCA-4F58-B7E9-42970C35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CC422-17BB-4C9E-8CA9-76D52F18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C1314-051F-476F-9C97-51ADB3F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53EE2-8A3E-4865-AB9E-F1E6F26C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049891-BF62-4FE4-BAE3-CAD3D091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68066E-2080-45DC-BC7C-25E76549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2FEF4-B598-442D-9249-8C34D2E1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2F855-296D-48DA-967B-044FE72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54FB6A-A90D-4DF4-80C9-2993159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D6B13-6F7A-438A-912D-263D5A56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3E578-0150-417E-8DC7-E865DBCB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09F7-5C73-492A-BD4B-AB3210CC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7DA18-A30F-4230-8FCC-D8E5313E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879B38-12EA-4E67-842A-E509B6EA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6DE05-A85B-4B8F-A1B5-5EF4FE0E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5FFF4-30AF-48B2-BF51-440EBDF9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479D65-282E-475C-BFFA-1C3459FC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20588-8E76-41C0-900E-20EF0B61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5F661-112F-454D-8EA0-35F36852A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49EA-B3DC-4F39-8D5F-FF1E3442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DDB0-8995-4036-82D8-E86C7E0B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69E2-8C9F-430F-BBE9-EA8EAF03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6840-82A5-4C48-9FB7-EA6BABF1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5AD5-7478-4E97-A213-9D2C5AB4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991-D9F0-4981-93DC-569E349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650A-3A82-45E0-9488-A6871DA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AFBC-53F1-434A-81F1-FAD98D35F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38CC-91C9-4A40-818E-1C5F0D7A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D12B-162B-49B5-A971-947712FBE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398D-A763-48B1-B097-A40D374C0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31D4-7889-4D1D-B214-DA92B46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DF4A-A474-42CA-9088-84B9B631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BAB79-31E7-4A29-8560-7E0A75C9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43AB-4C88-4963-BED5-9EA18DB2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BD38-8E60-4DB6-AEFC-9002C3A0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BB8DD-8674-4610-B159-2AF1D7EB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E7B2E-C8DD-4A23-A958-FAEDB44D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879CA-C18F-497A-B0DD-CEE48800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F448-B363-4675-8372-2836F02F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F4B6D-5D0D-45DA-897D-05C88186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59E0C-5241-4E4A-A075-286F3FCF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D9486-1503-4AD4-9910-2B8643AA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B624D-A74E-4BC5-ADEA-08B6E85A7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BA9D7-0331-41CA-A523-02EFB120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53D6-31BA-40A3-91E6-EE58277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989-059B-482D-8ACE-3B33B975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A7E65-B6D5-4D5D-A36C-37A57451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2F5C-C975-47E0-A21B-69BC35F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6A51D-77FC-45F6-BCDC-264E57E2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9FAEE-8302-4F7A-93DA-31D09520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D8058-0144-4FE2-BF1E-102BDE79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6ED4C-59E0-4E3E-AF2B-592647E0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0049-074D-4660-8EF3-01D9F704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B65F6-997D-48EF-846A-3B0A0A7B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9C796-65ED-4D58-8FF1-FE3CACA4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D136F-0475-4886-A457-9673675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A03-9021-4130-963A-B285CCD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E02C6-1C8F-4C6E-8F21-DEB63055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02016-AAEA-4B0C-82BF-8F3100FB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97C40-B597-47EA-BCC1-301675F7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5036D-A114-4F36-8559-3294027C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00AAF-9B85-4614-B4D1-98AB9EC7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F9395-5B98-466B-B780-29D3BF60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AA06-1492-47DD-BCC0-60DF30A4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840C-FE03-4A3C-B6E5-C4B4E809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7155-2586-40BF-8675-0961FF97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FB212-C6AF-4944-88FF-AB40032C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48A0-16F3-4DD7-AFF7-DED6A024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9FAF-9C18-48FB-A8A9-015CECDF7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8E75-B563-442A-AE35-05827061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3FDDE-EF43-4C7C-9251-8405D6D1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1CF43-0E36-489E-A7C2-B4F61B24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8D06C-F0B3-4B2F-9873-61FECFD1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3189-A86C-48AD-8CC0-2819568F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B84B5-1B61-4547-9CD9-B8862DD54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D10B1-415E-49E3-A3A5-BDB3C8C6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2F4DC-4936-4D4F-8A9A-D43C0E07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D086B-78BD-4DA9-B224-797FCCCF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BB14-ABC6-4CC1-9470-95BC6E7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2D188-3711-414D-84E8-D2DE96F93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23438-79D7-43E9-BE77-70B3F2E5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80D42-3A50-4EE6-99ED-C258ED3E5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1E65E5-11D5-4A05-9E7D-6F135F3C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328E8-3828-4659-85F5-2448E2F4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1B364-CA6A-456D-A137-EC7B514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974815-B7ED-46DB-A93F-F0B5F2F7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398B4-8A03-43EE-B6E5-414DB6F4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A995-204F-4D93-8181-E9B82E4B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A16B2-9E6D-4FAA-A408-573DF0B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DD6B-5CBA-4BAF-8BF1-9ABE9B63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F40AA-F6D5-45AA-8AD9-5EAE1C4B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681CC-E8CD-4E2C-85FD-CB10BC11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3E50A-C11E-4FAA-BD66-CC946CDC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773F0-7948-4BDC-8901-53CD93BD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BE277-C126-4903-8A7F-EB9671F7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E8145-6FD1-4ACF-BD84-54AE96F3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A83C4-C6E2-4349-94F7-4DA29F04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78B24-91A1-429D-B2EC-266C324C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B367F-DDDE-4013-92BE-084A94FA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D970C1-CE9A-418A-AEB0-E6FC04D8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FBDE-8F8C-40C1-AB50-4E6CDF65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288A4-ECC0-4616-AD50-1EFD77C5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6B55-42A4-4CBC-B60E-6E3B368A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151A8-6DEA-4963-809B-88B64E9E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411806-384C-436C-82BD-D007E0BB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AAA7-E3BC-484C-8DE6-38F9808A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3BA0E-8C61-4DDC-A779-9D0C3863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E4FB8C-3F6A-432F-B644-0BE2FD7B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7DCFD-A4FB-4493-B392-22D69427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859C19-8187-45F3-ABF1-231FDC1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1154C-A867-469E-AE8C-DA6F406D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5539-3FE6-4EA8-9814-C30B80DE2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07F6-E584-4C52-95A0-20D403290B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E5AA-5077-4C87-9B2A-9D558728F46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FF05-0D29-4C6D-AADF-814AB47B770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0E87-2A99-45EE-A191-BBDD67DFA7A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6CF3-9E1B-4D8E-ADA5-39945071EC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6F44-9FF0-4DA5-B5B9-CF5E8826517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7B45-F0AB-427E-B606-88462CD770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0E88-A166-4F3F-986A-946ADD579F3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008D-0F37-410C-97B7-2C57462566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10B7-9EBC-4CE0-B731-C49500920CD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FC78-7F7C-432A-B76A-E96E6F9B1E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9A0E-9DB7-41A4-9AF2-332E3C279C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excel/" TargetMode="External"/><Relationship Id="rId14" Type="http://schemas.openxmlformats.org/officeDocument/2006/relationships/hyperlink" Target="http://www.1ppt.com/ziliao/" TargetMode="External"/><Relationship Id="rId15" Type="http://schemas.openxmlformats.org/officeDocument/2006/relationships/hyperlink" Target="http://www.1ppt.com/kejian/" TargetMode="External"/><Relationship Id="rId16" Type="http://schemas.openxmlformats.org/officeDocument/2006/relationships/hyperlink" Target="http://www.1ppt.com/fanwen/" TargetMode="External"/><Relationship Id="rId17" Type="http://schemas.openxmlformats.org/officeDocument/2006/relationships/hyperlink" Target="http://www.1ppt.com/fanwen/" TargetMode="External"/><Relationship Id="rId18" Type="http://schemas.openxmlformats.org/officeDocument/2006/relationships/hyperlink" Target="http://www.1ppt.com/shiti/" TargetMode="External"/><Relationship Id="rId19" Type="http://schemas.openxmlformats.org/officeDocument/2006/relationships/hyperlink" Target="http://www.1ppt.com/jiaoan/" TargetMode="External"/><Relationship Id="rId20" Type="http://schemas.openxmlformats.org/officeDocument/2006/relationships/image" Target="../media/image28.png"/><Relationship Id="rId21" Type="http://schemas.openxmlformats.org/officeDocument/2006/relationships/image" Target="../media/image29.png"/><Relationship Id="rId22" Type="http://schemas.openxmlformats.org/officeDocument/2006/relationships/image" Target="../media/image30.png"/><Relationship Id="rId2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8" descr="200882116484157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7"/>
          <p:cNvSpPr/>
          <p:nvPr/>
        </p:nvSpPr>
        <p:spPr>
          <a:xfrm>
            <a:off x="2771640" y="6165720"/>
            <a:ext cx="3096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7"/>
          <p:cNvSpPr/>
          <p:nvPr/>
        </p:nvSpPr>
        <p:spPr>
          <a:xfrm>
            <a:off x="0" y="9079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4" descr="200882116541244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200882116555186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4" descr="200882116560535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4" descr="200882116563184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4" descr="200882116564947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4" descr="200882116571374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200882116580157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200882116581811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" descr="200882116583988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200882116585735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200882116490758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4" descr="200882116591454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4" descr="200882116594755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4" descr="20088211700023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4" descr="20088211700247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200882117004484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200882117013163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4" descr="200882117014583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4" descr="2008821170203733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矩形 4"/>
          <p:cNvSpPr/>
          <p:nvPr/>
        </p:nvSpPr>
        <p:spPr>
          <a:xfrm>
            <a:off x="1573200" y="4329000"/>
            <a:ext cx="6454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"/>
              </a:rPr>
              <a:t>www.1ppt.com/mob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行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www.1ppt.com/hangye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www.1ppt.com/jier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www.1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www.1ppt.com/beijing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www.1ppt.com/tub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优秀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www.1ppt.com/xiaza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www.1ppt.com/powerpoint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ord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www.1ppt.com/word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Excel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：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www.1ppt.com/excel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资料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www.1ppt.com/ziliao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课件下载：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www.1ppt.com/keji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范文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www.1ppt.com/fanwen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试卷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www.1ppt.com/shiti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案下载：      </a:t>
            </a:r>
            <a:r>
              <a:rPr b="0" lang="en-US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www.1ppt.com/jiaoan/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7"/>
          <p:cNvSpPr/>
          <p:nvPr/>
        </p:nvSpPr>
        <p:spPr>
          <a:xfrm>
            <a:off x="0" y="2709720"/>
            <a:ext cx="9144000" cy="1366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9" descr=""/>
          <p:cNvPicPr/>
          <p:nvPr/>
        </p:nvPicPr>
        <p:blipFill>
          <a:blip r:embed="rId20"/>
          <a:stretch/>
        </p:blipFill>
        <p:spPr>
          <a:xfrm>
            <a:off x="1652760" y="349200"/>
            <a:ext cx="5581440" cy="194328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3"/>
          <p:cNvSpPr/>
          <p:nvPr/>
        </p:nvSpPr>
        <p:spPr>
          <a:xfrm>
            <a:off x="468360" y="2809800"/>
            <a:ext cx="410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以在下列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4572000" y="2809800"/>
            <a:ext cx="4103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10" descr="png-0644"/>
          <p:cNvPicPr/>
          <p:nvPr/>
        </p:nvPicPr>
        <p:blipFill>
          <a:blip r:embed="rId21"/>
          <a:stretch/>
        </p:blipFill>
        <p:spPr>
          <a:xfrm>
            <a:off x="2916360" y="2809800"/>
            <a:ext cx="393480" cy="39384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11" descr="png-0652"/>
          <p:cNvPicPr/>
          <p:nvPr/>
        </p:nvPicPr>
        <p:blipFill>
          <a:blip r:embed="rId22"/>
          <a:stretch/>
        </p:blipFill>
        <p:spPr>
          <a:xfrm>
            <a:off x="7234200" y="2809800"/>
            <a:ext cx="393840" cy="3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882116493357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20088211649577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4" descr="200882116501463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4" descr="200882116523658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4" descr="200882116525334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4" descr="200882116532816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200882116535122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5T13:46:37Z</dcterms:created>
  <dc:creator>微软用户</dc:creator>
  <dc:description/>
  <dc:language>en-US</dc:language>
  <cp:lastModifiedBy>User</cp:lastModifiedBy>
  <dcterms:modified xsi:type="dcterms:W3CDTF">2015-07-02T08:59:5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