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9.png" ContentType="image/pn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199-D003-41D2-B6DA-230501B3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7D32-91D8-48B7-8443-AB3A3EC7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87C83-0F3A-4FFC-97D4-C10FC32B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B5232-1085-49F6-B06E-61B2EAF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3AE49-9150-4409-A0DE-20FAE6BA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ACF1C-A812-4A7C-B635-29E2E49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6EB37-7065-42CD-BBB3-19591E31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05B52-EA97-4CCA-93D3-EFDD599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60E11-22F3-4109-AB61-58220CE0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578D-ABBB-46EF-858A-6AD17E5B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23C7-1F2D-4957-BC7A-93588D3E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52355-B443-4840-A7F8-109201A5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E8E-0F18-4AA3-9E57-98F6420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3399A-6115-4A83-BBDB-60FE0412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0E718-957F-4FA9-A685-EA36BAD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37DBB-DFC1-4CC2-A001-AED0436B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EBCF1-97A0-431F-B166-D7B263A9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5D0F4-6D7A-4539-8326-86FA74AD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D7D99-DD84-4E20-8597-0DA94DE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7F259-7C97-4B88-BBEE-0B9A58A5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83049-A282-43A5-85D4-6A1F9D8A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DB42C-DD7D-41C9-8BA7-7C98C8A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4055-0987-4280-8F72-B1820C1B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039-79E4-43B3-B6D1-6CDAEE1A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08FEA-1DF0-434D-954A-FE44A410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4FB65-E20B-4E86-8FCD-948B0A38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8CBEB-324F-4CF2-BBBF-BFB8992E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1C6AB-2237-478D-BA01-3797A0AA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5AB22-22D6-494A-82DF-B93ACA0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2E6CA-1FE2-4E46-A347-7339C69B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D123-0FC8-440D-8003-0CF36FA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B9398-BFA5-4066-8159-7ACE23D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5AC6D-E670-4690-81C2-E9F28EA7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E0B4D-5DFF-41D5-96F8-BA47D161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E6BB-A0EC-4E03-B724-0DB84621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E109-ED8A-4A9A-B758-15219C34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7061A-945A-4A53-ABF1-F27EE7EB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E753-41E5-4D0E-A474-FF654655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8963-BCCC-4F07-8DAF-846B900D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3F69F-57DC-4C74-AD93-8AEEF6EA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D2394-2ADF-4BEB-A274-C42B19D5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349C-4812-4C8D-A153-C5684444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FB996-729C-4B74-BBEB-85062F34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2D3D5-7522-430F-B050-F40E00B1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47A9A-336B-4409-A342-6C773D6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86D4-850F-4288-A5AC-4CFCA8C4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87CA6-DA24-4242-ACB6-BE4AE61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B0675-7610-4827-A0F9-5B302EB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7A054-D6A7-40FE-8C8A-47E35E37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E453-6BA5-4E68-8ED7-84B2459D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C9F0A-1E98-44FD-A7C4-5A4D46C6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AE943-0697-470A-B53E-797A25CD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4541B-300D-42D6-9D24-19A9750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F58E3-C392-4DA1-853E-33F6D35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E9752-905E-417E-91B9-7B64E8F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B2BFE-E974-4E74-8B76-D7C03F74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0321-512E-482C-B5E8-6BC5753A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BF59F-FE9B-4A9D-AD99-F8747605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EB5DD-66D2-46E8-8276-D65051B9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CCC9B-A00A-4032-BEA1-E2258A0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E03383-8425-4CBA-BE89-6705992E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115C5-0695-4E54-B0B2-7ADB6DC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9B3C5-4C56-46C1-8366-359E0A5D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48112-B525-4742-8D29-E3542E0F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2FFF-E7E1-4A9A-AD0C-30066B0B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741C-00D2-4594-B457-69BD5877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83D1-D4EE-48B0-98C8-742C8393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8DF9-7083-463E-8372-9EED9AD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265-9B56-4B08-AC71-80940473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2F38-A9AE-492A-B0A6-F4A77C59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CE08-1F85-4B3B-B37C-BACD3FE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BB8-FC25-4679-B636-ED2E7337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0B3C-D190-4A17-9B4F-E0F21C7D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5289-7D57-4411-A22E-34D5E321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7D49-3F69-44B2-BEB2-BB2A6F15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A4A8-51AA-4729-9BB1-91FD5D6A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BA60-2492-4E9B-A5E9-9C7F6C4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157F-8894-4ECC-B118-70E512CC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139C-AC80-45F2-9FAE-A521458A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363-2608-4702-B1D4-7CAF356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29741-547D-49E7-96F7-88776E01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8ACD8-44FB-46EF-9B47-A842F287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E7AF-CB86-4A3F-826A-71AB974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0673-D653-40EE-BF25-A7BD7BB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BE68E-6272-4F8A-8C2A-B801B773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9200-40FC-401C-AAC2-0A5E3C48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BA1EF-CE82-4B95-A2DC-1292F183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6B51-4763-4556-8065-D72BA23E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6688-4FD7-43EA-BDF1-9A051374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F578-0D17-4EB0-811A-9099465E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A6E-FF78-4D4D-8B3B-4B9C52C4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7293D-5160-453E-8758-2BBF827C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A8901-5E9F-4617-8956-4408474B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32AB-7695-45B0-8E5F-DB1FC1BE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206A-E1ED-4D49-8785-1363951D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3492-6094-45DA-9623-F75A5E8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CB892-0E94-472D-B0C6-07388D4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A3AE-1AC1-43C0-917A-218B0447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E66C-62F7-4928-9E59-F60F3F43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A006-3AB8-4B6C-9296-BAB3AA7E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C502-0742-430C-B7D0-1D401C3B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4CB-3CB8-40BE-9F3A-EF240A57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0886-9AB0-422F-9BF3-064D7C6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8940A-7555-464C-9425-02DF5085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4A625-9825-4013-B84D-F2C14E7C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0C27F-DC79-4D35-A8CD-D421ACA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53EF-615B-4C25-A0EC-8A6B3DFB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6204-86D4-4715-BDD6-695DE23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155A6-C550-4323-97F5-E40D955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13DBB-EF63-4B33-AFAD-8EDF0BB8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7C5A4-5672-4EFE-B372-9CCC4F66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F4251-3896-4FA1-9EB9-65248E41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A87-975D-41AE-B08D-088EFF99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CFB3-8153-4604-9CC3-75BA02CB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AFA6-BB51-4495-B365-89EC978A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2DF4-7139-4E35-B742-7391818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4A4D-82B4-4936-A876-0567D14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42464-8280-401A-86ED-E6631D5A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E510-7C86-4C07-8879-ADEE430C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B771B-3356-4933-AAB9-394A244F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AEAC7-9F14-4C8B-B5DE-CD8CBFE1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A8BEA-CCA8-4CB8-B497-BFF1E8D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EB06B-E8CE-44B4-9C79-8E867B4E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9A4-46CB-41EB-8DD7-95B4E26E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930D3-9C1B-4075-AA22-F89B5F64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682D-0981-4D06-9894-20B14057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500D9-0890-402D-9106-48520818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68C9F-2335-4138-B3E7-3BC093A9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73D1E-2A6C-485F-A7F9-1CD939C6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8272-C68C-4CD4-9305-7916EE7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8F5A-B2D3-4FAF-86CC-F609A315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9BD0-5DDD-4C5E-BDA6-4BBD172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1F4DF-198C-4372-A0F9-444F36C7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9A59C-4846-478B-8230-CC48B9A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C03-4E31-4277-8495-1ED2A11C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1AB1-74E1-489F-BD36-3FE1C736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E19E7-A825-43ED-B1BC-0E7F787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4C5C-C8E9-48F7-B5A8-C323DAD2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8EE9A-1B13-47DD-9B31-15A1951C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F8310-954C-4AE5-9A33-0AD0BDFF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6650-3F65-4D37-AA09-8FFBAC47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DB0E-60BA-4B37-A595-094BD8BF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9FBC-80D2-4BEE-BB62-74F4ED93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4D1E9-1A44-44CF-96F5-A0409A15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95DB7-0AF5-4F3C-B493-05FC5F81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360F-057C-4BCF-BBEE-BEDB583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9F375-A788-4B16-B4F6-3E8F9F90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E7F0F-16EA-4E10-838C-C369BFA1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669DD-A3AD-4E0F-8D85-FDB67D70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B928E-9E29-493D-B404-625AE780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612AB-6C9E-4AB9-BA4E-F2D08FD1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F9D4-CFFE-4B96-A6A4-BB6C4317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B8061-098B-410B-8447-E5631FE0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BF95-3580-4498-BAB8-39A515FA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0D13C-20BE-469C-9210-E50087B0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B2885-9E9D-417A-BEF8-6D52FA4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C636-9171-4509-90C5-70125573B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7316-FF37-4607-821F-96AA34E5FB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B4B7-5027-4F74-A2B9-0D782D63A2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F7F7-342E-490B-ABB9-019D5E5F4D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F203-1907-4C70-A5DD-5BEA0E91E1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1858-C371-4453-92AE-33C1F07BC9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E485-7C2A-4D93-997B-99C0CB842C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3B10-EF45-4FA2-9A6E-038629E700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0FB5-399B-45AF-B425-1A45C7E0207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46A1-0600-4FFE-BA47-6634647D28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E707-2D78-464D-BA8F-789A77D190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0A17-BD8F-40CF-BEF6-00E3B821EE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2250-A726-4E6E-AA60-41428A2E25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197080" y="-27000"/>
            <a:ext cx="47023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2368440" y="6262560"/>
            <a:ext cx="3096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5"/>
          <p:cNvSpPr/>
          <p:nvPr/>
        </p:nvSpPr>
        <p:spPr>
          <a:xfrm>
            <a:off x="684360" y="2924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026" descr="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1026" descr=""/>
          <p:cNvPicPr/>
          <p:nvPr/>
        </p:nvPicPr>
        <p:blipFill>
          <a:blip r:embed="rId1"/>
          <a:stretch/>
        </p:blipFill>
        <p:spPr>
          <a:xfrm>
            <a:off x="0" y="428760"/>
            <a:ext cx="4524480" cy="60004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027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2243160" y="0"/>
            <a:ext cx="4657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026" descr=""/>
          <p:cNvPicPr/>
          <p:nvPr/>
        </p:nvPicPr>
        <p:blipFill>
          <a:blip r:embed="rId1"/>
          <a:stretch/>
        </p:blipFill>
        <p:spPr>
          <a:xfrm>
            <a:off x="0" y="500040"/>
            <a:ext cx="4352760" cy="5857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27" descr=""/>
          <p:cNvPicPr/>
          <p:nvPr/>
        </p:nvPicPr>
        <p:blipFill>
          <a:blip r:embed="rId2"/>
          <a:stretch/>
        </p:blipFill>
        <p:spPr>
          <a:xfrm>
            <a:off x="4211640" y="500040"/>
            <a:ext cx="4932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27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27" descr=""/>
          <p:cNvPicPr/>
          <p:nvPr/>
        </p:nvPicPr>
        <p:blipFill>
          <a:blip r:embed="rId1"/>
          <a:stretch/>
        </p:blipFill>
        <p:spPr>
          <a:xfrm>
            <a:off x="4284720" y="569880"/>
            <a:ext cx="4572000" cy="5718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28" descr=""/>
          <p:cNvPicPr/>
          <p:nvPr/>
        </p:nvPicPr>
        <p:blipFill>
          <a:blip r:embed="rId2"/>
          <a:stretch/>
        </p:blipFill>
        <p:spPr>
          <a:xfrm>
            <a:off x="0" y="569880"/>
            <a:ext cx="4284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026" descr=""/>
          <p:cNvPicPr/>
          <p:nvPr/>
        </p:nvPicPr>
        <p:blipFill>
          <a:blip r:embed="rId1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028" descr=""/>
          <p:cNvPicPr/>
          <p:nvPr/>
        </p:nvPicPr>
        <p:blipFill>
          <a:blip r:embed="rId2"/>
          <a:stretch/>
        </p:blipFill>
        <p:spPr>
          <a:xfrm>
            <a:off x="-18108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12:09Z</dcterms:created>
  <dc:creator>微软用户</dc:creator>
  <dc:description/>
  <dc:language>en-US</dc:language>
  <cp:lastModifiedBy>User</cp:lastModifiedBy>
  <dcterms:modified xsi:type="dcterms:W3CDTF">2015-07-02T07:57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