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486-E429-46EA-96F3-32686AF6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4D0-CB62-4347-933B-F0AAEA42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2FBFC-3E2B-4B95-B877-D0A2E3D9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26EA0-A4F0-46B1-B068-D3B64351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49393-56D7-4ACE-9DEA-C7AA774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5CA53-1F25-4A47-AFA9-05873E2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67250-8D60-4A02-8611-824846B5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DF5C0-38CD-483F-92D9-871EDC9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5D377-9A5A-4A7F-946A-B082C302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677F4-317B-498C-868F-134CFC75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8F373-65AF-4685-8100-76083F71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D2551-EDBB-48A6-A554-0CA73A96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DB7-7245-463A-A548-77CFCE05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9BA3C-5B5D-4FE6-A31C-E42BFCA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AECA4-C611-4E33-B08B-B9EE5E62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CC0FB-1F10-4202-BD61-75C3685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61C72-C4FA-4DDA-A941-66B056F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87BD6-26F8-42CB-9E35-C4CB4994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4C54A-752B-4F31-AA4F-F437FCA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87BBA-4CB0-4EC4-A1EA-7465A29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4151A-F198-4FD3-A670-FF9D91A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0768-EED9-405E-8DF2-C076F87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4E0B7-372D-41B9-841F-CAC49E34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473-AE8D-4AD1-8ED0-504DA17A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BAB44-0798-4CBF-AB50-BD2D7004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AA119-F51B-4459-82F1-65E90AF5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21A30-B405-456F-AEBD-370C894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CF948-D8BB-418C-92F4-4CEDB245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E28FB-A129-4E80-AB1D-657310B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28A4-B81B-4D0A-8CCB-7302979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1A051-AD28-4114-BF4D-0344D89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A725-50C2-43B1-A933-4DD04E8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18B9-97E7-43F4-9AB7-59BA4B6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BFC5B-0A57-4961-8526-07886A2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4FEB-C938-4D21-A632-0D99A59B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CA5E-966D-4224-B218-F1D7EE7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F7E6-0B75-4EEF-B147-6D1316D8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4F9B0-BC9A-42FA-B93B-B081993E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21539-BEC4-42A9-9E2D-74A90A5C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91B42-F2D5-456E-8081-34342AE8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F030C-699C-4DDB-B925-68180F9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9333F-7D49-4449-81A5-7A8D4C6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88CA1-4F7C-496C-AA23-EC4A75FF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93EE0-FC95-47EE-876D-AEE494E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32CA9-CAE7-4434-A52A-8944765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321-620A-42B6-8421-FEF397C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B25FB-D30B-47D9-ADC7-926BD6C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10901-C326-4775-A06B-5B3BCDA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CFE03-C130-440B-8F29-67AE159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6CD12-A70E-433F-9949-BF727C2F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47DB-AE0C-4F11-95E8-B5E418DC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4271-03E4-4E57-B51E-7FC9BB0F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4F48-C5F6-4854-AD2F-83AFD30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AD87-AF3B-4D4D-8AAC-9D55CFD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FF5-167F-454E-855F-4127767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6D2A-292E-466D-8F69-918DF3B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9BF-C580-4174-AE7C-230EC3A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89D-9452-43FF-9090-8D99D112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5513-B2C8-4028-8E3C-28E4C3C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0991-7EE7-4C0A-AE7D-4A37602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9F24-928D-4296-B31D-8FFD2FF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4145-1301-490E-B729-BF36806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59DB-8BDC-40C3-9CB9-C3738493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74B2-47BB-4A4A-95F5-1963979A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FDDA-3552-412B-97B9-3479805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B28A-B906-484F-8C8B-11EB433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5BD5-64E3-4E7E-A1DE-083B7B9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47F-7AA7-47BE-8940-C47774A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1D48-1CD5-4EFD-8E46-574CBD2A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2459-7BF9-412A-9AAD-5E6E8C3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474A-A235-4797-BA28-D2CBC9C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C5B7-BC68-43A8-B8EA-21B9470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F415-EF28-442B-96B7-3103EAFC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36A4-2980-4EA6-8D17-34C7EA31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214D-684A-46D7-AE72-72004CEC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6D9F-7142-4908-B67F-28CCAC29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DE59-A764-4BE0-86C4-27486DB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3309-7600-4804-AB4B-B2E5140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36D-5F17-4605-8ACF-BA900A0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2216-F073-4876-A8F0-A1602B0F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7650-7566-42C8-9F55-D8BB046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2567-02EF-4141-8DFA-62333E1C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A945-DFFB-436F-9094-9961C26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8469-8C97-4628-9F62-CD5D7DA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7CCD-350D-4F58-9DAF-945A7991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78F8-9652-4838-95DB-4078D8E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AC63-50EB-4552-ABEE-D9BE242D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CE8D-7C9E-4981-939D-D09D8729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4AB8-3C4A-44D7-BF02-0C2E4326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EB9-7656-46BC-9ADC-30376F5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5C99-F2C9-4F05-8C75-235EBFA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1B92-704A-4822-993F-DB2A4F1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03FC-1F44-4CDA-B7D5-7FD7C772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AF57-D342-4894-87F8-2ACE4673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7157E-9505-4B0A-8BA9-12CD0AA6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AD90-29A6-41F4-9CAC-C0314BF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132A-2646-4F6F-8505-3A4F8D2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61F5-9A12-4279-98F8-D6FAD09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E1FE-C94D-4B05-B822-41D3EDC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A127-38E1-4978-BF56-88DFC46D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E66-2F1B-4AA1-B4C4-68D594E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9777-63D6-4706-9357-4021AC03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FA0EB-2DF7-43A3-A98D-5B2D7F3D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95E74-84FE-4B0E-A683-0875D65E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9411F-B1E3-4849-9B88-9956F9D7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A523-C63A-4472-8022-C2F9D7B8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3893-049A-4DD6-9AF7-3BA405A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B04BA-7166-4EB7-9AB2-102E08A6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052B3-4D5B-40BD-AB17-1FA6B18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448C-E97C-4E49-8B9C-539E185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D017-D718-4859-A4DE-B613678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81D-FB75-4F0D-8766-8256442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EB3D3-D533-41F7-B7A3-22E583D1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12D6-1643-45B4-862A-160CF78F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D8A3-BF0B-444F-8F71-923484AA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B991-9184-4F3A-BBEB-261516F3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27D86-BB1A-4B79-91B9-5A759F55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851C-5C7F-4087-9725-89D4D3B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19B2-D8D4-4151-B20E-1824E87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82886-950A-4BF0-ABFC-360A7F9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13AE5-6F89-46C9-81BC-D01F698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3EC3-D8FE-4317-B357-AD3F434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F04-56CF-492E-9D87-57ACF43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36E8-1EBB-451E-A531-1840E7F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E3C91-05B5-4FFA-9CF6-1AC20A9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F02C-11CA-491A-A9BF-CD4D26F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BFC3-18E7-437F-B34C-C43955F5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7648-6C76-4481-A401-C8E186A7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34D59-4336-4891-AAE5-B7009F7E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BE55-AD93-45BC-96D0-22B8951B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6E4B-CE9E-49D3-AB27-E4D532D4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96514-245D-4BC1-A76F-226DD9F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C71E-6375-44C2-8B9D-C739999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7C5-C8A1-484B-B27B-AA76894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033F-87EA-4FE5-A2DE-E6113FFC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B935C-6E34-4146-B7CC-8ADF6B6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6E97E-AC47-4F8A-ADA1-B5CAE9C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1C5E-6727-4FB3-83CB-DDE3E85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EFAED-0748-4C78-B6E0-745E611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98D1-2B7E-4F9E-9C64-E5EF9F58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C94DC-6C02-4F24-8563-1B3D10B6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59038-B585-4FAC-AA17-17752E30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927F5-73B7-429F-8F3A-6D089D1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93EB4-437F-4CA5-A614-DFD3ADC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7CD9-4299-4425-9C0C-69499F652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37E7-59A3-4BB6-93E4-8D75FFB2A7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EACF-BD26-402D-844F-4A69CB328C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075-D934-4107-9E02-667CC7D2BF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0F9-3FCA-4E87-8202-0E5E2566E5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AE4-CF86-4EEA-893D-3738403692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FCA-6501-4E28-A175-7135BA3381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778A-9FEB-482C-8B37-03C2A0AF0A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D01-E834-475E-BFB0-F75A939EBF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EB3-2136-4914-A9E5-CD4EF4A068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85A0-F274-4073-933B-407C528B9A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E36-47CF-4336-B930-F740D4D95F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小猪变形记001"/>
          <p:cNvPicPr/>
          <p:nvPr/>
        </p:nvPicPr>
        <p:blipFill>
          <a:blip r:embed="rId1"/>
          <a:srcRect l="3209" t="0" r="2363" b="2539"/>
          <a:stretch/>
        </p:blipFill>
        <p:spPr>
          <a:xfrm>
            <a:off x="2340000" y="476280"/>
            <a:ext cx="4248000" cy="5905440"/>
          </a:xfrm>
          <a:prstGeom prst="rect">
            <a:avLst/>
          </a:prstGeom>
          <a:ln w="0">
            <a:noFill/>
          </a:ln>
        </p:spPr>
      </p:pic>
      <p:sp>
        <p:nvSpPr>
          <p:cNvPr id="493" name="矩形 5"/>
          <p:cNvSpPr/>
          <p:nvPr/>
        </p:nvSpPr>
        <p:spPr>
          <a:xfrm>
            <a:off x="2324160" y="47628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小猪变形记012"/>
          <p:cNvPicPr/>
          <p:nvPr/>
        </p:nvPicPr>
        <p:blipFill>
          <a:blip r:embed="rId1"/>
          <a:srcRect l="6389" t="4297" r="5577" b="4193"/>
          <a:stretch/>
        </p:blipFill>
        <p:spPr>
          <a:xfrm>
            <a:off x="255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小猪变形记013"/>
          <p:cNvPicPr/>
          <p:nvPr/>
        </p:nvPicPr>
        <p:blipFill>
          <a:blip r:embed="rId1"/>
          <a:srcRect l="4834" t="0" r="0" b="3746"/>
          <a:stretch/>
        </p:blipFill>
        <p:spPr>
          <a:xfrm>
            <a:off x="1843200" y="0"/>
            <a:ext cx="50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6" descr=""/>
          <p:cNvPicPr/>
          <p:nvPr/>
        </p:nvPicPr>
        <p:blipFill>
          <a:blip r:embed="rId1"/>
          <a:srcRect l="0" t="0" r="0" b="3696"/>
          <a:stretch/>
        </p:blipFill>
        <p:spPr>
          <a:xfrm>
            <a:off x="182520" y="549360"/>
            <a:ext cx="878220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小猪变形记016"/>
          <p:cNvPicPr/>
          <p:nvPr/>
        </p:nvPicPr>
        <p:blipFill>
          <a:blip r:embed="rId1"/>
          <a:srcRect l="5116" t="7573" r="8433" b="12076"/>
          <a:stretch/>
        </p:blipFill>
        <p:spPr>
          <a:xfrm>
            <a:off x="2771640" y="1052640"/>
            <a:ext cx="38894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小猪变形记017"/>
          <p:cNvPicPr/>
          <p:nvPr/>
        </p:nvPicPr>
        <p:blipFill>
          <a:blip r:embed="rId1"/>
          <a:srcRect l="3068" t="0" r="883" b="6104"/>
          <a:stretch/>
        </p:blipFill>
        <p:spPr>
          <a:xfrm>
            <a:off x="1619280" y="0"/>
            <a:ext cx="52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6" descr=""/>
          <p:cNvPicPr/>
          <p:nvPr/>
        </p:nvPicPr>
        <p:blipFill>
          <a:blip r:embed="rId1"/>
          <a:srcRect l="1989" t="0" r="0" b="3696"/>
          <a:stretch/>
        </p:blipFill>
        <p:spPr>
          <a:xfrm>
            <a:off x="250920" y="404640"/>
            <a:ext cx="86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小猪变形记020"/>
          <p:cNvPicPr/>
          <p:nvPr/>
        </p:nvPicPr>
        <p:blipFill>
          <a:blip r:embed="rId1"/>
          <a:srcRect l="6422" t="10245" r="5577" b="5372"/>
          <a:stretch/>
        </p:blipFill>
        <p:spPr>
          <a:xfrm>
            <a:off x="2556000" y="907920"/>
            <a:ext cx="3959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小猪变形记021"/>
          <p:cNvPicPr/>
          <p:nvPr/>
        </p:nvPicPr>
        <p:blipFill>
          <a:blip r:embed="rId1"/>
          <a:srcRect l="1588" t="0" r="7198" b="7308"/>
          <a:stretch/>
        </p:blipFill>
        <p:spPr>
          <a:xfrm>
            <a:off x="2340000" y="404640"/>
            <a:ext cx="410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109440" y="476280"/>
            <a:ext cx="8925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小猪变形记024"/>
          <p:cNvPicPr/>
          <p:nvPr/>
        </p:nvPicPr>
        <p:blipFill>
          <a:blip r:embed="rId1"/>
          <a:srcRect l="6422" t="4744" r="7165" b="6132"/>
          <a:stretch/>
        </p:blipFill>
        <p:spPr>
          <a:xfrm>
            <a:off x="2340000" y="333360"/>
            <a:ext cx="4489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小猪变形记002"/>
          <p:cNvPicPr/>
          <p:nvPr/>
        </p:nvPicPr>
        <p:blipFill>
          <a:blip r:embed="rId1"/>
          <a:srcRect l="3176" t="14773" r="7198" b="17518"/>
          <a:stretch/>
        </p:blipFill>
        <p:spPr>
          <a:xfrm>
            <a:off x="2700360" y="1052640"/>
            <a:ext cx="474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小猪变形记025"/>
          <p:cNvPicPr/>
          <p:nvPr/>
        </p:nvPicPr>
        <p:blipFill>
          <a:blip r:embed="rId1"/>
          <a:srcRect l="4797" t="7126" r="5577" b="3746"/>
          <a:stretch/>
        </p:blipFill>
        <p:spPr>
          <a:xfrm>
            <a:off x="19717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16"/>
          <a:srcRect l="2400" t="1206" r="783" b="3696"/>
          <a:stretch/>
        </p:blipFill>
        <p:spPr>
          <a:xfrm>
            <a:off x="250920" y="476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小猪变形记028"/>
          <p:cNvPicPr/>
          <p:nvPr/>
        </p:nvPicPr>
        <p:blipFill>
          <a:blip r:embed="rId1"/>
          <a:srcRect l="3176" t="2382" r="0" b="4925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小猪变形记029"/>
          <p:cNvPicPr/>
          <p:nvPr/>
        </p:nvPicPr>
        <p:blipFill>
          <a:blip r:embed="rId1"/>
          <a:srcRect l="1588" t="2382" r="2363" b="2567"/>
          <a:stretch/>
        </p:blipFill>
        <p:spPr>
          <a:xfrm>
            <a:off x="2124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6" descr=""/>
          <p:cNvPicPr/>
          <p:nvPr/>
        </p:nvPicPr>
        <p:blipFill>
          <a:blip r:embed="rId1"/>
          <a:srcRect l="795" t="2632" r="795" b="3916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rcRect l="0" t="1357" r="0" b="2666"/>
          <a:stretch/>
        </p:blipFill>
        <p:spPr>
          <a:xfrm>
            <a:off x="181080" y="476280"/>
            <a:ext cx="8781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小猪变形记005"/>
          <p:cNvPicPr/>
          <p:nvPr/>
        </p:nvPicPr>
        <p:blipFill>
          <a:blip r:embed="rId1"/>
          <a:srcRect l="4797" t="0" r="3989" b="2539"/>
          <a:stretch/>
        </p:blipFill>
        <p:spPr>
          <a:xfrm>
            <a:off x="2340000" y="189000"/>
            <a:ext cx="4433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小猪变形记006"/>
          <p:cNvPicPr/>
          <p:nvPr/>
        </p:nvPicPr>
        <p:blipFill>
          <a:blip r:embed="rId1"/>
          <a:srcRect l="3176" t="4297" r="5577" b="7754"/>
          <a:stretch/>
        </p:blipFill>
        <p:spPr>
          <a:xfrm>
            <a:off x="2050920" y="260280"/>
            <a:ext cx="5081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小猪变形记007"/>
          <p:cNvPicPr/>
          <p:nvPr/>
        </p:nvPicPr>
        <p:blipFill>
          <a:blip r:embed="rId1"/>
          <a:srcRect l="1588" t="1179" r="2363" b="4925"/>
          <a:stretch/>
        </p:blipFill>
        <p:spPr>
          <a:xfrm>
            <a:off x="1763640" y="0"/>
            <a:ext cx="52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小猪变形记008"/>
          <p:cNvPicPr/>
          <p:nvPr/>
        </p:nvPicPr>
        <p:blipFill>
          <a:blip r:embed="rId1"/>
          <a:srcRect l="3068" t="3561" r="4092" b="7308"/>
          <a:stretch/>
        </p:blipFill>
        <p:spPr>
          <a:xfrm>
            <a:off x="16923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小猪变形记009"/>
          <p:cNvPicPr/>
          <p:nvPr/>
        </p:nvPicPr>
        <p:blipFill>
          <a:blip r:embed="rId1"/>
          <a:srcRect l="4797" t="2358" r="0" b="3746"/>
          <a:stretch/>
        </p:blipFill>
        <p:spPr>
          <a:xfrm>
            <a:off x="197964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219240" y="476280"/>
            <a:ext cx="87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04:08Z</dcterms:created>
  <dc:creator>新教育</dc:creator>
  <dc:description/>
  <dc:language>en-US</dc:language>
  <cp:lastModifiedBy>User</cp:lastModifiedBy>
  <dcterms:modified xsi:type="dcterms:W3CDTF">2015-07-02T07:38:1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