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17279938" cy="12963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A33-7E84-46BB-8F5B-F9D5094D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7451-44D4-42D7-B28D-EDA6CCBB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7181B-B42D-4EE9-B572-2E09EA78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5983D-98F0-4E60-A57E-430C8929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12539-2783-4EC2-96B4-EF1111E6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696DD-C96D-4B71-AE79-A39CD755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86CC4-9339-44EC-883E-1D090DF1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A377F-749E-4BD2-85FB-129EA232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B0D47-5FFC-415F-9AC0-560F8A9A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01607-F18F-4C95-A27B-62A6A7CE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B8E21-2194-4710-8CAD-41AE81E5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F0CE1-BA0F-46FE-BD8B-923F3E8E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D36-C19E-42F2-B5D0-B72B415C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9C666-0378-47A8-8FC3-A766BA32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43B8B-53F6-485A-A94E-1F793810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F65E1-D792-4E15-87F1-17132730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F4FE5-0126-4573-B192-849FA028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3D0BC-4D51-4257-8733-96C351BC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1E3FB-F1AE-45E4-A1D9-1B925CBB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D9B97-C143-4793-9203-5424BC67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79A2B-E992-48FD-BE2D-679A9FC8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6B42F-98FF-4CA6-B2C9-3C8F05F7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AEC98-2491-4F8F-912A-AA06B7D1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1C5-E9FB-4DE1-AEBB-7E7F58B6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759C7-5794-4AFF-B43B-079C0562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4C614-66EE-4DB9-8438-56CCC108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21C77-2448-4E35-A65D-501B5C99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92A0B-A58C-4B88-9EA5-619EF772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0E4C6-65E8-4090-A302-F39D9A44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C2FC3-CB84-4FEA-AA95-377F66D2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7E125-9216-46B6-903C-C9B57E1D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6F403-FE93-4CFC-BE9D-EDA5E84D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D99E7-9EF2-4BED-9BDF-D6366E9C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40A34-D045-46C4-A79F-0C432F27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50FA-DF04-4EA7-96E4-FBBB8695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BFBE2-1385-46EA-BE28-5EDBA8E2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96501-3054-45F8-A136-906067A4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D57C5-7598-4B9E-BDD1-20A7B35A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6CAE4-9BB9-4CD2-8754-B8226686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EE426-0A4E-4AAB-AEFA-0FCA06E9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C6407-FFD4-4053-8AF4-D92342B5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4F642-BE68-4F7E-AE1D-3BFB6996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05FB9-4E00-4674-9D26-171A8423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E07DF-9E6A-4CD4-93B0-7987832E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3479B-CE38-4172-8FFE-C354D258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DEDD-8170-4032-B18B-A8DD33E0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4ED34-2CD4-40E0-84BE-756BAC2D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B926B-ADCD-4AAC-94D2-936E89EE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0132B-B2A4-4979-8957-BB78A512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7A911-CD1E-48D3-97A9-4AF99FBD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7AA57-D2E7-44F7-B1BF-21E57405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2BEC7-B332-466B-8D6B-EBE6622C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ADAAA-A75D-40ED-B07D-7649C08C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55E38F-CBC0-458E-B14F-8509C85B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D17958-F6BB-48FD-B0CF-7E8FCD11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3189EC-311E-454E-B7E6-0DCF7120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4FB0-85BC-40F3-9340-D818B63A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C6A68-97F2-48F3-96FC-5B277B2C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9A124A-C82C-4CA2-ADB7-12103689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4E04F-745C-46E3-A905-75E08175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D3620-B5E0-43DB-B7B4-58B5E9E3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9A56A-873D-4606-87A6-C6A7AB1B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745C3-4B0A-4597-9656-DB896397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94776-C8EB-4E0F-BE4D-A29CA751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E934-17FB-4536-87E6-ABB0CE00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EF40-E93E-41F8-9CFF-1390B85E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FBF2-7C06-4EF5-B889-82ED973D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75F5-8A15-4156-9AC6-B2139AA5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16AE-B828-41A8-96DD-6DB3EEFF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58BE-2DE4-410C-B128-0EDD9000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4A5A-24C6-4F6F-8106-8CBE2B0C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5F5B-F8F4-406A-A1E5-EB2777CD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772C-5F1B-4AC0-9519-C7D17ABD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5540-E885-4BE5-86EE-CA15CBD2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5DAC4-810E-4AF2-968C-7F4AC149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E9824-4C11-4543-80BB-9AE998BC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42731-EB2F-403F-8834-067ACE81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55C26-DA2A-4D7C-8C9A-C0D92D25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BB161-0229-4E04-96B8-A80F75EA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B8D-9E4C-4611-B08C-EDE96BA1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6CD7-DF49-42D6-A8E4-7C4969C0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25205-4D89-4607-83C0-453FD655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46585-4221-4CD8-914C-670EB754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3DA42-DE1D-4820-A3A5-C0B8CFD9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1F70-8034-48BD-ADE6-0EF292DA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C563F-A7CA-4D46-8ED9-D7CB333A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91686-2903-478B-9D38-8EC54DEC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D5978-24DA-4B1B-AB47-1FAE0A24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BBE2C-41D2-4421-A2AF-29C7CF80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60279-DE3D-4F2A-82F5-27CA133E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16E2-89A1-4628-9248-71ADE119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4A583-5500-4127-945D-B63D9E7C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45DE4-26E2-494E-A09C-FEE7F8EC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99EB0-AE23-42C7-9059-97A2D06E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37790-F19B-44BC-AD99-9B2BA4FB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315CF-C75E-4A92-B77F-1E3DBFDA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2F8FD-D62D-4F64-A07F-358A88E6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9E4B2-3384-4F4D-9A3C-AF30F7AB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56897-5E2E-4A51-817E-50188900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C46E2-6935-4427-8DC9-269F6D5D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C31D2-F84B-4180-BBC1-2271BC71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FB9-9515-4921-9C04-6777F2EA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2F1DB-3646-44DF-B24B-CFF15EBC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F8B5E-4461-4A43-98DE-C43AD4A6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925D6-FB20-4EFE-B25D-1AC5464A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FAA17-0DD9-4FF5-BC26-D69DD19C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29BED-43FF-4E6F-BCF4-6EF06394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4EB9E-0682-48F0-9802-EA3620AC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519AB-AD07-4812-96C4-080195DD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4F866-09B8-4EF9-AC6E-49BEC0D1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D986F-CEAE-4C4F-AA39-B534B906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ECEE7-FBA6-4858-B5D1-D3A3F419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83E0-772F-4A35-82EF-75336EB8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5357C-2801-4956-B4AA-17C18484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FBF23-DF5F-48AE-A85E-58BF25EF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823D4-35E5-4328-B090-2E429160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DED01-FAE7-4F20-B44C-8ED9B6C4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82CA5-B6A7-427D-9D49-98A01C6A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82F3D-1836-4851-A62D-50FFAF8A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C71EE-91B7-48DB-A13B-A5DC4CFE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9B80C-35F3-4311-8C80-F7CCBAE8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F8976-E027-4209-897A-A8BDBF9C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BC84A-B4E6-40B7-AE24-9FCDF982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AB5-67A2-47F0-B95D-7EB34BF0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1BB6F-5570-49AC-A226-C8221B49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59DED-D35B-459D-B56D-CB6663A5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46A99-752C-446C-8B3C-0EF6906F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FDF9B-DE8B-40D2-B6AB-1AB069E1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E1460-E05B-4D9E-AEF9-1050B2EC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3E818-AA54-4C15-A084-64175E60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4DACC-798B-4BDE-8E1B-A1E957B1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5E6BE-C220-42DC-B353-01B9AAD3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7D5A3-AA9B-46A5-8116-5047CCF8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E8B97-E84F-4F54-A9BA-04D516FD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7D1-0C31-47BD-8068-38A851E3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29958-0DF8-4B25-949C-C1D245BF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3C856-5661-4301-B33B-700DFC7C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E01C0-AD88-48A4-9771-355F3677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58AF2-3508-4DEC-8BFE-29C9D1BC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19099-52D7-4A2C-9526-63E017B2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8334B-B4B5-423F-A977-CE20ED30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E0DBE-58EE-4E5B-99B7-99F74EA2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B5E13-75E4-4901-8002-9ECD2F6B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1DECD-E088-42F5-8094-282CA435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850D6-46F6-4282-A2C1-0E59BE7F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66A-BF91-4455-A8BE-97C0493C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C0B68-D6C1-4B5C-9327-8A9F069A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8E9C7-7CEF-42D4-9BD1-B795061B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D389F-7D2B-4C80-A7EE-76213C32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9E50D-72F6-4D28-9266-D91EF015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7463E-031F-472F-B300-73FF5F5A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29512-4BA8-4E70-953F-CB6766BD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68AB8-A867-4E80-9220-3D0FC629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70BB5-AE62-457B-85C9-E2586167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29BD3-22D0-42A7-9CD3-BE23EA59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4BE8A-0D14-490A-B52B-5AD28CF0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2160720" indent="-432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3280" y="11802600"/>
            <a:ext cx="403236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4000" y="11802600"/>
            <a:ext cx="547344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385800" y="11802600"/>
            <a:ext cx="403200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fld id="{AEE0683F-3D05-4BD8-A9D9-897171186ABB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6EC3-D3D4-437C-94FA-173CDF1899ED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E154-4363-4732-84D6-E4AA203E949F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162C-4F55-4687-ADD1-CF350CDBC316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7DEB-4E9B-44AA-BA2E-66B06954686B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  <a:defRPr b="0" lang="zh-CN" sz="2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  <a:defRPr b="0" lang="zh-CN" sz="2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fld id="{19B7E978-D26C-40A5-99D0-56071587CC35}" type="slidenum">
              <a:rPr b="0" lang="zh-CN" sz="2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1174-DB74-4107-9977-9DFC130BCA02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BB16-5640-4193-8F73-8DC133E517E9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B0BD-A0F6-46B1-B711-30EC2841A66A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79E0-5672-40DF-BCA9-AC077020C070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2D4C-1B61-4D28-9770-1A33E9E911BE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0F31-0663-4CE8-99AC-1180C5C957BE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0BA5-40EC-4F3C-8124-741A38BCF8D4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5.jpe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3887640" y="1155600"/>
            <a:ext cx="9161640" cy="10361880"/>
          </a:xfrm>
          <a:prstGeom prst="rect">
            <a:avLst/>
          </a:prstGeom>
          <a:ln w="0">
            <a:noFill/>
          </a:ln>
        </p:spPr>
      </p:pic>
      <p:sp>
        <p:nvSpPr>
          <p:cNvPr id="534" name="矩形 5"/>
          <p:cNvSpPr/>
          <p:nvPr/>
        </p:nvSpPr>
        <p:spPr>
          <a:xfrm>
            <a:off x="5545080" y="10915560"/>
            <a:ext cx="311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6" descr=""/>
          <p:cNvPicPr/>
          <p:nvPr/>
        </p:nvPicPr>
        <p:blipFill>
          <a:blip r:embed="rId1"/>
          <a:stretch/>
        </p:blipFill>
        <p:spPr>
          <a:xfrm>
            <a:off x="822240" y="1512720"/>
            <a:ext cx="1549728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6" descr=""/>
          <p:cNvPicPr/>
          <p:nvPr/>
        </p:nvPicPr>
        <p:blipFill>
          <a:blip r:embed="rId1"/>
          <a:stretch/>
        </p:blipFill>
        <p:spPr>
          <a:xfrm>
            <a:off x="638280" y="1512720"/>
            <a:ext cx="160146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6" descr=""/>
          <p:cNvPicPr/>
          <p:nvPr/>
        </p:nvPicPr>
        <p:blipFill>
          <a:blip r:embed="rId1"/>
          <a:stretch/>
        </p:blipFill>
        <p:spPr>
          <a:xfrm>
            <a:off x="750960" y="1512720"/>
            <a:ext cx="15789240" cy="95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7" descr=""/>
          <p:cNvPicPr/>
          <p:nvPr/>
        </p:nvPicPr>
        <p:blipFill>
          <a:blip r:embed="rId1"/>
          <a:stretch/>
        </p:blipFill>
        <p:spPr>
          <a:xfrm>
            <a:off x="638280" y="1512720"/>
            <a:ext cx="160146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6" descr=""/>
          <p:cNvPicPr/>
          <p:nvPr/>
        </p:nvPicPr>
        <p:blipFill>
          <a:blip r:embed="rId1"/>
          <a:stretch/>
        </p:blipFill>
        <p:spPr>
          <a:xfrm>
            <a:off x="942840" y="1655640"/>
            <a:ext cx="15405120" cy="929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矩形 5"/>
          <p:cNvSpPr/>
          <p:nvPr/>
        </p:nvSpPr>
        <p:spPr>
          <a:xfrm>
            <a:off x="4610160" y="6697800"/>
            <a:ext cx="64620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6" descr=""/>
          <p:cNvPicPr/>
          <p:nvPr/>
        </p:nvPicPr>
        <p:blipFill>
          <a:blip r:embed="rId16"/>
          <a:stretch/>
        </p:blipFill>
        <p:spPr>
          <a:xfrm>
            <a:off x="749160" y="1512720"/>
            <a:ext cx="15854400" cy="9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3710160" y="792000"/>
            <a:ext cx="9285120" cy="108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3887640" y="1155600"/>
            <a:ext cx="9161640" cy="10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矩形 4"/>
          <p:cNvSpPr/>
          <p:nvPr/>
        </p:nvSpPr>
        <p:spPr>
          <a:xfrm>
            <a:off x="2971800" y="8180280"/>
            <a:ext cx="122014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0" rIns="172800" tIns="86400" bIns="86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7"/>
          <p:cNvSpPr/>
          <p:nvPr/>
        </p:nvSpPr>
        <p:spPr>
          <a:xfrm>
            <a:off x="0" y="5122800"/>
            <a:ext cx="17281440" cy="25830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0" rIns="172800" tIns="86400" bIns="86400" anchor="ctr">
            <a:noAutofit/>
          </a:bodyPr>
          <a:p>
            <a:pPr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图片 9" descr=""/>
          <p:cNvPicPr/>
          <p:nvPr/>
        </p:nvPicPr>
        <p:blipFill>
          <a:blip r:embed="rId16"/>
          <a:stretch/>
        </p:blipFill>
        <p:spPr>
          <a:xfrm>
            <a:off x="3124080" y="658800"/>
            <a:ext cx="10547640" cy="36752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3"/>
          <p:cNvSpPr/>
          <p:nvPr/>
        </p:nvSpPr>
        <p:spPr>
          <a:xfrm>
            <a:off x="885960" y="5310360"/>
            <a:ext cx="775476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0" rIns="172800" tIns="86400" bIns="8640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5b8cc1"/>
              </a:buClr>
              <a:buFont typeface="Wingdings" charset="2"/>
              <a:buChar char="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8640720" y="5310360"/>
            <a:ext cx="775512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0" rIns="172800" tIns="86400" bIns="8640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0" descr="png-0644"/>
          <p:cNvPicPr/>
          <p:nvPr/>
        </p:nvPicPr>
        <p:blipFill>
          <a:blip r:embed="rId17"/>
          <a:stretch/>
        </p:blipFill>
        <p:spPr>
          <a:xfrm>
            <a:off x="5511960" y="531036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1" descr="png-0652"/>
          <p:cNvPicPr/>
          <p:nvPr/>
        </p:nvPicPr>
        <p:blipFill>
          <a:blip r:embed="rId18"/>
          <a:stretch/>
        </p:blipFill>
        <p:spPr>
          <a:xfrm>
            <a:off x="13671720" y="5310360"/>
            <a:ext cx="7444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3710160" y="792000"/>
            <a:ext cx="9285120" cy="108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"/>
          <p:cNvPicPr/>
          <p:nvPr/>
        </p:nvPicPr>
        <p:blipFill>
          <a:blip r:embed="rId1"/>
          <a:stretch/>
        </p:blipFill>
        <p:spPr>
          <a:xfrm>
            <a:off x="528480" y="1584360"/>
            <a:ext cx="16224480" cy="976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6" descr=""/>
          <p:cNvPicPr/>
          <p:nvPr/>
        </p:nvPicPr>
        <p:blipFill>
          <a:blip r:embed="rId1"/>
          <a:stretch/>
        </p:blipFill>
        <p:spPr>
          <a:xfrm>
            <a:off x="638280" y="1512720"/>
            <a:ext cx="160146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855720" y="1584360"/>
            <a:ext cx="159354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6" descr=""/>
          <p:cNvPicPr/>
          <p:nvPr/>
        </p:nvPicPr>
        <p:blipFill>
          <a:blip r:embed="rId1"/>
          <a:stretch/>
        </p:blipFill>
        <p:spPr>
          <a:xfrm>
            <a:off x="717480" y="1512720"/>
            <a:ext cx="158562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6" descr=""/>
          <p:cNvPicPr/>
          <p:nvPr/>
        </p:nvPicPr>
        <p:blipFill>
          <a:blip r:embed="rId1"/>
          <a:stretch/>
        </p:blipFill>
        <p:spPr>
          <a:xfrm>
            <a:off x="611280" y="1512720"/>
            <a:ext cx="160686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6" descr=""/>
          <p:cNvPicPr/>
          <p:nvPr/>
        </p:nvPicPr>
        <p:blipFill>
          <a:blip r:embed="rId1"/>
          <a:stretch/>
        </p:blipFill>
        <p:spPr>
          <a:xfrm>
            <a:off x="798480" y="1584360"/>
            <a:ext cx="15694200" cy="94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6" descr=""/>
          <p:cNvPicPr/>
          <p:nvPr/>
        </p:nvPicPr>
        <p:blipFill>
          <a:blip r:embed="rId1"/>
          <a:stretch/>
        </p:blipFill>
        <p:spPr>
          <a:xfrm>
            <a:off x="750960" y="1584360"/>
            <a:ext cx="15789240" cy="95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4:40:41Z</dcterms:created>
  <dc:creator>新教育</dc:creator>
  <dc:description/>
  <dc:language>en-US</dc:language>
  <cp:lastModifiedBy>User</cp:lastModifiedBy>
  <dcterms:modified xsi:type="dcterms:W3CDTF">2015-07-02T08:50:52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