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088-DDD9-4469-BE78-5313828E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CC4-88E5-405B-B2ED-45C03A40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62F-9DC3-496A-92BF-7FDCCC8E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9E9-9BED-43F4-BB6D-96E6D7C5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AA4-ECE5-4A3A-975C-C0B0576A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080-2039-4E00-9FD5-DD8647E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46B-EFDA-4828-BD61-03A58B70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4F1-7D10-46B2-BF5D-D9894578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C6F-7E6A-4CA0-AA59-5EFA0492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2F2-8311-41F1-9B11-09EFF812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7E9-B3FC-47CA-9EC8-5E16BCF9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324-2AF5-4BC4-8C8A-89D82E55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A010-EF0D-4E60-A7CD-E85E290B66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96720" y="-747720"/>
            <a:ext cx="9753480" cy="803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26920" y="907920"/>
            <a:ext cx="54864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欢度国庆节 五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.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二班孙伟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349360"/>
            <a:ext cx="2771640" cy="3529080"/>
          </a:xfrm>
          <a:custGeom>
            <a:avLst/>
            <a:gdLst>
              <a:gd name="textAreaLeft" fmla="*/ 651240 w 2771640"/>
              <a:gd name="textAreaRight" fmla="*/ 2118240 w 2771640"/>
              <a:gd name="textAreaTop" fmla="*/ 414720 h 3529080"/>
              <a:gd name="textAreaBottom" fmla="*/ 2213640 h 352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祝大家国庆节快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908000" y="-382680"/>
            <a:ext cx="50292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祝全中国，国庆节快乐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5280" y="4292640"/>
            <a:ext cx="3816360" cy="237636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爱我们的中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907920"/>
            <a:ext cx="432000" cy="12970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1125360"/>
            <a:ext cx="576360" cy="1295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429000"/>
            <a:ext cx="576000" cy="1655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258920" y="620640"/>
            <a:ext cx="64008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祝大家国庆节快乐，谢谢观看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0:17:58Z</dcterms:created>
  <dc:creator>User</dc:creator>
  <dc:description/>
  <dc:language>en-US</dc:language>
  <cp:lastModifiedBy>User</cp:lastModifiedBy>
  <dcterms:modified xsi:type="dcterms:W3CDTF">2013-09-27T00:35:57Z</dcterms:modified>
  <cp:revision>2</cp:revision>
  <dc:subject/>
  <dc:title>幻灯片 1</dc:title>
</cp:coreProperties>
</file>