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BBE0E-3477-4918-B9F7-2C28E87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261E-53D6-4400-8499-BCC7C593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E602D-5886-485E-BCD2-0A272F74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3FA7A-6B30-49DC-A985-15B5C83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B2727-614B-45FE-BADC-EB74800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7E228-88B8-48F9-95D6-C196071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0E7C4-001C-4D41-9C3D-270F7347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E0384-C929-4854-B701-7ACBA483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7F955-1B21-40EB-8B28-D1BD9356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2FB-50B6-493F-865F-EB10BC0C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A22-D38B-45AF-81D4-600F09CB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B20-E316-4B2E-8BE1-487B588E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E99-CF80-4A46-AE29-E490F6E0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7D9-A9A1-4F89-A2CB-0103F0DF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850-EA16-4978-9AF6-308DBBB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816-FBB3-418E-9D38-D0708E4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19E-1663-4D12-B265-9C34258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105-0DD6-422B-8B78-FF4AE30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A59-F7AA-4FE2-B685-92C6EFF5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82B-CD18-48DE-A73E-C392607F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81F-F122-4289-9ADF-D6F870BA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FD68-AA12-4E67-BBC6-88C73C79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F918-F997-47F7-ACBE-8D75F98F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9305-F41A-4EF9-8677-CD3A45A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76C-6785-4760-AA21-12C1B6C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790D-2707-432D-A0BF-11BA6AE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D518-4C09-4B11-B601-75B6EA3E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C639-FB16-4486-86D8-C22452E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E86-2424-47B1-9C7E-196630E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A953-74C6-42E4-ACC3-8C05AE5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59DD-D323-4307-AE47-444CAAA9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23F2-835E-4533-8299-BDA51813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4857-DB22-469D-AEB7-B20725F7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8D31-4125-44F5-A612-85A608A8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A9ED-4473-4101-BA25-C73647A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2CDF-574E-4303-9EC6-48884D6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6AA3-5EFF-43D8-A8F3-EDD78E56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8C1F-CE58-4570-BDD8-8D26A4AF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8E3C-1100-4827-8CED-06FAFA0A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DD00-2929-4A58-A224-15922343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4D4C-52F6-4B40-9A85-EE3FA0D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17DC-5329-4A1E-9AE9-17A0E654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8916-8DF4-41A4-BE0E-922A36C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7DD8-1003-4E50-B353-A4E03622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0833-8B1C-42D9-AA7F-95C29D56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A830-F3A7-4C1C-B320-FFBFD1DF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B8C1-0B13-4A7A-A1AD-4C6D7124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54B9-9258-404E-B3A6-66BF020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1E25-2001-48C1-A5CC-B4DD017A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C09D-0D36-4157-9837-E75EAE24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D939-37E4-4E46-A06A-E9536CA6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44CB-B7AB-4C78-BB5A-12644A8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0DCDD-E382-4B3C-A354-6E46F9B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F244-E4A0-4170-A2D7-16C08D4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1890-ADA0-4B43-BC79-D159751F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E84B-A79E-4742-BF98-C09166B8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1EF9-6B5E-4342-BA35-FCB514B3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FA4C-E0A1-4C87-AB3A-FE885B0F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91D4-6965-4985-A51A-48E530BF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5EB3-6093-40A7-ADA8-9A1C9547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4F83-01B7-44A3-9B52-D45388CC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26D6-1FF2-40F8-983C-BD941A37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A646-EA86-4DA6-90D3-D9944B8B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484A3-B5B4-47B9-A26D-5F74058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A69B-F214-4195-A025-68F5491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A5337-A1D0-42C5-9547-7442318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D3B18-76DF-41DB-95FA-ABC4CF19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93E1-1D8B-4343-B5AE-5C553BD8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DA60-B004-431A-B7CF-E31089ED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B04C6-1545-41A6-823E-C7A7EE41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9256-D3BD-4AD6-BAE5-171BB5C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FDEF8-8A8B-4499-8A5F-0DFCC182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46FB2-C7A6-4087-BC9F-253311A7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148E-6EFE-4717-AE28-F0C8C32E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E985D-F055-4A7B-9205-9415970B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4D744-7E1B-4870-BC90-AABA369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CF6AF-7338-4E74-A861-AADF86C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AEE0-218F-46BA-B913-B97A630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C15F8-F5B6-41D3-BE1B-CF624EE7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7DB58-B6C2-4FD5-8614-0D3DDBA4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D714-8A1E-4E2C-B05C-0BB70E98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7D88E-1C18-4E2A-BD7B-251B5FB1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7A4A-2CA7-4703-8ADF-1CDA7B4C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2DB8-578D-4E8C-BAFC-B42B73F8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3385-A684-4280-87B8-2684D0C0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329AA-C943-4729-B8E0-C26D62DC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79AE5-AA53-44BA-AE77-7D13335D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7BE90-059D-475C-A36A-0AE297B0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C374B-B124-49CA-9E44-C47642AF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A50C-8793-471F-8101-93D14BD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4883-9E95-4739-A44E-CF851846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E94BB-5822-4ACA-9680-436B4D6E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3E2C3-8C53-4784-AACE-773D8077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0262-D446-4BB2-817D-B83E37E2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C9A3-5F29-4DC9-9EC0-0FB7846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75B0-BD6D-46C6-9CF9-7AF7468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17B-329F-4C9F-AB43-13404DA0F85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F769-88FC-4B84-98AE-29A0C3B20B0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0914-3FD5-4B3A-83A9-6A5E6725CF5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4959-2A39-4FCC-A538-40FD7E934A2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C75-95CA-49AD-A2AF-25FE22658DD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662-FE8B-4E2B-8704-59A6F8D4B31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B602-5A52-437F-AE74-AFB2E10BBE0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5FE6-A617-4132-AB00-A045CA65D67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file:///tmp/home/.config/libreoffice/4/user/gallery/9F54978D.wav" TargetMode="External"/><Relationship Id="rId8" Type="http://schemas.microsoft.com/office/2007/relationships/media" Target="file:///tmp/home/.config/libreoffice/4/user/gallery/9F54978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6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3" descr="E:\工作夹\PPT模版\s1015教师节\原图片\5.png"/>
          <p:cNvPicPr/>
          <p:nvPr/>
        </p:nvPicPr>
        <p:blipFill>
          <a:blip r:embed="rId1"/>
          <a:stretch/>
        </p:blipFill>
        <p:spPr>
          <a:xfrm>
            <a:off x="-57240" y="0"/>
            <a:ext cx="9051840" cy="5145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3" descr="E:\工作夹\PPT模版\s1015教师节\原图片\5.png"/>
          <p:cNvPicPr/>
          <p:nvPr/>
        </p:nvPicPr>
        <p:blipFill>
          <a:blip r:embed="rId2"/>
          <a:stretch/>
        </p:blipFill>
        <p:spPr>
          <a:xfrm>
            <a:off x="108000" y="0"/>
            <a:ext cx="9051840" cy="5145120"/>
          </a:xfrm>
          <a:prstGeom prst="rect">
            <a:avLst/>
          </a:prstGeom>
          <a:ln w="0">
            <a:noFill/>
          </a:ln>
        </p:spPr>
      </p:pic>
      <p:grpSp>
        <p:nvGrpSpPr>
          <p:cNvPr id="360" name="组合 60"/>
          <p:cNvGrpSpPr/>
          <p:nvPr/>
        </p:nvGrpSpPr>
        <p:grpSpPr>
          <a:xfrm>
            <a:off x="1465200" y="-195120"/>
            <a:ext cx="6232680" cy="6234120"/>
            <a:chOff x="1465200" y="-195120"/>
            <a:chExt cx="6232680" cy="6234120"/>
          </a:xfrm>
        </p:grpSpPr>
        <p:grpSp>
          <p:nvGrpSpPr>
            <p:cNvPr id="361" name="椭圆 67"/>
            <p:cNvGrpSpPr/>
            <p:nvPr/>
          </p:nvGrpSpPr>
          <p:grpSpPr>
            <a:xfrm>
              <a:off x="1465200" y="-195120"/>
              <a:ext cx="6232680" cy="6234120"/>
              <a:chOff x="1465200" y="-195120"/>
              <a:chExt cx="6232680" cy="6234120"/>
            </a:xfrm>
          </p:grpSpPr>
          <p:pic>
            <p:nvPicPr>
              <p:cNvPr id="362" name="椭圆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5200" y="-195120"/>
                <a:ext cx="6232680" cy="623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2379600" y="717120"/>
                <a:ext cx="4404600" cy="44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4" name="椭圆 59"/>
            <p:cNvSpPr/>
            <p:nvPr/>
          </p:nvSpPr>
          <p:spPr>
            <a:xfrm>
              <a:off x="3261960" y="1599480"/>
              <a:ext cx="2640240" cy="2642400"/>
            </a:xfrm>
            <a:prstGeom prst="ellipse">
              <a:avLst/>
            </a:prstGeom>
            <a:gradFill rotWithShape="0">
              <a:gsLst>
                <a:gs pos="0">
                  <a:srgbClr val="ffe57a">
                    <a:alpha val="50196"/>
                  </a:srgbClr>
                </a:gs>
                <a:gs pos="100000">
                  <a:srgbClr val="f7ba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Group 9"/>
          <p:cNvGrpSpPr/>
          <p:nvPr/>
        </p:nvGrpSpPr>
        <p:grpSpPr>
          <a:xfrm>
            <a:off x="3534120" y="2688840"/>
            <a:ext cx="2299680" cy="2243880"/>
            <a:chOff x="3534120" y="2688840"/>
            <a:chExt cx="2299680" cy="2243880"/>
          </a:xfrm>
        </p:grpSpPr>
        <p:pic>
          <p:nvPicPr>
            <p:cNvPr id="366" name="Picture 10" descr="未标题-5"/>
            <p:cNvPicPr/>
            <p:nvPr/>
          </p:nvPicPr>
          <p:blipFill>
            <a:blip r:embed="rId4"/>
            <a:stretch/>
          </p:blipFill>
          <p:spPr>
            <a:xfrm rot="20859000">
              <a:off x="3711600" y="2874960"/>
              <a:ext cx="1944360" cy="18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1" descr="未标题-8"/>
            <p:cNvPicPr/>
            <p:nvPr/>
          </p:nvPicPr>
          <p:blipFill>
            <a:blip r:embed="rId5"/>
            <a:stretch/>
          </p:blipFill>
          <p:spPr>
            <a:xfrm rot="20859000">
              <a:off x="4541760" y="3140640"/>
              <a:ext cx="186120" cy="45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Picture 12" descr="图片2副本"/>
          <p:cNvPicPr/>
          <p:nvPr/>
        </p:nvPicPr>
        <p:blipFill>
          <a:blip r:embed="rId6"/>
          <a:srcRect l="-7435" t="3101" r="0" b="18965"/>
          <a:stretch/>
        </p:blipFill>
        <p:spPr>
          <a:xfrm>
            <a:off x="4468680" y="2073240"/>
            <a:ext cx="424080" cy="1231920"/>
          </a:xfrm>
          <a:prstGeom prst="rect">
            <a:avLst/>
          </a:prstGeom>
          <a:ln w="0">
            <a:noFill/>
          </a:ln>
        </p:spPr>
      </p:pic>
      <p:sp>
        <p:nvSpPr>
          <p:cNvPr id="369" name="Freeform 13"/>
          <p:cNvSpPr/>
          <p:nvPr/>
        </p:nvSpPr>
        <p:spPr>
          <a:xfrm>
            <a:off x="3782880" y="2824200"/>
            <a:ext cx="798480" cy="270000"/>
          </a:xfrm>
          <a:custGeom>
            <a:avLst/>
            <a:gdLst/>
            <a:ahLst/>
            <a:rect l="l" t="t" r="r" b="b"/>
            <a:pathLst>
              <a:path w="317" h="107">
                <a:moveTo>
                  <a:pt x="0" y="101"/>
                </a:moveTo>
                <a:cubicBezTo>
                  <a:pt x="184" y="0"/>
                  <a:pt x="317" y="107"/>
                  <a:pt x="317" y="107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4"/>
          <p:cNvSpPr/>
          <p:nvPr/>
        </p:nvSpPr>
        <p:spPr>
          <a:xfrm>
            <a:off x="3440160" y="3078000"/>
            <a:ext cx="1060560" cy="1392480"/>
          </a:xfrm>
          <a:custGeom>
            <a:avLst/>
            <a:gdLst/>
            <a:ahLst/>
            <a:rect l="l" t="t" r="r" b="b"/>
            <a:pathLst>
              <a:path w="421" h="552">
                <a:moveTo>
                  <a:pt x="421" y="552"/>
                </a:moveTo>
                <a:cubicBezTo>
                  <a:pt x="250" y="387"/>
                  <a:pt x="128" y="264"/>
                  <a:pt x="128" y="264"/>
                </a:cubicBezTo>
                <a:cubicBezTo>
                  <a:pt x="0" y="91"/>
                  <a:pt x="136" y="0"/>
                  <a:pt x="136" y="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5"/>
          <p:cNvSpPr/>
          <p:nvPr/>
        </p:nvSpPr>
        <p:spPr>
          <a:xfrm>
            <a:off x="4500720" y="2959200"/>
            <a:ext cx="1217520" cy="1511280"/>
          </a:xfrm>
          <a:custGeom>
            <a:avLst/>
            <a:gdLst/>
            <a:ahLst/>
            <a:rect l="l" t="t" r="r" b="b"/>
            <a:pathLst>
              <a:path w="483" h="599">
                <a:moveTo>
                  <a:pt x="299" y="0"/>
                </a:moveTo>
                <a:cubicBezTo>
                  <a:pt x="360" y="19"/>
                  <a:pt x="483" y="150"/>
                  <a:pt x="395" y="266"/>
                </a:cubicBezTo>
                <a:cubicBezTo>
                  <a:pt x="283" y="413"/>
                  <a:pt x="139" y="504"/>
                  <a:pt x="0" y="599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16"/>
          <p:cNvSpPr/>
          <p:nvPr/>
        </p:nvSpPr>
        <p:spPr>
          <a:xfrm>
            <a:off x="4610160" y="2859120"/>
            <a:ext cx="644400" cy="241200"/>
          </a:xfrm>
          <a:custGeom>
            <a:avLst/>
            <a:gdLst/>
            <a:ahLst/>
            <a:rect l="l" t="t" r="r" b="b"/>
            <a:pathLst>
              <a:path w="256" h="96">
                <a:moveTo>
                  <a:pt x="0" y="96"/>
                </a:moveTo>
                <a:cubicBezTo>
                  <a:pt x="0" y="96"/>
                  <a:pt x="130" y="0"/>
                  <a:pt x="256" y="4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弧形 61"/>
          <p:cNvSpPr/>
          <p:nvPr/>
        </p:nvSpPr>
        <p:spPr>
          <a:xfrm>
            <a:off x="550800" y="91440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  <a:lnTo>
                  <a:pt x="89694" y="90488"/>
                </a:lnTo>
                <a:cubicBezTo>
                  <a:pt x="89694" y="60325"/>
                  <a:pt x="89693" y="30163"/>
                  <a:pt x="89693" y="0"/>
                </a:cubicBezTo>
                <a:close/>
              </a:path>
              <a:path fill="none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任意多边形 62"/>
          <p:cNvSpPr/>
          <p:nvPr/>
        </p:nvSpPr>
        <p:spPr>
          <a:xfrm flipH="1">
            <a:off x="1116000" y="2900520"/>
            <a:ext cx="123840" cy="198360"/>
          </a:xfrm>
          <a:custGeom>
            <a:avLst/>
            <a:gdLst/>
            <a:ahLst/>
            <a:rect l="l" t="t" r="r" b="b"/>
            <a:pathLst>
              <a:path w="451387" h="718004">
                <a:moveTo>
                  <a:pt x="813" y="0"/>
                </a:moveTo>
                <a:cubicBezTo>
                  <a:pt x="166465" y="46382"/>
                  <a:pt x="332117" y="92765"/>
                  <a:pt x="332117" y="212035"/>
                </a:cubicBezTo>
                <a:cubicBezTo>
                  <a:pt x="332117" y="331305"/>
                  <a:pt x="-19065" y="682488"/>
                  <a:pt x="813" y="715618"/>
                </a:cubicBezTo>
                <a:cubicBezTo>
                  <a:pt x="20691" y="748748"/>
                  <a:pt x="349787" y="426279"/>
                  <a:pt x="451387" y="41081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任意多边形 63"/>
          <p:cNvSpPr/>
          <p:nvPr/>
        </p:nvSpPr>
        <p:spPr>
          <a:xfrm>
            <a:off x="2340000" y="1808280"/>
            <a:ext cx="252360" cy="177840"/>
          </a:xfrm>
          <a:custGeom>
            <a:avLst/>
            <a:gdLst/>
            <a:ahLst/>
            <a:rect l="l" t="t" r="r" b="b"/>
            <a:pathLst>
              <a:path w="505425" h="358035">
                <a:moveTo>
                  <a:pt x="66261" y="0"/>
                </a:moveTo>
                <a:cubicBezTo>
                  <a:pt x="75096" y="26504"/>
                  <a:pt x="92765" y="51575"/>
                  <a:pt x="92765" y="79513"/>
                </a:cubicBezTo>
                <a:cubicBezTo>
                  <a:pt x="92765" y="92007"/>
                  <a:pt x="71849" y="94843"/>
                  <a:pt x="66261" y="106018"/>
                </a:cubicBezTo>
                <a:cubicBezTo>
                  <a:pt x="53767" y="131007"/>
                  <a:pt x="48591" y="159027"/>
                  <a:pt x="39756" y="185531"/>
                </a:cubicBezTo>
                <a:cubicBezTo>
                  <a:pt x="35339" y="198783"/>
                  <a:pt x="32751" y="212793"/>
                  <a:pt x="26504" y="225287"/>
                </a:cubicBezTo>
                <a:lnTo>
                  <a:pt x="0" y="278296"/>
                </a:lnTo>
                <a:cubicBezTo>
                  <a:pt x="4417" y="300383"/>
                  <a:pt x="-1168" y="327253"/>
                  <a:pt x="13252" y="344557"/>
                </a:cubicBezTo>
                <a:cubicBezTo>
                  <a:pt x="24912" y="358549"/>
                  <a:pt x="48060" y="358483"/>
                  <a:pt x="66261" y="357809"/>
                </a:cubicBezTo>
                <a:cubicBezTo>
                  <a:pt x="168175" y="354034"/>
                  <a:pt x="269461" y="340140"/>
                  <a:pt x="371061" y="331305"/>
                </a:cubicBezTo>
                <a:cubicBezTo>
                  <a:pt x="499119" y="254470"/>
                  <a:pt x="547478" y="283737"/>
                  <a:pt x="463826" y="212035"/>
                </a:cubicBezTo>
                <a:cubicBezTo>
                  <a:pt x="362330" y="125038"/>
                  <a:pt x="438735" y="200199"/>
                  <a:pt x="397565" y="159026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任意多边形 64"/>
          <p:cNvSpPr/>
          <p:nvPr/>
        </p:nvSpPr>
        <p:spPr>
          <a:xfrm flipH="1">
            <a:off x="7163640" y="3833640"/>
            <a:ext cx="219240" cy="29052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任意多边形 83"/>
          <p:cNvSpPr/>
          <p:nvPr/>
        </p:nvSpPr>
        <p:spPr>
          <a:xfrm flipH="1">
            <a:off x="6732720" y="1697040"/>
            <a:ext cx="218880" cy="28908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任意多边形 84"/>
          <p:cNvSpPr/>
          <p:nvPr/>
        </p:nvSpPr>
        <p:spPr>
          <a:xfrm flipH="1" rot="9975000">
            <a:off x="6155280" y="1004760"/>
            <a:ext cx="219240" cy="29016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79"/>
          <p:cNvSpPr/>
          <p:nvPr/>
        </p:nvSpPr>
        <p:spPr>
          <a:xfrm>
            <a:off x="3933720" y="2631960"/>
            <a:ext cx="1305000" cy="130032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280"/>
          <p:cNvSpPr/>
          <p:nvPr/>
        </p:nvSpPr>
        <p:spPr>
          <a:xfrm>
            <a:off x="3454560" y="2154240"/>
            <a:ext cx="2263680" cy="22557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82"/>
          <p:cNvSpPr/>
          <p:nvPr/>
        </p:nvSpPr>
        <p:spPr>
          <a:xfrm>
            <a:off x="4330800" y="3029040"/>
            <a:ext cx="511200" cy="5061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282"/>
          <p:cNvSpPr/>
          <p:nvPr/>
        </p:nvSpPr>
        <p:spPr>
          <a:xfrm>
            <a:off x="4203720" y="2900520"/>
            <a:ext cx="765000" cy="7635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9468000" y="2419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4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8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4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8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 repeatCount="indefinite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89" dur="18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97" dur="18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105" dur="1800" fill="hold"/>
                                        <p:tgtEl>
                                          <p:spTgt spid="381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122" dur="18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98" descr=""/>
          <p:cNvPicPr/>
          <p:nvPr/>
        </p:nvPicPr>
        <p:blipFill>
          <a:blip r:embed="rId1"/>
          <a:stretch/>
        </p:blipFill>
        <p:spPr>
          <a:xfrm>
            <a:off x="2014560" y="1671480"/>
            <a:ext cx="4678200" cy="202752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2"/>
          <p:cNvSpPr/>
          <p:nvPr/>
        </p:nvSpPr>
        <p:spPr>
          <a:xfrm>
            <a:off x="4080240" y="4446720"/>
            <a:ext cx="129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E:\公司作品\新logo应用\20110708新LOGO应用\锐普PPT红LOGO-02.png"/>
          <p:cNvPicPr/>
          <p:nvPr/>
        </p:nvPicPr>
        <p:blipFill>
          <a:blip r:embed="rId2"/>
          <a:stretch/>
        </p:blipFill>
        <p:spPr>
          <a:xfrm>
            <a:off x="263520" y="171360"/>
            <a:ext cx="941400" cy="366840"/>
          </a:xfrm>
          <a:prstGeom prst="rect">
            <a:avLst/>
          </a:prstGeom>
          <a:ln w="0">
            <a:noFill/>
          </a:ln>
        </p:spPr>
      </p:pic>
      <p:sp>
        <p:nvSpPr>
          <p:cNvPr id="470" name="TextBox 13"/>
          <p:cNvSpPr/>
          <p:nvPr/>
        </p:nvSpPr>
        <p:spPr>
          <a:xfrm>
            <a:off x="4622040" y="4691160"/>
            <a:ext cx="21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教师节祝褔、贺卡等相关类别的演示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1"/>
          <p:cNvSpPr/>
          <p:nvPr/>
        </p:nvSpPr>
        <p:spPr>
          <a:xfrm>
            <a:off x="3953880" y="4094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上海锐普广告有限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6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6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394"/>
          <p:cNvSpPr/>
          <p:nvPr/>
        </p:nvSpPr>
        <p:spPr>
          <a:xfrm>
            <a:off x="6119640" y="3765600"/>
            <a:ext cx="296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2"/>
          <p:cNvSpPr/>
          <p:nvPr/>
        </p:nvSpPr>
        <p:spPr>
          <a:xfrm>
            <a:off x="900000" y="2152800"/>
            <a:ext cx="7848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种情感不能相守却天长地久，有一种付出不计回报却没有尽头，有一种坚持不离不弃却永不放手。老师，感谢您用心关爱我们每一个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98" descr=""/>
          <p:cNvPicPr/>
          <p:nvPr/>
        </p:nvPicPr>
        <p:blipFill>
          <a:blip r:embed="rId1"/>
          <a:stretch/>
        </p:blipFill>
        <p:spPr>
          <a:xfrm>
            <a:off x="1182600" y="1149480"/>
            <a:ext cx="2281320" cy="987120"/>
          </a:xfrm>
          <a:prstGeom prst="rect">
            <a:avLst/>
          </a:prstGeom>
          <a:ln w="0">
            <a:noFill/>
          </a:ln>
        </p:spPr>
      </p:pic>
      <p:sp>
        <p:nvSpPr>
          <p:cNvPr id="475" name="直接连接符 4"/>
          <p:cNvSpPr/>
          <p:nvPr/>
        </p:nvSpPr>
        <p:spPr>
          <a:xfrm>
            <a:off x="1006560" y="204480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394"/>
          <p:cNvSpPr/>
          <p:nvPr/>
        </p:nvSpPr>
        <p:spPr>
          <a:xfrm>
            <a:off x="7658280" y="4125960"/>
            <a:ext cx="122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矩形 9"/>
          <p:cNvSpPr/>
          <p:nvPr/>
        </p:nvSpPr>
        <p:spPr>
          <a:xfrm>
            <a:off x="887400" y="2921040"/>
            <a:ext cx="784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福老师教师节快乐，收获桃李满园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E:\公司作品\新logo应用\20110708新LOGO应用\锐普PPT红LOGO-02.png"/>
          <p:cNvPicPr/>
          <p:nvPr/>
        </p:nvPicPr>
        <p:blipFill>
          <a:blip r:embed="rId1"/>
          <a:stretch/>
        </p:blipFill>
        <p:spPr>
          <a:xfrm>
            <a:off x="263520" y="171360"/>
            <a:ext cx="94140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89"/>
          <p:cNvSpPr/>
          <p:nvPr/>
        </p:nvSpPr>
        <p:spPr>
          <a:xfrm>
            <a:off x="3224880" y="20098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f1d22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0"/>
          <p:cNvSpPr/>
          <p:nvPr/>
        </p:nvSpPr>
        <p:spPr>
          <a:xfrm>
            <a:off x="3504240" y="28274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5:31:1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7-04T03:03:04Z</dcterms:modified>
  <cp:revision>752</cp:revision>
  <dc:subject/>
  <dc:title>朴素师恩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