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D6F-EC70-4143-BCA4-6060F4F2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916-E592-4923-B9A2-D085E537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CDB-3EDD-4CBB-AF2A-A3919BC6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95B-10F0-484D-9CB4-0B852978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5CBA-E7E3-4B88-A39A-A82499C6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20EC-6329-4CC7-8C8C-B6AD37C7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014D-DC52-4D69-8746-00EF4FD1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9FDA-1F08-41C8-9FFC-F2BC4254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C05A-8763-4B2F-9B18-99FE4692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871B-8C54-4F5D-862B-241AF21F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7430-9FC8-425E-B93D-191DE3E5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EB0-A406-4905-8E3C-F46F4968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93B8-7AC7-4310-BE8B-E923A37A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4FA4-1E23-4926-AF58-A5B4B563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6D76-F65B-4A76-8C82-DE5B37FA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8E7E-6FA7-45E7-AFE6-6B1E366A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DCBA-5D80-4EFF-8A11-435DF52B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B5C-A0E3-4139-AEBC-B44A21C3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0DF-DF75-4616-A515-B9B2892D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293-60CC-4417-9878-734AB752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8A0-99D0-4E17-B1AA-FAE97800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365-DB1F-4E21-A28C-8AB9597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A9B-9EC7-460F-8F28-F7E9EC65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AD4-08DB-473B-99FD-46669B5F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D503-10F5-4B27-8E47-DFF490431C39}" type="datetime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03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9572-8ECE-4FD9-BDEB-959AB9EAFA63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F1D9-0E2E-473C-B7F6-551BF46D2C08}" type="datetime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EBD4-6490-426F-81D5-6DA390B017EA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198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开学了，你准备好了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——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2015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开学第一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嫁给幸福（汪国真）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有一个未来的目标，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总能让我们欢欣鼓舞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就像飞向火光的灰蛾，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甘愿做烈焰的俘虏，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摆动着的是你不停的脚步，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飞旋着的是你不停的流苏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美丽，在一往情深的日子里，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有谁说得清，什么是甜，什么是苦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只知道，确定了就义无反顾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要输就输给追求，要嫁就嫁给幸福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"/>
          <p:cNvSpPr/>
          <p:nvPr/>
        </p:nvSpPr>
        <p:spPr>
          <a:xfrm>
            <a:off x="0" y="54936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晚自习作业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.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、完成一篇小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两个月的暑期生活结束了，重新回到久违的班级，你发现身边的同学有了哪些新变化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选取一个最触动你的同学，以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发现了一个不一样的你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为题，写一篇记叙类文章。注意细节的表现，写出真情实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、阅读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摘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18000" y="0"/>
            <a:ext cx="916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一、语言文字运用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分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在下面一段话空缺处依次填入词语，最恰当的一组是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分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最使我艳羡的还是园林艺术家化平淡为神奇的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。某些树木当植当伐；某些花卉当疏当密；何处须巧借地形，顺势筑坡；何处又宜少见轩敞，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：所有这一切都煞费心血，但又不露惨淡经营的痕迹，正像一帧名作脱稿前画师那奇绝而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的点睛之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用心  别树一帜  浑成      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匠心  别树一帜  饱满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匠心  别有洞天  浑成      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用心  别有洞天  饱满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下列诗句与“墙头雨细垂纤草”对仗工整的一项是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分）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水面风回聚落花            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数峰无语立斜阳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楼上春容带雨来            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蝉曳残声过别枝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320" y="30240"/>
            <a:ext cx="9121680" cy="68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下列交际用语使用不得体的一项是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分）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涂鸦之作，不足当先生一哂，如蒙赐正，小子不胜感激！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欣闻敝校百年校庆，本人忝为校友，因事不能躬临为歉！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吉日良辰，花好月圆，恭祝一对璧人并蒂同心、白首偕老！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家母古稀之庆，承蒙各位亲友光临，略备薄酒，敬答厚意！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在下面一段文字横线处填入语句，衔接最恰当的一项是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分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遥远的</a:t>
            </a:r>
            <a:r>
              <a:rPr b="1" lang="zh-CN" sz="2400" spc="-1" strike="noStrike">
                <a:solidFill>
                  <a:srgbClr val="009dd9"/>
                </a:solidFill>
                <a:latin typeface="华文细黑"/>
              </a:rPr>
              <a:t>箕山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，渐渐化成了一幢巨影，遮断了我的视线。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在那个</a:t>
            </a:r>
            <a:r>
              <a:rPr b="1" lang="zh-CN" sz="2400" spc="-1" strike="noStrike">
                <a:solidFill>
                  <a:srgbClr val="e2d700"/>
                </a:solidFill>
                <a:latin typeface="华文细黑"/>
              </a:rPr>
              <a:t>遗址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上发掘了很久，但一无所获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①如果是冬日晴空，从那里可以一直眺望到中岳嵩山齿形的轮廓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②</a:t>
            </a:r>
            <a:r>
              <a:rPr b="1" lang="zh-CN" sz="2400" spc="-1" strike="noStrike">
                <a:solidFill>
                  <a:srgbClr val="009dd9"/>
                </a:solidFill>
                <a:latin typeface="华文细黑"/>
              </a:rPr>
              <a:t>箕顶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宽敞平坦，烟树素淡，悄寂无声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③而</a:t>
            </a:r>
            <a:r>
              <a:rPr b="1" lang="zh-CN" sz="2400" spc="-1" strike="noStrike">
                <a:solidFill>
                  <a:srgbClr val="e2d700"/>
                </a:solidFill>
                <a:latin typeface="华文细黑"/>
              </a:rPr>
              <a:t>遗址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都在下面的河边，那低伏的王城岗上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④山势平缓，从山脚慢慢上坡，一阵工夫就可以到达</a:t>
            </a:r>
            <a:r>
              <a:rPr b="1" lang="zh-CN" sz="2400" spc="-1" strike="noStrike">
                <a:solidFill>
                  <a:srgbClr val="009dd9"/>
                </a:solidFill>
                <a:latin typeface="华文细黑"/>
              </a:rPr>
              <a:t>箕顶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⑤如此空旷，让人略感凄凉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①②④⑤③        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①④⑤③②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④①③②⑤        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④②⑤①③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阅读右边这幅漫画，对它的寓意理解最贴切的一项是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人如果不用眼睛看，而只用耳朵听，肯定会受骗上当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人生一般总是在两种互相矛盾的真理之间寻找中庸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我们很少想到我们有什么，可是总想到我们缺什么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．我们不仅希望我们自己幸福，而且也希望他人幸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98" name="Picture 4" descr="高考资源网(ks5u.com),中国最大的高考网站,您身边的高考专家。"/>
          <p:cNvPicPr/>
          <p:nvPr/>
        </p:nvPicPr>
        <p:blipFill>
          <a:blip r:embed="rId1"/>
          <a:stretch/>
        </p:blipFill>
        <p:spPr>
          <a:xfrm>
            <a:off x="2514600" y="1219320"/>
            <a:ext cx="3259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1"/>
          <p:cNvSpPr/>
          <p:nvPr/>
        </p:nvSpPr>
        <p:spPr>
          <a:xfrm>
            <a:off x="395280" y="1773360"/>
            <a:ext cx="8064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认识你的新搭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崔永元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不过如此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邵（逸夫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402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进门的第二张桌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1"/>
          <p:cNvSpPr/>
          <p:nvPr/>
        </p:nvSpPr>
        <p:spPr>
          <a:xfrm>
            <a:off x="395280" y="1270080"/>
            <a:ext cx="8424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正视你的老“朋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爱与不爱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（高分与均分的分水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柴静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看见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韩寒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后会无期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"/>
          <p:cNvSpPr/>
          <p:nvPr/>
        </p:nvSpPr>
        <p:spPr>
          <a:xfrm>
            <a:off x="366840" y="1270080"/>
            <a:ext cx="864216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正视你的老“朋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想与不想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（均分与低分的分水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林清玄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半梦半醒之间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"/>
          <p:cNvSpPr/>
          <p:nvPr/>
        </p:nvSpPr>
        <p:spPr>
          <a:xfrm>
            <a:off x="395280" y="1270080"/>
            <a:ext cx="8748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正视你的老“朋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做与不做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（分数高下的决胜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职来职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南开大学的应征者二次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简单的事情重复地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重复的事情用心地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1"/>
          <p:cNvSpPr/>
          <p:nvPr/>
        </p:nvSpPr>
        <p:spPr>
          <a:xfrm>
            <a:off x="395280" y="1270080"/>
            <a:ext cx="842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重视你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半壁江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胡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**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要命作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陈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*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得心之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顾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**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大意失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"/>
          <p:cNvSpPr/>
          <p:nvPr/>
        </p:nvSpPr>
        <p:spPr>
          <a:xfrm>
            <a:off x="0" y="1989000"/>
            <a:ext cx="8964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</a:rPr>
              <a:t>高考阅卷组组长骆冬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建议中学作文教学也应当做出变革：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多写记叙文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刘震云：生活远比相声小品有趣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</a:rPr>
              <a:t>生活中不乏可笑之事，关键我们是否长了一双可笑的眼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"/>
          <p:cNvSpPr/>
          <p:nvPr/>
        </p:nvSpPr>
        <p:spPr>
          <a:xfrm>
            <a:off x="0" y="127008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、开启你一轮复习的新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时间跨度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号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期末考试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2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2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准备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日知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正反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素材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正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作业本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默写本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大    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小   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0" y="1270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一次认真的练习远胜于一百次的囫囵吞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限时完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加强书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罗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罗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贝多芬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许永峰</dc:creator>
  <dc:description/>
  <cp:keywords/>
  <dc:language>en-US</dc:language>
  <cp:lastModifiedBy>邵小燕</cp:lastModifiedBy>
  <dcterms:modified xsi:type="dcterms:W3CDTF">2014-08-30T07:26:55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