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BEF-2D6D-45A8-80A1-48987ECC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06C-B38B-4BF6-A46F-974477C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17A-F54D-4F77-81CC-A9A730F2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089-E06B-404E-9BB9-EAE9A238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40C-DB3F-4BF6-8FA3-01B8D214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229-B20D-4747-9262-871B68A7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A7C-BE64-407B-B261-5992934A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04A-04DE-454C-81E5-2A744266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D76-DF5D-4B31-A25C-6F8579FE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62D-8ECF-4390-83BC-413B1254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F0C-4A42-4576-A4D4-C2AB7F9E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2E6-A611-48C9-8D5A-549C4103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D162-B275-4431-8B98-3190C424C1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7392960" y="3751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专用模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1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" dur="300" fill="hold"/>
                                        <p:tgtEl>
                                          <p:spTgt spid="44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757080" y="1941480"/>
            <a:ext cx="7848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把新世纪的祝福和希望，悄悄地放在将融的雪被下，让它们，沿着春天的秧苗生长，送给你满年的丰硕与芬芳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接连接符 5"/>
          <p:cNvSpPr/>
          <p:nvPr/>
        </p:nvSpPr>
        <p:spPr>
          <a:xfrm>
            <a:off x="841320" y="1554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94"/>
          <p:cNvSpPr/>
          <p:nvPr/>
        </p:nvSpPr>
        <p:spPr>
          <a:xfrm>
            <a:off x="2897280" y="128412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7229520" y="2782800"/>
            <a:ext cx="151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快乐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E:\工作夹\PPT模版\s1030元旦\原图片\元旦.png"/>
          <p:cNvPicPr/>
          <p:nvPr/>
        </p:nvPicPr>
        <p:blipFill>
          <a:blip r:embed="rId2"/>
          <a:stretch/>
        </p:blipFill>
        <p:spPr>
          <a:xfrm>
            <a:off x="7124760" y="3751200"/>
            <a:ext cx="1824120" cy="142236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9"/>
          <p:cNvSpPr/>
          <p:nvPr/>
        </p:nvSpPr>
        <p:spPr>
          <a:xfrm>
            <a:off x="841320" y="236052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0"/>
          <p:cNvSpPr/>
          <p:nvPr/>
        </p:nvSpPr>
        <p:spPr>
          <a:xfrm>
            <a:off x="841320" y="271620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1"/>
          <p:cNvSpPr/>
          <p:nvPr/>
        </p:nvSpPr>
        <p:spPr>
          <a:xfrm>
            <a:off x="841320" y="200484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479200" y="3597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7254720" y="441468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3.3349990844727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5:44:41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锐普PPT</cp:lastModifiedBy>
  <dcterms:modified xsi:type="dcterms:W3CDTF">2015-07-03T00:44:31Z</dcterms:modified>
  <cp:revision>2</cp:revision>
  <dc:subject/>
  <dc:title>2012年锐普元旦PPT模板——心愿小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