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3A0BE-0200-40AB-9DF3-58E9439D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3B085-5935-4DB5-A9CE-0C902E84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5D59-E739-420B-884A-10AF6F52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3E2D8-2598-4169-9433-008B1ED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B5FA4-F38D-4B35-AE24-D533355B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09206-315C-456F-9304-B73F79DB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B289E-C9B4-4219-9F9B-669066B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C7B68-FC5E-437A-AD48-A31B3947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F5E6C-3699-4380-82A5-AF765967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FCD-B9F7-4F90-A53C-47BF4F0C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D75-E2D3-4A4F-AE83-5B22329E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451-3430-4477-99E8-62DA134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551-BF7B-41D6-88B4-64920FB6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934-E8B2-404B-8F52-AB1A30EA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552-FC3F-40A1-A21D-4C095BE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F8E-5A79-436F-8F28-C948D79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BDD-999B-4B1E-A0C5-1BEF5336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25A-4AA1-46F9-995C-0F7D90BC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308-0481-4F4B-A698-4A62D924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F5F-753E-4367-B895-D687863F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0FF-793C-4C05-93FF-17B4698C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B831-F85C-40BC-9617-37F2ABC4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893-0529-4490-8F9F-E2F3C54B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EA32-2B41-425A-BB11-FB6D9180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92A2-7C4C-4204-9A66-D1B5E26B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7D61-1D1B-4824-94B3-4C3A9EE4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710F-4EE8-4E96-AB32-B7B61B30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D25A-2C4E-4500-9044-A592115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9429-E113-419E-A531-73665C4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1456-9F08-42AA-9106-EBA5D176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BAD4-B338-4E0E-830A-0F8C2918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C0C1-1A9D-4048-9126-3D81733E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2C04-C056-42E3-9EE8-7F80524B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B9D6-1A88-440B-B38C-84FA4190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7C47-950E-404F-8FD0-A7265CE5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8FF4-CF38-472D-960C-F6B8AE4D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7282-014F-4B2D-B653-A660F659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3705-DA4D-4726-9953-F7A6CFBF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C960-2222-40D7-94DD-26E7AD3C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F728-518F-4C4E-8B5F-0C84DA5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5FFB-5D88-4B7D-91FD-740C6E58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A2A0-09B0-42D9-9236-84EAB73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CF24-5CC7-4EE1-A16A-4CE01C36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4BC5-FDFC-4E6F-8C4F-DC5012FB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7690-DF9C-4B12-83B2-5510FDB1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72C3-331E-4889-8520-71C2AD1F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70A8-9470-473A-B2D2-FA408EA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DF57-03D9-46B6-8D2D-07A95418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06DB-7545-4A44-ACD0-0F1D0F3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99A0-FA48-4E68-B0E1-A5ABBEA1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F82F-FC8B-41AF-8A52-D50FB953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7CFD-FFC7-4F22-8FF0-B8524C61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C428-5D4C-464D-A069-6156F80A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D6722-FA9F-4FBE-AC3A-AA0A19E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BA66F-B757-4BFA-AF33-C7FC5ABD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862A-1EA3-4A81-B8D2-88499B37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BC4FE-3C1F-47C5-80A7-F0FC8177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32C7-5CB9-4762-BFEE-3116ED7F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91EC9-C189-41C2-981E-DDEF4D2B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777D3-E530-40DF-8584-3A89F9F5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90498-9EFA-4894-A5BD-8EEC0D39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50E5-14FB-4948-BAC5-F03873FC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1B5F-6768-4336-8848-53033965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B6FA-04F3-4CA4-8FFE-A1C5596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BBB24-63CC-4E8F-99AC-A2494622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A7B38-5E83-4AAD-A161-368D809A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DDC60-FC3E-4611-A057-56FF7D0A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EA13-9075-4113-8211-BA488281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FEEB-9FF6-44FD-A1A0-861B2736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CF0AB-429A-4576-8FA0-D09A23F2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68D91-A0B3-4C6B-B297-E1DDAC3B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A9CC4-570C-4574-8E2A-C0FA097E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9E3A-26AB-428B-AE83-C90F2F8B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2628-F02C-4B61-97E1-2AEEAD1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8C004-2210-426C-8663-27CF3EA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C6380-A761-4724-817B-24139B3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D99D-36C4-4A3D-833F-1101FC6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78599-B5B4-438E-AF8D-F794E7F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B4A7B-8C70-4FC2-B2E2-76881FB9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415E-9685-456D-8FF3-1314D86C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743F0-A409-4D43-8B4A-7E9C429E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B68AA-06AA-46A8-B571-1F9E7BE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173F7-587B-4E4B-8FB5-EF2F9C64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3F979-4B0C-4CC9-AE94-727AC7B9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5F44-318C-4EFC-9916-D54DC41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4E45A-5C8D-4853-A672-7C9CFD2F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454D2-F368-4999-98C1-7EC7C786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8E97-BD9C-41DC-A127-B063B34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3130-3129-4023-B4BB-1880407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AB395-8673-4A28-9B86-D2C4C592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703D0-81C0-4684-8C3E-E9FE6EFE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75EEA-F1F3-48C6-BC1F-E5317C2E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C4FC-114C-4D5A-8DDF-8582C979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F6294-AC66-4900-86BB-1E8CE38B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8FB8A-20EC-4266-A0D7-0FEC5246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92586-CF6C-467E-93CD-DB34A786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3724-FA46-4FBF-A28D-688D9D906F8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DBC-9289-49BE-88C2-588C05D31B1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1E60-4394-4112-800B-8738B02A84B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ED6A-3AA5-40C4-A5E1-2D61DF7AB14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7A13-A338-4D9C-B27F-9F272363EBB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4F80-4676-4A84-82EF-40A5BD18549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3FD2-D580-4E63-983F-42887943736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0F1A-47C0-4E7D-AA54-4D010FE5A62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98" descr=""/>
          <p:cNvPicPr/>
          <p:nvPr/>
        </p:nvPicPr>
        <p:blipFill>
          <a:blip r:embed="rId1"/>
          <a:stretch/>
        </p:blipFill>
        <p:spPr>
          <a:xfrm>
            <a:off x="2014560" y="1671480"/>
            <a:ext cx="4678200" cy="202752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2"/>
          <p:cNvSpPr/>
          <p:nvPr/>
        </p:nvSpPr>
        <p:spPr>
          <a:xfrm>
            <a:off x="4080240" y="4446720"/>
            <a:ext cx="129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4622040" y="4691160"/>
            <a:ext cx="21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教师节祝褔、贺卡等相关类别的演示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6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6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6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23" descr="E:\工作夹\PPT模版\s1015教师节\原图片\5.png"/>
          <p:cNvPicPr/>
          <p:nvPr/>
        </p:nvPicPr>
        <p:blipFill>
          <a:blip r:embed="rId1"/>
          <a:stretch/>
        </p:blipFill>
        <p:spPr>
          <a:xfrm>
            <a:off x="-57240" y="0"/>
            <a:ext cx="9051840" cy="5145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3" descr="E:\工作夹\PPT模版\s1015教师节\原图片\5.png"/>
          <p:cNvPicPr/>
          <p:nvPr/>
        </p:nvPicPr>
        <p:blipFill>
          <a:blip r:embed="rId2"/>
          <a:stretch/>
        </p:blipFill>
        <p:spPr>
          <a:xfrm>
            <a:off x="108000" y="0"/>
            <a:ext cx="905184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60"/>
          <p:cNvGrpSpPr/>
          <p:nvPr/>
        </p:nvGrpSpPr>
        <p:grpSpPr>
          <a:xfrm>
            <a:off x="1465200" y="-195120"/>
            <a:ext cx="6232680" cy="6234120"/>
            <a:chOff x="1465200" y="-195120"/>
            <a:chExt cx="6232680" cy="6234120"/>
          </a:xfrm>
        </p:grpSpPr>
        <p:grpSp>
          <p:nvGrpSpPr>
            <p:cNvPr id="447" name="椭圆 67"/>
            <p:cNvGrpSpPr/>
            <p:nvPr/>
          </p:nvGrpSpPr>
          <p:grpSpPr>
            <a:xfrm>
              <a:off x="1465200" y="-195120"/>
              <a:ext cx="6232680" cy="6234120"/>
              <a:chOff x="1465200" y="-195120"/>
              <a:chExt cx="6232680" cy="6234120"/>
            </a:xfrm>
          </p:grpSpPr>
          <p:pic>
            <p:nvPicPr>
              <p:cNvPr id="448" name="椭圆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5200" y="-195120"/>
                <a:ext cx="6232680" cy="623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2379600" y="717120"/>
                <a:ext cx="4404600" cy="44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0" name="椭圆 59"/>
            <p:cNvSpPr/>
            <p:nvPr/>
          </p:nvSpPr>
          <p:spPr>
            <a:xfrm>
              <a:off x="3261960" y="1599480"/>
              <a:ext cx="2640240" cy="2642400"/>
            </a:xfrm>
            <a:prstGeom prst="ellipse">
              <a:avLst/>
            </a:prstGeom>
            <a:gradFill rotWithShape="0">
              <a:gsLst>
                <a:gs pos="0">
                  <a:srgbClr val="ffe57a">
                    <a:alpha val="50196"/>
                  </a:srgbClr>
                </a:gs>
                <a:gs pos="100000">
                  <a:srgbClr val="f7ba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9"/>
          <p:cNvGrpSpPr/>
          <p:nvPr/>
        </p:nvGrpSpPr>
        <p:grpSpPr>
          <a:xfrm>
            <a:off x="3534120" y="2688840"/>
            <a:ext cx="2299680" cy="2243880"/>
            <a:chOff x="3534120" y="2688840"/>
            <a:chExt cx="2299680" cy="2243880"/>
          </a:xfrm>
        </p:grpSpPr>
        <p:pic>
          <p:nvPicPr>
            <p:cNvPr id="452" name="Picture 10" descr="未标题-5"/>
            <p:cNvPicPr/>
            <p:nvPr/>
          </p:nvPicPr>
          <p:blipFill>
            <a:blip r:embed="rId4"/>
            <a:stretch/>
          </p:blipFill>
          <p:spPr>
            <a:xfrm rot="20859000">
              <a:off x="3711600" y="2874960"/>
              <a:ext cx="1944360" cy="18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11" descr="未标题-8"/>
            <p:cNvPicPr/>
            <p:nvPr/>
          </p:nvPicPr>
          <p:blipFill>
            <a:blip r:embed="rId5"/>
            <a:stretch/>
          </p:blipFill>
          <p:spPr>
            <a:xfrm rot="20859000">
              <a:off x="4541760" y="3140640"/>
              <a:ext cx="186120" cy="45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2" descr="图片2副本"/>
          <p:cNvPicPr/>
          <p:nvPr/>
        </p:nvPicPr>
        <p:blipFill>
          <a:blip r:embed="rId6"/>
          <a:srcRect l="-7435" t="3101" r="0" b="18965"/>
          <a:stretch/>
        </p:blipFill>
        <p:spPr>
          <a:xfrm>
            <a:off x="4468680" y="2073240"/>
            <a:ext cx="424080" cy="1231920"/>
          </a:xfrm>
          <a:prstGeom prst="rect">
            <a:avLst/>
          </a:prstGeom>
          <a:ln w="0">
            <a:noFill/>
          </a:ln>
        </p:spPr>
      </p:pic>
      <p:sp>
        <p:nvSpPr>
          <p:cNvPr id="455" name="Freeform 13"/>
          <p:cNvSpPr/>
          <p:nvPr/>
        </p:nvSpPr>
        <p:spPr>
          <a:xfrm>
            <a:off x="3782880" y="2824200"/>
            <a:ext cx="798480" cy="270000"/>
          </a:xfrm>
          <a:custGeom>
            <a:avLst/>
            <a:gdLst/>
            <a:ahLst/>
            <a:rect l="l" t="t" r="r" b="b"/>
            <a:pathLst>
              <a:path w="317" h="107">
                <a:moveTo>
                  <a:pt x="0" y="101"/>
                </a:moveTo>
                <a:cubicBezTo>
                  <a:pt x="184" y="0"/>
                  <a:pt x="317" y="107"/>
                  <a:pt x="317" y="107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14"/>
          <p:cNvSpPr/>
          <p:nvPr/>
        </p:nvSpPr>
        <p:spPr>
          <a:xfrm>
            <a:off x="3440160" y="3078000"/>
            <a:ext cx="1060560" cy="1392480"/>
          </a:xfrm>
          <a:custGeom>
            <a:avLst/>
            <a:gdLst/>
            <a:ahLst/>
            <a:rect l="l" t="t" r="r" b="b"/>
            <a:pathLst>
              <a:path w="421" h="552">
                <a:moveTo>
                  <a:pt x="421" y="552"/>
                </a:moveTo>
                <a:cubicBezTo>
                  <a:pt x="250" y="387"/>
                  <a:pt x="128" y="264"/>
                  <a:pt x="128" y="264"/>
                </a:cubicBezTo>
                <a:cubicBezTo>
                  <a:pt x="0" y="91"/>
                  <a:pt x="136" y="0"/>
                  <a:pt x="136" y="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5"/>
          <p:cNvSpPr/>
          <p:nvPr/>
        </p:nvSpPr>
        <p:spPr>
          <a:xfrm>
            <a:off x="4500720" y="2959200"/>
            <a:ext cx="1217520" cy="1511280"/>
          </a:xfrm>
          <a:custGeom>
            <a:avLst/>
            <a:gdLst/>
            <a:ahLst/>
            <a:rect l="l" t="t" r="r" b="b"/>
            <a:pathLst>
              <a:path w="483" h="599">
                <a:moveTo>
                  <a:pt x="299" y="0"/>
                </a:moveTo>
                <a:cubicBezTo>
                  <a:pt x="360" y="19"/>
                  <a:pt x="483" y="150"/>
                  <a:pt x="395" y="266"/>
                </a:cubicBezTo>
                <a:cubicBezTo>
                  <a:pt x="283" y="413"/>
                  <a:pt x="139" y="504"/>
                  <a:pt x="0" y="599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16"/>
          <p:cNvSpPr/>
          <p:nvPr/>
        </p:nvSpPr>
        <p:spPr>
          <a:xfrm>
            <a:off x="4610160" y="2859120"/>
            <a:ext cx="644400" cy="241200"/>
          </a:xfrm>
          <a:custGeom>
            <a:avLst/>
            <a:gdLst/>
            <a:ahLst/>
            <a:rect l="l" t="t" r="r" b="b"/>
            <a:pathLst>
              <a:path w="256" h="96">
                <a:moveTo>
                  <a:pt x="0" y="96"/>
                </a:moveTo>
                <a:cubicBezTo>
                  <a:pt x="0" y="96"/>
                  <a:pt x="130" y="0"/>
                  <a:pt x="256" y="4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弧形 61"/>
          <p:cNvSpPr/>
          <p:nvPr/>
        </p:nvSpPr>
        <p:spPr>
          <a:xfrm>
            <a:off x="550800" y="91440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  <a:lnTo>
                  <a:pt x="89694" y="90488"/>
                </a:lnTo>
                <a:cubicBezTo>
                  <a:pt x="89694" y="60325"/>
                  <a:pt x="89693" y="30163"/>
                  <a:pt x="89693" y="0"/>
                </a:cubicBezTo>
                <a:close/>
              </a:path>
              <a:path fill="none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任意多边形 62"/>
          <p:cNvSpPr/>
          <p:nvPr/>
        </p:nvSpPr>
        <p:spPr>
          <a:xfrm flipH="1">
            <a:off x="1116000" y="2900520"/>
            <a:ext cx="123840" cy="198360"/>
          </a:xfrm>
          <a:custGeom>
            <a:avLst/>
            <a:gdLst/>
            <a:ahLst/>
            <a:rect l="l" t="t" r="r" b="b"/>
            <a:pathLst>
              <a:path w="451387" h="718004">
                <a:moveTo>
                  <a:pt x="813" y="0"/>
                </a:moveTo>
                <a:cubicBezTo>
                  <a:pt x="166465" y="46382"/>
                  <a:pt x="332117" y="92765"/>
                  <a:pt x="332117" y="212035"/>
                </a:cubicBezTo>
                <a:cubicBezTo>
                  <a:pt x="332117" y="331305"/>
                  <a:pt x="-19065" y="682488"/>
                  <a:pt x="813" y="715618"/>
                </a:cubicBezTo>
                <a:cubicBezTo>
                  <a:pt x="20691" y="748748"/>
                  <a:pt x="349787" y="426279"/>
                  <a:pt x="451387" y="41081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任意多边形 63"/>
          <p:cNvSpPr/>
          <p:nvPr/>
        </p:nvSpPr>
        <p:spPr>
          <a:xfrm>
            <a:off x="2340000" y="1808280"/>
            <a:ext cx="252360" cy="177840"/>
          </a:xfrm>
          <a:custGeom>
            <a:avLst/>
            <a:gdLst/>
            <a:ahLst/>
            <a:rect l="l" t="t" r="r" b="b"/>
            <a:pathLst>
              <a:path w="505425" h="358035">
                <a:moveTo>
                  <a:pt x="66261" y="0"/>
                </a:moveTo>
                <a:cubicBezTo>
                  <a:pt x="75096" y="26504"/>
                  <a:pt x="92765" y="51575"/>
                  <a:pt x="92765" y="79513"/>
                </a:cubicBezTo>
                <a:cubicBezTo>
                  <a:pt x="92765" y="92007"/>
                  <a:pt x="71849" y="94843"/>
                  <a:pt x="66261" y="106018"/>
                </a:cubicBezTo>
                <a:cubicBezTo>
                  <a:pt x="53767" y="131007"/>
                  <a:pt x="48591" y="159027"/>
                  <a:pt x="39756" y="185531"/>
                </a:cubicBezTo>
                <a:cubicBezTo>
                  <a:pt x="35339" y="198783"/>
                  <a:pt x="32751" y="212793"/>
                  <a:pt x="26504" y="225287"/>
                </a:cubicBezTo>
                <a:lnTo>
                  <a:pt x="0" y="278296"/>
                </a:lnTo>
                <a:cubicBezTo>
                  <a:pt x="4417" y="300383"/>
                  <a:pt x="-1168" y="327253"/>
                  <a:pt x="13252" y="344557"/>
                </a:cubicBezTo>
                <a:cubicBezTo>
                  <a:pt x="24912" y="358549"/>
                  <a:pt x="48060" y="358483"/>
                  <a:pt x="66261" y="357809"/>
                </a:cubicBezTo>
                <a:cubicBezTo>
                  <a:pt x="168175" y="354034"/>
                  <a:pt x="269461" y="340140"/>
                  <a:pt x="371061" y="331305"/>
                </a:cubicBezTo>
                <a:cubicBezTo>
                  <a:pt x="499119" y="254470"/>
                  <a:pt x="547478" y="283737"/>
                  <a:pt x="463826" y="212035"/>
                </a:cubicBezTo>
                <a:cubicBezTo>
                  <a:pt x="362330" y="125038"/>
                  <a:pt x="438735" y="200199"/>
                  <a:pt x="397565" y="159026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任意多边形 64"/>
          <p:cNvSpPr/>
          <p:nvPr/>
        </p:nvSpPr>
        <p:spPr>
          <a:xfrm flipH="1">
            <a:off x="7163640" y="3833640"/>
            <a:ext cx="219240" cy="29052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任意多边形 83"/>
          <p:cNvSpPr/>
          <p:nvPr/>
        </p:nvSpPr>
        <p:spPr>
          <a:xfrm flipH="1">
            <a:off x="6732720" y="1697040"/>
            <a:ext cx="218880" cy="28908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任意多边形 84"/>
          <p:cNvSpPr/>
          <p:nvPr/>
        </p:nvSpPr>
        <p:spPr>
          <a:xfrm flipH="1" rot="9975000">
            <a:off x="6155280" y="1004760"/>
            <a:ext cx="219240" cy="29016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Oval 279"/>
          <p:cNvSpPr/>
          <p:nvPr/>
        </p:nvSpPr>
        <p:spPr>
          <a:xfrm>
            <a:off x="3933720" y="2631960"/>
            <a:ext cx="1305000" cy="130032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Oval 280"/>
          <p:cNvSpPr/>
          <p:nvPr/>
        </p:nvSpPr>
        <p:spPr>
          <a:xfrm>
            <a:off x="3454560" y="2154240"/>
            <a:ext cx="2263680" cy="22557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282"/>
          <p:cNvSpPr/>
          <p:nvPr/>
        </p:nvSpPr>
        <p:spPr>
          <a:xfrm>
            <a:off x="4330800" y="3029040"/>
            <a:ext cx="511200" cy="5061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Oval 282"/>
          <p:cNvSpPr/>
          <p:nvPr/>
        </p:nvSpPr>
        <p:spPr>
          <a:xfrm>
            <a:off x="4203720" y="2900520"/>
            <a:ext cx="765000" cy="7635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9F543882.wav" descr=""/>
          <p:cNvPicPr/>
          <p:nvPr/>
        </p:nvPicPr>
        <p:blipFill>
          <a:blip r:embed="rId7"/>
          <a:stretch/>
        </p:blipFill>
        <p:spPr>
          <a:xfrm>
            <a:off x="9468000" y="2419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8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8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4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8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8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4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8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 repeatCount="indefinite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8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8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429" dur="18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8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437" dur="18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445" dur="1800" fill="hold"/>
                                        <p:tgtEl>
                                          <p:spTgt spid="467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8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462" dur="18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1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2"/>
          <p:cNvSpPr/>
          <p:nvPr/>
        </p:nvSpPr>
        <p:spPr>
          <a:xfrm>
            <a:off x="900000" y="2152800"/>
            <a:ext cx="7848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一种情感不能相守却天长地久，有一种付出不计回报却没有尽头，有一种坚持不离不弃却永不放手。老师，感谢您用心关爱我们每一个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98" descr=""/>
          <p:cNvPicPr/>
          <p:nvPr/>
        </p:nvPicPr>
        <p:blipFill>
          <a:blip r:embed="rId1"/>
          <a:stretch/>
        </p:blipFill>
        <p:spPr>
          <a:xfrm>
            <a:off x="1182600" y="1149480"/>
            <a:ext cx="2281320" cy="987120"/>
          </a:xfrm>
          <a:prstGeom prst="rect">
            <a:avLst/>
          </a:prstGeom>
          <a:ln w="0">
            <a:noFill/>
          </a:ln>
        </p:spPr>
      </p:pic>
      <p:sp>
        <p:nvSpPr>
          <p:cNvPr id="472" name="直接连接符 4"/>
          <p:cNvSpPr/>
          <p:nvPr/>
        </p:nvSpPr>
        <p:spPr>
          <a:xfrm>
            <a:off x="1006560" y="204480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394"/>
          <p:cNvSpPr/>
          <p:nvPr/>
        </p:nvSpPr>
        <p:spPr>
          <a:xfrm>
            <a:off x="7658280" y="4125960"/>
            <a:ext cx="1225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矩形 9"/>
          <p:cNvSpPr/>
          <p:nvPr/>
        </p:nvSpPr>
        <p:spPr>
          <a:xfrm>
            <a:off x="887400" y="2921040"/>
            <a:ext cx="784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福老师教师节快乐，收获桃李满园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89"/>
          <p:cNvSpPr/>
          <p:nvPr/>
        </p:nvSpPr>
        <p:spPr>
          <a:xfrm>
            <a:off x="3224880" y="20098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f1d22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90"/>
          <p:cNvSpPr/>
          <p:nvPr/>
        </p:nvSpPr>
        <p:spPr>
          <a:xfrm>
            <a:off x="3504240" y="28274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6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6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5:31:1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Sky123.Org</cp:lastModifiedBy>
  <dcterms:modified xsi:type="dcterms:W3CDTF">2015-07-10T03:09:00Z</dcterms:modified>
  <cp:revision>754</cp:revision>
  <dc:subject/>
  <dc:title>朴素师恩-锐普2011年教师节免费PPT模板</dc:title>
</cp:coreProperties>
</file>