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002-174C-4471-AB48-F7B2B52A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0EC-1631-4D43-8C96-45F36979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EB4-EC53-4BAA-8E6C-9E5A06C7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3BC-ED23-450F-84B6-7E7723C2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3F8-4E15-4406-A62F-0BA3124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E6E-3D1B-44C2-B97D-25A9B893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35A-7A4D-4A8F-875D-AC2532E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11F-7C20-4FCA-8E3A-DE7E94D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364-F64C-470F-8779-7997B676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996-C4AD-4D5A-9C36-80CD8B1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959-D241-4B5E-AA30-7B6FF8A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7DD-340C-41DF-8F7E-DD0141E1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197-76DC-46F8-9F5A-E01544E5187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E90-ED82-410C-871E-179EE82A8138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副标题 7"/>
          <p:cNvSpPr/>
          <p:nvPr/>
        </p:nvSpPr>
        <p:spPr>
          <a:xfrm>
            <a:off x="395280" y="422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适用于年会年终报告的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素材辑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495360" y="4033800"/>
            <a:ext cx="799308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1320" y="827280"/>
            <a:ext cx="5295960" cy="2601720"/>
            <a:chOff x="3271320" y="827280"/>
            <a:chExt cx="5295960" cy="2601720"/>
          </a:xfrm>
        </p:grpSpPr>
        <p:sp>
          <p:nvSpPr>
            <p:cNvPr id="44" name="Rectangle 75"/>
            <p:cNvSpPr/>
            <p:nvPr/>
          </p:nvSpPr>
          <p:spPr>
            <a:xfrm rot="11122200">
              <a:off x="4328280" y="280800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787720" y="900000"/>
              <a:ext cx="1500120" cy="1614600"/>
              <a:chOff x="5787720" y="900000"/>
              <a:chExt cx="1500120" cy="1614600"/>
            </a:xfrm>
          </p:grpSpPr>
          <p:sp>
            <p:nvSpPr>
              <p:cNvPr id="46" name="Rectangle 48"/>
              <p:cNvSpPr/>
              <p:nvPr/>
            </p:nvSpPr>
            <p:spPr>
              <a:xfrm>
                <a:off x="5787720" y="90000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" name="TextBox 49"/>
              <p:cNvSpPr/>
              <p:nvPr/>
            </p:nvSpPr>
            <p:spPr>
              <a:xfrm>
                <a:off x="6189840" y="108000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5892120" y="1001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062840" y="1001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" name="TextBox 52"/>
              <p:cNvSpPr/>
              <p:nvPr/>
            </p:nvSpPr>
            <p:spPr>
              <a:xfrm>
                <a:off x="5787720" y="11052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51" name="Rectangle 53"/>
            <p:cNvSpPr/>
            <p:nvPr/>
          </p:nvSpPr>
          <p:spPr>
            <a:xfrm rot="10800000">
              <a:off x="5848920" y="249084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 rot="11122200">
              <a:off x="7069680" y="261648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 rot="10800000">
              <a:off x="3271320" y="249084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271680" y="905040"/>
              <a:ext cx="1500120" cy="1614960"/>
              <a:chOff x="3271680" y="905040"/>
              <a:chExt cx="1500120" cy="1614960"/>
            </a:xfrm>
          </p:grpSpPr>
          <p:sp>
            <p:nvSpPr>
              <p:cNvPr id="55" name="Rectangle 57"/>
              <p:cNvSpPr/>
              <p:nvPr/>
            </p:nvSpPr>
            <p:spPr>
              <a:xfrm>
                <a:off x="3271680" y="90504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6" name="TextBox 58"/>
              <p:cNvSpPr/>
              <p:nvPr/>
            </p:nvSpPr>
            <p:spPr>
              <a:xfrm>
                <a:off x="3673800" y="108540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3376080" y="10069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4546800" y="10069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" name="TextBox 61"/>
              <p:cNvSpPr/>
              <p:nvPr/>
            </p:nvSpPr>
            <p:spPr>
              <a:xfrm>
                <a:off x="3271680" y="1110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348800" y="905760"/>
              <a:ext cx="1953000" cy="2005200"/>
              <a:chOff x="4348800" y="905760"/>
              <a:chExt cx="1953000" cy="2005200"/>
            </a:xfrm>
          </p:grpSpPr>
          <p:sp>
            <p:nvSpPr>
              <p:cNvPr id="61" name="Rectangle 63"/>
              <p:cNvSpPr/>
              <p:nvPr/>
            </p:nvSpPr>
            <p:spPr>
              <a:xfrm rot="1201800">
                <a:off x="4574880" y="111456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" name="TextBox 64"/>
              <p:cNvSpPr/>
              <p:nvPr/>
            </p:nvSpPr>
            <p:spPr>
              <a:xfrm rot="1201800">
                <a:off x="4950720" y="126000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 rot="1201800">
                <a:off x="4927320" y="105696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 rot="1201800">
                <a:off x="6027120" y="145764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5" name="TextBox 67"/>
              <p:cNvSpPr/>
              <p:nvPr/>
            </p:nvSpPr>
            <p:spPr>
              <a:xfrm rot="1201800">
                <a:off x="4733280" y="13363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879960" y="827280"/>
              <a:ext cx="1687320" cy="1762560"/>
              <a:chOff x="6879960" y="827280"/>
              <a:chExt cx="1687320" cy="1762560"/>
            </a:xfrm>
          </p:grpSpPr>
          <p:sp>
            <p:nvSpPr>
              <p:cNvPr id="67" name="Rectangle 69"/>
              <p:cNvSpPr/>
              <p:nvPr/>
            </p:nvSpPr>
            <p:spPr>
              <a:xfrm rot="21168000">
                <a:off x="6973200" y="91476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" name="TextBox 70"/>
              <p:cNvSpPr/>
              <p:nvPr/>
            </p:nvSpPr>
            <p:spPr>
              <a:xfrm rot="21168000">
                <a:off x="7385760" y="10735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6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" name="Oval 71"/>
              <p:cNvSpPr/>
              <p:nvPr/>
            </p:nvSpPr>
            <p:spPr>
              <a:xfrm rot="21168000">
                <a:off x="7004160" y="109368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" name="Oval 72"/>
              <p:cNvSpPr/>
              <p:nvPr/>
            </p:nvSpPr>
            <p:spPr>
              <a:xfrm rot="21168000">
                <a:off x="8165880" y="946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" name="TextBox 73"/>
              <p:cNvSpPr/>
              <p:nvPr/>
            </p:nvSpPr>
            <p:spPr>
              <a:xfrm rot="21168000">
                <a:off x="6915600" y="111168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1431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</a:rPr>
              <a:t>201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</a:rPr>
              <a:t>年 新年礼包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73" name="矩形 204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40"/>
          <p:cNvSpPr/>
          <p:nvPr/>
        </p:nvSpPr>
        <p:spPr>
          <a:xfrm>
            <a:off x="0" y="6303960"/>
            <a:ext cx="9144000" cy="468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63600" y="6308280"/>
            <a:ext cx="835344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ktangel 70"/>
          <p:cNvSpPr/>
          <p:nvPr/>
        </p:nvSpPr>
        <p:spPr>
          <a:xfrm flipV="1">
            <a:off x="0" y="2703960"/>
            <a:ext cx="9144000" cy="18558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04720" y="1257480"/>
            <a:ext cx="8181720" cy="4343400"/>
            <a:chOff x="504720" y="1257480"/>
            <a:chExt cx="8181720" cy="4343400"/>
          </a:xfrm>
        </p:grpSpPr>
        <p:grpSp>
          <p:nvGrpSpPr>
            <p:cNvPr id="543" name=""/>
            <p:cNvGrpSpPr/>
            <p:nvPr/>
          </p:nvGrpSpPr>
          <p:grpSpPr>
            <a:xfrm>
              <a:off x="504720" y="1257480"/>
              <a:ext cx="8031600" cy="4343400"/>
              <a:chOff x="504720" y="1257480"/>
              <a:chExt cx="8031600" cy="4343400"/>
            </a:xfrm>
          </p:grpSpPr>
          <p:sp>
            <p:nvSpPr>
              <p:cNvPr id="544" name="Wave 136"/>
              <p:cNvSpPr/>
              <p:nvPr/>
            </p:nvSpPr>
            <p:spPr>
              <a:xfrm>
                <a:off x="4519440" y="1257480"/>
                <a:ext cx="4016880" cy="4343400"/>
              </a:xfrm>
              <a:custGeom>
                <a:avLst/>
                <a:gdLst>
                  <a:gd name="textAreaLeft" fmla="*/ 0 w 4016880"/>
                  <a:gd name="textAreaRight" fmla="*/ 401724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45" name="Wave 135"/>
              <p:cNvSpPr/>
              <p:nvPr/>
            </p:nvSpPr>
            <p:spPr>
              <a:xfrm flipH="1">
                <a:off x="504720" y="1257480"/>
                <a:ext cx="4016880" cy="4343400"/>
              </a:xfrm>
              <a:custGeom>
                <a:avLst/>
                <a:gdLst>
                  <a:gd name="textAreaLeft" fmla="*/ 360 w 4016880"/>
                  <a:gd name="textAreaRight" fmla="*/ 401760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546" name="Rektangel 274"/>
            <p:cNvSpPr/>
            <p:nvPr/>
          </p:nvSpPr>
          <p:spPr>
            <a:xfrm rot="10800000">
              <a:off x="8253360" y="3617640"/>
              <a:ext cx="433080" cy="127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47" name="Wave 131"/>
            <p:cNvSpPr/>
            <p:nvPr/>
          </p:nvSpPr>
          <p:spPr>
            <a:xfrm flipH="1">
              <a:off x="633240" y="1357200"/>
              <a:ext cx="3888000" cy="4137120"/>
            </a:xfrm>
            <a:custGeom>
              <a:avLst/>
              <a:gdLst>
                <a:gd name="textAreaLeft" fmla="*/ 360 w 3888000"/>
                <a:gd name="textAreaRight" fmla="*/ 388872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48" name="Wave 132"/>
            <p:cNvSpPr/>
            <p:nvPr/>
          </p:nvSpPr>
          <p:spPr>
            <a:xfrm>
              <a:off x="4519440" y="1357200"/>
              <a:ext cx="3888000" cy="4137120"/>
            </a:xfrm>
            <a:custGeom>
              <a:avLst/>
              <a:gdLst>
                <a:gd name="textAreaLeft" fmla="*/ 0 w 3888000"/>
                <a:gd name="textAreaRight" fmla="*/ 388836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49" name="Wave 133"/>
            <p:cNvSpPr/>
            <p:nvPr/>
          </p:nvSpPr>
          <p:spPr>
            <a:xfrm>
              <a:off x="4519440" y="1379520"/>
              <a:ext cx="3774960" cy="413712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0" name="Rektangel 274"/>
            <p:cNvSpPr/>
            <p:nvPr/>
          </p:nvSpPr>
          <p:spPr>
            <a:xfrm>
              <a:off x="504720" y="2049480"/>
              <a:ext cx="433080" cy="12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1" name="Wave 134"/>
            <p:cNvSpPr/>
            <p:nvPr/>
          </p:nvSpPr>
          <p:spPr>
            <a:xfrm flipH="1">
              <a:off x="810360" y="1357200"/>
              <a:ext cx="3708360" cy="4137120"/>
            </a:xfrm>
            <a:custGeom>
              <a:avLst/>
              <a:gdLst>
                <a:gd name="textAreaLeft" fmla="*/ -360 w 3708360"/>
                <a:gd name="textAreaRight" fmla="*/ 3708360 w 37083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2" name="TextBox 123"/>
            <p:cNvSpPr/>
            <p:nvPr/>
          </p:nvSpPr>
          <p:spPr>
            <a:xfrm>
              <a:off x="912600" y="155412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</a:rPr>
                <a:t>2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3" name="TextBox 124"/>
            <p:cNvSpPr/>
            <p:nvPr/>
          </p:nvSpPr>
          <p:spPr>
            <a:xfrm>
              <a:off x="2589120" y="147816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</a:rPr>
                <a:t>0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4" name="TextBox 125"/>
            <p:cNvSpPr/>
            <p:nvPr/>
          </p:nvSpPr>
          <p:spPr>
            <a:xfrm>
              <a:off x="4748040" y="141624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55" name="TextBox 126"/>
            <p:cNvSpPr/>
            <p:nvPr/>
          </p:nvSpPr>
          <p:spPr>
            <a:xfrm>
              <a:off x="6272280" y="150480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 Black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A10-8533-4D37-9EEE-696D51D349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 Black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58" name="Rectangle 156"/>
          <p:cNvSpPr/>
          <p:nvPr/>
        </p:nvSpPr>
        <p:spPr>
          <a:xfrm>
            <a:off x="0" y="3948120"/>
            <a:ext cx="9144000" cy="26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9" name="Ellipse 98"/>
          <p:cNvSpPr/>
          <p:nvPr/>
        </p:nvSpPr>
        <p:spPr>
          <a:xfrm>
            <a:off x="4546440" y="5618160"/>
            <a:ext cx="3164040" cy="55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852720" y="1389600"/>
            <a:ext cx="4323240" cy="4318560"/>
            <a:chOff x="3852720" y="1389600"/>
            <a:chExt cx="4323240" cy="4318560"/>
          </a:xfrm>
        </p:grpSpPr>
        <p:sp>
          <p:nvSpPr>
            <p:cNvPr id="561" name="Ellipse 44"/>
            <p:cNvSpPr/>
            <p:nvPr/>
          </p:nvSpPr>
          <p:spPr>
            <a:xfrm rot="21051600">
              <a:off x="4127760" y="1665360"/>
              <a:ext cx="3772800" cy="3767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62" name="Ellipse 45"/>
            <p:cNvSpPr/>
            <p:nvPr/>
          </p:nvSpPr>
          <p:spPr>
            <a:xfrm>
              <a:off x="4662360" y="1743120"/>
              <a:ext cx="2738520" cy="20476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63" name="Måne 31"/>
            <p:cNvSpPr/>
            <p:nvPr/>
          </p:nvSpPr>
          <p:spPr>
            <a:xfrm rot="16551600">
              <a:off x="5092920" y="2795040"/>
              <a:ext cx="1658520" cy="366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647960" y="1989000"/>
            <a:ext cx="2718000" cy="2926800"/>
            <a:chOff x="4647960" y="1989000"/>
            <a:chExt cx="2718000" cy="2926800"/>
          </a:xfrm>
        </p:grpSpPr>
        <p:sp>
          <p:nvSpPr>
            <p:cNvPr id="565" name="TextBox 230"/>
            <p:cNvSpPr/>
            <p:nvPr/>
          </p:nvSpPr>
          <p:spPr>
            <a:xfrm>
              <a:off x="5148360" y="1989000"/>
              <a:ext cx="16844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0" spc="-1" strike="noStrike">
                  <a:solidFill>
                    <a:srgbClr val="111111"/>
                  </a:solidFill>
                  <a:latin typeface="微软雅黑"/>
                  <a:ea typeface="微软雅黑"/>
                </a:rPr>
                <a:t>1</a:t>
              </a:r>
              <a:endParaRPr b="0" lang="en-US" sz="17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647960" y="2706840"/>
              <a:ext cx="2718000" cy="2208960"/>
              <a:chOff x="4647960" y="2706840"/>
              <a:chExt cx="2718000" cy="2208960"/>
            </a:xfrm>
          </p:grpSpPr>
          <p:sp>
            <p:nvSpPr>
              <p:cNvPr id="567" name="Freeform 3"/>
              <p:cNvSpPr/>
              <p:nvPr/>
            </p:nvSpPr>
            <p:spPr>
              <a:xfrm rot="1227600">
                <a:off x="6904080" y="290772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68" name="Freeform 4"/>
              <p:cNvSpPr/>
              <p:nvPr/>
            </p:nvSpPr>
            <p:spPr>
              <a:xfrm>
                <a:off x="6794640" y="358236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69" name="Freeform 5"/>
              <p:cNvSpPr/>
              <p:nvPr/>
            </p:nvSpPr>
            <p:spPr>
              <a:xfrm rot="21036000">
                <a:off x="6681960" y="271728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0" name="Freeform 6"/>
              <p:cNvSpPr/>
              <p:nvPr/>
            </p:nvSpPr>
            <p:spPr>
              <a:xfrm rot="20536200">
                <a:off x="6731280" y="301644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1" name="Freeform 7"/>
              <p:cNvSpPr/>
              <p:nvPr/>
            </p:nvSpPr>
            <p:spPr>
              <a:xfrm rot="1904400">
                <a:off x="7005960" y="318636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2" name="Freeform 8"/>
              <p:cNvSpPr/>
              <p:nvPr/>
            </p:nvSpPr>
            <p:spPr>
              <a:xfrm rot="21013200">
                <a:off x="6849360" y="334728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3" name="Freeform 9"/>
              <p:cNvSpPr/>
              <p:nvPr/>
            </p:nvSpPr>
            <p:spPr>
              <a:xfrm rot="3228000">
                <a:off x="7091280" y="345996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 rot="4053000">
                <a:off x="7038720" y="373500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5" name="Freeform 11"/>
              <p:cNvSpPr/>
              <p:nvPr/>
            </p:nvSpPr>
            <p:spPr>
              <a:xfrm rot="273600">
                <a:off x="6738840" y="383940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6" name="Freeform 12"/>
              <p:cNvSpPr/>
              <p:nvPr/>
            </p:nvSpPr>
            <p:spPr>
              <a:xfrm rot="4999200">
                <a:off x="7015680" y="393876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7" name="Freeform 13"/>
              <p:cNvSpPr/>
              <p:nvPr/>
            </p:nvSpPr>
            <p:spPr>
              <a:xfrm rot="1173600">
                <a:off x="6580440" y="402408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8" name="Freeform 14"/>
              <p:cNvSpPr/>
              <p:nvPr/>
            </p:nvSpPr>
            <p:spPr>
              <a:xfrm rot="6093000">
                <a:off x="6862680" y="416268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79" name="Freeform 15"/>
              <p:cNvSpPr/>
              <p:nvPr/>
            </p:nvSpPr>
            <p:spPr>
              <a:xfrm rot="3612000">
                <a:off x="6165360" y="428832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0" name="Freeform 16"/>
              <p:cNvSpPr/>
              <p:nvPr/>
            </p:nvSpPr>
            <p:spPr>
              <a:xfrm rot="6442200">
                <a:off x="6648120" y="434268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1" name="Freeform 17"/>
              <p:cNvSpPr/>
              <p:nvPr/>
            </p:nvSpPr>
            <p:spPr>
              <a:xfrm rot="2014200">
                <a:off x="6390720" y="417060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2" name="Freeform 18"/>
              <p:cNvSpPr/>
              <p:nvPr/>
            </p:nvSpPr>
            <p:spPr>
              <a:xfrm rot="6928800">
                <a:off x="6443640" y="446976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3" name="Freeform 19"/>
              <p:cNvSpPr/>
              <p:nvPr/>
            </p:nvSpPr>
            <p:spPr>
              <a:xfrm rot="7521600">
                <a:off x="6164280" y="4564440"/>
                <a:ext cx="161280" cy="36180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4" name="Freeform 20"/>
              <p:cNvSpPr/>
              <p:nvPr/>
            </p:nvSpPr>
            <p:spPr>
              <a:xfrm flipH="1">
                <a:off x="5058000" y="358236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5" name="Freeform 21"/>
              <p:cNvSpPr/>
              <p:nvPr/>
            </p:nvSpPr>
            <p:spPr>
              <a:xfrm flipH="1" rot="564000">
                <a:off x="5170320" y="2717280"/>
                <a:ext cx="161280" cy="3614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6" name="Freeform 22"/>
              <p:cNvSpPr/>
              <p:nvPr/>
            </p:nvSpPr>
            <p:spPr>
              <a:xfrm flipH="1" rot="20414400">
                <a:off x="4950000" y="290916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7" name="Freeform 23"/>
              <p:cNvSpPr/>
              <p:nvPr/>
            </p:nvSpPr>
            <p:spPr>
              <a:xfrm flipH="1" rot="1063800">
                <a:off x="5120640" y="3016440"/>
                <a:ext cx="161280" cy="36216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2160"/>
                  <a:gd name="textAreaBottom" fmla="*/ 362160 h 36216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8" name="Freeform 24"/>
              <p:cNvSpPr/>
              <p:nvPr/>
            </p:nvSpPr>
            <p:spPr>
              <a:xfrm flipH="1" rot="19695600">
                <a:off x="4846320" y="318636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9" name="Freeform 25"/>
              <p:cNvSpPr/>
              <p:nvPr/>
            </p:nvSpPr>
            <p:spPr>
              <a:xfrm flipH="1" rot="586800">
                <a:off x="5003280" y="334728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0" name="Freeform 26"/>
              <p:cNvSpPr/>
              <p:nvPr/>
            </p:nvSpPr>
            <p:spPr>
              <a:xfrm flipH="1" rot="18372000">
                <a:off x="4760640" y="3459960"/>
                <a:ext cx="161640" cy="361800"/>
              </a:xfrm>
              <a:custGeom>
                <a:avLst/>
                <a:gdLst>
                  <a:gd name="textAreaLeft" fmla="*/ -360 w 161640"/>
                  <a:gd name="textAreaRight" fmla="*/ 161640 w 16164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1" name="Freeform 27"/>
              <p:cNvSpPr/>
              <p:nvPr/>
            </p:nvSpPr>
            <p:spPr>
              <a:xfrm flipH="1" rot="17547000">
                <a:off x="4812840" y="373500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2" name="Freeform 28"/>
              <p:cNvSpPr/>
              <p:nvPr/>
            </p:nvSpPr>
            <p:spPr>
              <a:xfrm flipH="1" rot="21326400">
                <a:off x="5113080" y="3839400"/>
                <a:ext cx="161280" cy="3614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3" name="Freeform 29"/>
              <p:cNvSpPr/>
              <p:nvPr/>
            </p:nvSpPr>
            <p:spPr>
              <a:xfrm flipH="1" rot="16600800">
                <a:off x="4835880" y="393876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4" name="Freeform 30"/>
              <p:cNvSpPr/>
              <p:nvPr/>
            </p:nvSpPr>
            <p:spPr>
              <a:xfrm flipH="1" rot="20426400">
                <a:off x="5271480" y="402444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5" name="Freeform 31"/>
              <p:cNvSpPr/>
              <p:nvPr/>
            </p:nvSpPr>
            <p:spPr>
              <a:xfrm flipH="1" rot="15507000">
                <a:off x="4989240" y="4162680"/>
                <a:ext cx="161280" cy="3614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6" name="Freeform 32"/>
              <p:cNvSpPr/>
              <p:nvPr/>
            </p:nvSpPr>
            <p:spPr>
              <a:xfrm flipH="1" rot="17988000">
                <a:off x="5685480" y="428832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7" name="Freeform 33"/>
              <p:cNvSpPr/>
              <p:nvPr/>
            </p:nvSpPr>
            <p:spPr>
              <a:xfrm flipH="1" rot="15157800">
                <a:off x="5202720" y="434268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8" name="Freeform 34"/>
              <p:cNvSpPr/>
              <p:nvPr/>
            </p:nvSpPr>
            <p:spPr>
              <a:xfrm flipH="1" rot="19585800">
                <a:off x="5460480" y="4170600"/>
                <a:ext cx="161280" cy="3614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9" name="Freeform 35"/>
              <p:cNvSpPr/>
              <p:nvPr/>
            </p:nvSpPr>
            <p:spPr>
              <a:xfrm flipH="1" rot="14671200">
                <a:off x="5408640" y="446976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00" name="Freeform 36"/>
              <p:cNvSpPr/>
              <p:nvPr/>
            </p:nvSpPr>
            <p:spPr>
              <a:xfrm flipH="1" rot="14078400">
                <a:off x="5686560" y="4564440"/>
                <a:ext cx="161280" cy="36180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914400" y="4379760"/>
            <a:ext cx="2567160" cy="1095480"/>
            <a:chOff x="914400" y="4379760"/>
            <a:chExt cx="2567160" cy="1095480"/>
          </a:xfrm>
        </p:grpSpPr>
        <p:sp>
          <p:nvSpPr>
            <p:cNvPr id="602" name="Rounded Rectangle 27"/>
            <p:cNvSpPr/>
            <p:nvPr/>
          </p:nvSpPr>
          <p:spPr>
            <a:xfrm flipH="1" rot="16200000">
              <a:off x="1535760" y="377388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3" name="Round Same Side Corner Rectangle 141"/>
            <p:cNvSpPr/>
            <p:nvPr/>
          </p:nvSpPr>
          <p:spPr>
            <a:xfrm>
              <a:off x="914400" y="4379760"/>
              <a:ext cx="2322720" cy="314280"/>
            </a:xfrm>
            <a:custGeom>
              <a:avLst/>
              <a:gdLst>
                <a:gd name="textAreaLeft" fmla="*/ 0 w 2322720"/>
                <a:gd name="textAreaRight" fmla="*/ 2323080 w 2322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lnTo>
                    <a:pt x="2236634" y="0"/>
                  </a:lnTo>
                  <a:arcTo wR="87313" hR="87313" stAng="-5400000" swAng="5400000"/>
                  <a:lnTo>
                    <a:pt x="2323948" y="314325"/>
                  </a:lnTo>
                  <a:lnTo>
                    <a:pt x="2323948" y="314325"/>
                  </a:lnTo>
                  <a:arcTo wR="0" hR="0" stAng="0" swAng="0"/>
                  <a:lnTo>
                    <a:pt x="0" y="314325"/>
                  </a:lnTo>
                  <a:lnTo>
                    <a:pt x="0" y="314325"/>
                  </a:lnTo>
                  <a:arcTo wR="0" hR="0" stAng="0" swAng="0"/>
                  <a:lnTo>
                    <a:pt x="0" y="87313"/>
                  </a:lnTo>
                  <a:lnTo>
                    <a:pt x="0" y="87313"/>
                  </a:lnTo>
                  <a:arcTo wR="87313" hR="87313" stAng="10800000" swAng="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4" name="Rektangel 76"/>
            <p:cNvSpPr/>
            <p:nvPr/>
          </p:nvSpPr>
          <p:spPr>
            <a:xfrm>
              <a:off x="1047600" y="440820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082520" y="4863960"/>
              <a:ext cx="403200" cy="403200"/>
              <a:chOff x="1082520" y="4863960"/>
              <a:chExt cx="403200" cy="403200"/>
            </a:xfrm>
          </p:grpSpPr>
          <p:sp>
            <p:nvSpPr>
              <p:cNvPr id="606" name="Ellipse 53"/>
              <p:cNvSpPr/>
              <p:nvPr/>
            </p:nvSpPr>
            <p:spPr>
              <a:xfrm>
                <a:off x="1082520" y="486396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07" name="Tekstboks 54"/>
              <p:cNvSpPr/>
              <p:nvPr/>
            </p:nvSpPr>
            <p:spPr>
              <a:xfrm>
                <a:off x="1165320" y="487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608" name="Tekstboks 72"/>
            <p:cNvSpPr/>
            <p:nvPr/>
          </p:nvSpPr>
          <p:spPr>
            <a:xfrm>
              <a:off x="1560960" y="487656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14400" y="3017880"/>
            <a:ext cx="2567160" cy="1095480"/>
            <a:chOff x="914400" y="3017880"/>
            <a:chExt cx="2567160" cy="1095480"/>
          </a:xfrm>
        </p:grpSpPr>
        <p:sp>
          <p:nvSpPr>
            <p:cNvPr id="610" name="Rounded Rectangle 27"/>
            <p:cNvSpPr/>
            <p:nvPr/>
          </p:nvSpPr>
          <p:spPr>
            <a:xfrm flipH="1" rot="16200000">
              <a:off x="1535760" y="241200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1" name="Round Same Side Corner Rectangle 162"/>
            <p:cNvSpPr/>
            <p:nvPr/>
          </p:nvSpPr>
          <p:spPr>
            <a:xfrm>
              <a:off x="914400" y="3017880"/>
              <a:ext cx="2322720" cy="314280"/>
            </a:xfrm>
            <a:custGeom>
              <a:avLst/>
              <a:gdLst>
                <a:gd name="textAreaLeft" fmla="*/ 0 w 2322720"/>
                <a:gd name="textAreaRight" fmla="*/ 2323080 w 2322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lnTo>
                    <a:pt x="2236634" y="0"/>
                  </a:lnTo>
                  <a:arcTo wR="87313" hR="87313" stAng="-5400000" swAng="5400000"/>
                  <a:lnTo>
                    <a:pt x="2323948" y="314325"/>
                  </a:lnTo>
                  <a:lnTo>
                    <a:pt x="2323948" y="314325"/>
                  </a:lnTo>
                  <a:arcTo wR="0" hR="0" stAng="0" swAng="0"/>
                  <a:lnTo>
                    <a:pt x="0" y="314325"/>
                  </a:lnTo>
                  <a:lnTo>
                    <a:pt x="0" y="314325"/>
                  </a:lnTo>
                  <a:arcTo wR="0" hR="0" stAng="0" swAng="0"/>
                  <a:lnTo>
                    <a:pt x="0" y="87313"/>
                  </a:lnTo>
                  <a:lnTo>
                    <a:pt x="0" y="87313"/>
                  </a:lnTo>
                  <a:arcTo wR="87313" hR="87313" stAng="10800000" swAng="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2" name="Rektangel 76"/>
            <p:cNvSpPr/>
            <p:nvPr/>
          </p:nvSpPr>
          <p:spPr>
            <a:xfrm>
              <a:off x="1047600" y="304632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082520" y="3502080"/>
              <a:ext cx="403200" cy="403200"/>
              <a:chOff x="1082520" y="3502080"/>
              <a:chExt cx="403200" cy="403200"/>
            </a:xfrm>
          </p:grpSpPr>
          <p:sp>
            <p:nvSpPr>
              <p:cNvPr id="614" name="Ellipse 53"/>
              <p:cNvSpPr/>
              <p:nvPr/>
            </p:nvSpPr>
            <p:spPr>
              <a:xfrm>
                <a:off x="1082520" y="350208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5" name="Tekstboks 54"/>
              <p:cNvSpPr/>
              <p:nvPr/>
            </p:nvSpPr>
            <p:spPr>
              <a:xfrm>
                <a:off x="1165320" y="3508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616" name="Tekstboks 72"/>
            <p:cNvSpPr/>
            <p:nvPr/>
          </p:nvSpPr>
          <p:spPr>
            <a:xfrm>
              <a:off x="1560960" y="351468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914400" y="1709640"/>
            <a:ext cx="2567160" cy="1095480"/>
            <a:chOff x="914400" y="1709640"/>
            <a:chExt cx="2567160" cy="1095480"/>
          </a:xfrm>
        </p:grpSpPr>
        <p:sp>
          <p:nvSpPr>
            <p:cNvPr id="618" name="Rounded Rectangle 27"/>
            <p:cNvSpPr/>
            <p:nvPr/>
          </p:nvSpPr>
          <p:spPr>
            <a:xfrm flipH="1" rot="16200000">
              <a:off x="1535760" y="110376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9" name="Round Same Side Corner Rectangle 170"/>
            <p:cNvSpPr/>
            <p:nvPr/>
          </p:nvSpPr>
          <p:spPr>
            <a:xfrm>
              <a:off x="914400" y="1709640"/>
              <a:ext cx="2322720" cy="314280"/>
            </a:xfrm>
            <a:custGeom>
              <a:avLst/>
              <a:gdLst>
                <a:gd name="textAreaLeft" fmla="*/ 0 w 2322720"/>
                <a:gd name="textAreaRight" fmla="*/ 2323080 w 2322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lnTo>
                    <a:pt x="2236634" y="0"/>
                  </a:lnTo>
                  <a:arcTo wR="87313" hR="87313" stAng="-5400000" swAng="5400000"/>
                  <a:lnTo>
                    <a:pt x="2323948" y="314325"/>
                  </a:lnTo>
                  <a:lnTo>
                    <a:pt x="2323948" y="314325"/>
                  </a:lnTo>
                  <a:arcTo wR="0" hR="0" stAng="0" swAng="0"/>
                  <a:lnTo>
                    <a:pt x="0" y="314325"/>
                  </a:lnTo>
                  <a:lnTo>
                    <a:pt x="0" y="314325"/>
                  </a:lnTo>
                  <a:arcTo wR="0" hR="0" stAng="0" swAng="0"/>
                  <a:lnTo>
                    <a:pt x="0" y="87313"/>
                  </a:lnTo>
                  <a:lnTo>
                    <a:pt x="0" y="87313"/>
                  </a:lnTo>
                  <a:arcTo wR="87313" hR="87313" stAng="10800000" swAng="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0" name="Rektangel 76"/>
            <p:cNvSpPr/>
            <p:nvPr/>
          </p:nvSpPr>
          <p:spPr>
            <a:xfrm>
              <a:off x="1047600" y="173808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82520" y="2193840"/>
              <a:ext cx="403200" cy="403200"/>
              <a:chOff x="1082520" y="2193840"/>
              <a:chExt cx="403200" cy="403200"/>
            </a:xfrm>
          </p:grpSpPr>
          <p:sp>
            <p:nvSpPr>
              <p:cNvPr id="622" name="Ellipse 53"/>
              <p:cNvSpPr/>
              <p:nvPr/>
            </p:nvSpPr>
            <p:spPr>
              <a:xfrm>
                <a:off x="1082520" y="219384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3" name="Tekstboks 54"/>
              <p:cNvSpPr/>
              <p:nvPr/>
            </p:nvSpPr>
            <p:spPr>
              <a:xfrm>
                <a:off x="1165320" y="219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624" name="Tekstboks 72"/>
            <p:cNvSpPr/>
            <p:nvPr/>
          </p:nvSpPr>
          <p:spPr>
            <a:xfrm>
              <a:off x="1560960" y="220644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882-989A-4E1E-870C-FA5DE4626B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886040" y="1320840"/>
            <a:ext cx="3022560" cy="3022560"/>
            <a:chOff x="1886040" y="1320840"/>
            <a:chExt cx="3022560" cy="3022560"/>
          </a:xfrm>
        </p:grpSpPr>
        <p:sp>
          <p:nvSpPr>
            <p:cNvPr id="627" name="Oval 5"/>
            <p:cNvSpPr/>
            <p:nvPr/>
          </p:nvSpPr>
          <p:spPr>
            <a:xfrm>
              <a:off x="1886040" y="1320840"/>
              <a:ext cx="3022560" cy="302256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8" name="Oval 6"/>
            <p:cNvSpPr/>
            <p:nvPr/>
          </p:nvSpPr>
          <p:spPr>
            <a:xfrm>
              <a:off x="2332800" y="1767600"/>
              <a:ext cx="2129040" cy="212904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9" name="Oval 7"/>
            <p:cNvSpPr/>
            <p:nvPr/>
          </p:nvSpPr>
          <p:spPr>
            <a:xfrm>
              <a:off x="2841480" y="2276280"/>
              <a:ext cx="1111320" cy="111132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0" name="Oval 8"/>
            <p:cNvSpPr/>
            <p:nvPr/>
          </p:nvSpPr>
          <p:spPr>
            <a:xfrm>
              <a:off x="3300840" y="2718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096560" y="1987200"/>
            <a:ext cx="2319480" cy="1340640"/>
            <a:chOff x="1096560" y="1987200"/>
            <a:chExt cx="2319480" cy="1340640"/>
          </a:xfrm>
        </p:grpSpPr>
        <p:sp>
          <p:nvSpPr>
            <p:cNvPr id="632" name="Freeform 18"/>
            <p:cNvSpPr/>
            <p:nvPr/>
          </p:nvSpPr>
          <p:spPr>
            <a:xfrm flipH="1" rot="20722800">
              <a:off x="1172160" y="2046240"/>
              <a:ext cx="555120" cy="674640"/>
            </a:xfrm>
            <a:custGeom>
              <a:avLst/>
              <a:gdLst>
                <a:gd name="textAreaLeft" fmla="*/ 360 w 555120"/>
                <a:gd name="textAreaRight" fmla="*/ 555840 w 555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3" name="Freeform 19"/>
            <p:cNvSpPr/>
            <p:nvPr/>
          </p:nvSpPr>
          <p:spPr>
            <a:xfrm flipH="1" rot="20722800">
              <a:off x="1149120" y="2567160"/>
              <a:ext cx="673560" cy="486720"/>
            </a:xfrm>
            <a:custGeom>
              <a:avLst/>
              <a:gdLst>
                <a:gd name="textAreaLeft" fmla="*/ -360 w 673560"/>
                <a:gd name="textAreaRight" fmla="*/ 673560 w 673560"/>
                <a:gd name="textAreaTop" fmla="*/ 0 h 486720"/>
                <a:gd name="textAreaBottom" fmla="*/ 486720 h 486720"/>
              </a:gdLst>
              <a:ahLst/>
              <a:rect l="textAreaLeft" t="textAreaTop" r="textAreaRight" b="textAreaBottom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4" name="Freeform 20"/>
            <p:cNvSpPr/>
            <p:nvPr/>
          </p:nvSpPr>
          <p:spPr>
            <a:xfrm flipH="1" rot="20722800">
              <a:off x="1302120" y="2233440"/>
              <a:ext cx="2039040" cy="850320"/>
            </a:xfrm>
            <a:custGeom>
              <a:avLst/>
              <a:gdLst>
                <a:gd name="textAreaLeft" fmla="*/ 360 w 2039040"/>
                <a:gd name="textAreaRight" fmla="*/ 2039760 w 203904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194840" y="4820760"/>
            <a:ext cx="1684440" cy="627840"/>
            <a:chOff x="1194840" y="4820760"/>
            <a:chExt cx="1684440" cy="627840"/>
          </a:xfrm>
        </p:grpSpPr>
        <p:sp>
          <p:nvSpPr>
            <p:cNvPr id="636" name="Freeform 18"/>
            <p:cNvSpPr/>
            <p:nvPr/>
          </p:nvSpPr>
          <p:spPr>
            <a:xfrm flipH="1" rot="21049800">
              <a:off x="1276560" y="4853160"/>
              <a:ext cx="416520" cy="3085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 flipH="1" rot="21049800">
              <a:off x="1209240" y="5095440"/>
              <a:ext cx="505080" cy="222480"/>
            </a:xfrm>
            <a:custGeom>
              <a:avLst/>
              <a:gdLst>
                <a:gd name="textAreaLeft" fmla="*/ -360 w 505080"/>
                <a:gd name="textAreaRight" fmla="*/ 505080 w 5050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flipH="1" rot="21049800">
              <a:off x="1328400" y="4939920"/>
              <a:ext cx="1528920" cy="389160"/>
            </a:xfrm>
            <a:custGeom>
              <a:avLst/>
              <a:gdLst>
                <a:gd name="textAreaLeft" fmla="*/ -360 w 1528920"/>
                <a:gd name="textAreaRight" fmla="*/ 1528920 w 152892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166400" y="4910040"/>
            <a:ext cx="1992600" cy="742680"/>
            <a:chOff x="1166400" y="4910040"/>
            <a:chExt cx="1992600" cy="742680"/>
          </a:xfrm>
        </p:grpSpPr>
        <p:sp>
          <p:nvSpPr>
            <p:cNvPr id="640" name="Freeform 18"/>
            <p:cNvSpPr/>
            <p:nvPr/>
          </p:nvSpPr>
          <p:spPr>
            <a:xfrm flipH="1" rot="21049800">
              <a:off x="1263600" y="4947840"/>
              <a:ext cx="492480" cy="365400"/>
            </a:xfrm>
            <a:custGeom>
              <a:avLst/>
              <a:gdLst>
                <a:gd name="textAreaLeft" fmla="*/ 360 w 492480"/>
                <a:gd name="textAreaRight" fmla="*/ 493200 w 49248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1" name="Freeform 19"/>
            <p:cNvSpPr/>
            <p:nvPr/>
          </p:nvSpPr>
          <p:spPr>
            <a:xfrm flipH="1" rot="21049800">
              <a:off x="1183320" y="5234760"/>
              <a:ext cx="597240" cy="26352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2" name="Freeform 20"/>
            <p:cNvSpPr/>
            <p:nvPr/>
          </p:nvSpPr>
          <p:spPr>
            <a:xfrm flipH="1" rot="21049800">
              <a:off x="1324800" y="5051160"/>
              <a:ext cx="1808280" cy="460440"/>
            </a:xfrm>
            <a:custGeom>
              <a:avLst/>
              <a:gdLst>
                <a:gd name="textAreaLeft" fmla="*/ -360 w 1808280"/>
                <a:gd name="textAreaRight" fmla="*/ 1808280 w 18082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196280" y="4994280"/>
            <a:ext cx="1983600" cy="964800"/>
            <a:chOff x="1196280" y="4994280"/>
            <a:chExt cx="1983600" cy="964800"/>
          </a:xfrm>
        </p:grpSpPr>
        <p:sp>
          <p:nvSpPr>
            <p:cNvPr id="644" name="Freeform 18"/>
            <p:cNvSpPr/>
            <p:nvPr/>
          </p:nvSpPr>
          <p:spPr>
            <a:xfrm flipH="1" rot="20588400">
              <a:off x="1269360" y="5240880"/>
              <a:ext cx="492120" cy="365400"/>
            </a:xfrm>
            <a:custGeom>
              <a:avLst/>
              <a:gdLst>
                <a:gd name="textAreaLeft" fmla="*/ -360 w 492120"/>
                <a:gd name="textAreaRight" fmla="*/ 492120 w 492120"/>
                <a:gd name="textAreaTop" fmla="*/ 0 h 365400"/>
                <a:gd name="textAreaBottom" fmla="*/ 365760 h 365400"/>
              </a:gdLst>
              <a:ahLst/>
              <a:rect l="textAreaLeft" t="textAreaTop" r="textAreaRight" b="textAreaBottom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5" name="Freeform 19"/>
            <p:cNvSpPr/>
            <p:nvPr/>
          </p:nvSpPr>
          <p:spPr>
            <a:xfrm flipH="1" rot="20588400">
              <a:off x="1221120" y="5528880"/>
              <a:ext cx="596880" cy="263520"/>
            </a:xfrm>
            <a:custGeom>
              <a:avLst/>
              <a:gdLst>
                <a:gd name="textAreaLeft" fmla="*/ 360 w 596880"/>
                <a:gd name="textAreaRight" fmla="*/ 597600 w 5968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6" name="Freeform 20"/>
            <p:cNvSpPr/>
            <p:nvPr/>
          </p:nvSpPr>
          <p:spPr>
            <a:xfrm flipH="1" rot="20588400">
              <a:off x="1344960" y="5246280"/>
              <a:ext cx="1806840" cy="460440"/>
            </a:xfrm>
            <a:custGeom>
              <a:avLst/>
              <a:gdLst>
                <a:gd name="textAreaLeft" fmla="*/ -360 w 1806840"/>
                <a:gd name="textAreaRight" fmla="*/ 1806840 w 18068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715000" y="1773360"/>
            <a:ext cx="2819520" cy="2292120"/>
            <a:chOff x="5715000" y="1773360"/>
            <a:chExt cx="2819520" cy="2292120"/>
          </a:xfrm>
        </p:grpSpPr>
        <p:sp>
          <p:nvSpPr>
            <p:cNvPr id="648" name="Rektangel med enkelt afrundet hjørne 11"/>
            <p:cNvSpPr/>
            <p:nvPr/>
          </p:nvSpPr>
          <p:spPr>
            <a:xfrm flipH="1" rot="10800000">
              <a:off x="5715000" y="1893960"/>
              <a:ext cx="2818080" cy="2171520"/>
            </a:xfrm>
            <a:custGeom>
              <a:avLst/>
              <a:gdLst>
                <a:gd name="textAreaLeft" fmla="*/ 0 w 2818080"/>
                <a:gd name="textAreaRight" fmla="*/ 2818080 w 2818080"/>
                <a:gd name="textAreaTop" fmla="*/ 0 h 2171520"/>
                <a:gd name="textAreaBottom" fmla="*/ 2171880 h 2171520"/>
              </a:gdLst>
              <a:ahLst/>
              <a:rect l="textAreaLeft" t="textAreaTop" r="textAreaRight" b="textAreaBottom"/>
              <a:pathLst>
                <a:path w="3902152" h="1705104">
                  <a:moveTo>
                    <a:pt x="0" y="0"/>
                  </a:moveTo>
                  <a:lnTo>
                    <a:pt x="3617962" y="0"/>
                  </a:lnTo>
                  <a:lnTo>
                    <a:pt x="3617961" y="0"/>
                  </a:lnTo>
                  <a:cubicBezTo>
                    <a:pt x="3774915" y="0"/>
                    <a:pt x="3902152" y="127236"/>
                    <a:pt x="3902152" y="284190"/>
                  </a:cubicBezTo>
                  <a:lnTo>
                    <a:pt x="3902152" y="1705104"/>
                  </a:lnTo>
                  <a:lnTo>
                    <a:pt x="0" y="1705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9" name="Rektangel 12"/>
            <p:cNvSpPr/>
            <p:nvPr/>
          </p:nvSpPr>
          <p:spPr>
            <a:xfrm>
              <a:off x="5715000" y="1773360"/>
              <a:ext cx="281952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50" name="Text Box 52"/>
          <p:cNvSpPr/>
          <p:nvPr/>
        </p:nvSpPr>
        <p:spPr>
          <a:xfrm>
            <a:off x="5867280" y="2133720"/>
            <a:ext cx="2590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0F7-17C3-4FF6-B221-A4EE61006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654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818240"/>
            <a:ext cx="4109760" cy="11379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2776680" y="1838160"/>
            <a:ext cx="3471840" cy="3467160"/>
            <a:chOff x="2776680" y="1838160"/>
            <a:chExt cx="3471840" cy="3467160"/>
          </a:xfrm>
        </p:grpSpPr>
        <p:sp>
          <p:nvSpPr>
            <p:cNvPr id="656" name="Oval 6"/>
            <p:cNvSpPr/>
            <p:nvPr/>
          </p:nvSpPr>
          <p:spPr>
            <a:xfrm>
              <a:off x="2776680" y="1838160"/>
              <a:ext cx="3471840" cy="3467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7" name="Oval 8"/>
            <p:cNvSpPr/>
            <p:nvPr/>
          </p:nvSpPr>
          <p:spPr>
            <a:xfrm>
              <a:off x="2787840" y="1847520"/>
              <a:ext cx="3449520" cy="3448080"/>
            </a:xfrm>
            <a:prstGeom prst="ellipse">
              <a:avLst/>
            </a:prstGeom>
            <a:solidFill>
              <a:srgbClr val="9f9f9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8" name="Oval 9"/>
            <p:cNvSpPr/>
            <p:nvPr/>
          </p:nvSpPr>
          <p:spPr>
            <a:xfrm>
              <a:off x="3143520" y="2203200"/>
              <a:ext cx="2739960" cy="2738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9" name="Oval 10"/>
            <p:cNvSpPr/>
            <p:nvPr/>
          </p:nvSpPr>
          <p:spPr>
            <a:xfrm>
              <a:off x="3486240" y="2544480"/>
              <a:ext cx="2052720" cy="20545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0" name="Oval 11"/>
            <p:cNvSpPr/>
            <p:nvPr/>
          </p:nvSpPr>
          <p:spPr>
            <a:xfrm>
              <a:off x="3810240" y="2869920"/>
              <a:ext cx="1407960" cy="1403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1" name="Oval 12"/>
            <p:cNvSpPr/>
            <p:nvPr/>
          </p:nvSpPr>
          <p:spPr>
            <a:xfrm flipV="1">
              <a:off x="4091040" y="3148560"/>
              <a:ext cx="846360" cy="846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e2e2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2" name="Text Box 67"/>
            <p:cNvSpPr/>
            <p:nvPr/>
          </p:nvSpPr>
          <p:spPr>
            <a:xfrm>
              <a:off x="4395960" y="19015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3" name="Text Box 67"/>
            <p:cNvSpPr/>
            <p:nvPr/>
          </p:nvSpPr>
          <p:spPr>
            <a:xfrm>
              <a:off x="4395960" y="223020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4" name="Text Box 67"/>
            <p:cNvSpPr/>
            <p:nvPr/>
          </p:nvSpPr>
          <p:spPr>
            <a:xfrm>
              <a:off x="4395960" y="25891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5" name="Text Box 67"/>
            <p:cNvSpPr/>
            <p:nvPr/>
          </p:nvSpPr>
          <p:spPr>
            <a:xfrm>
              <a:off x="4395960" y="2896920"/>
              <a:ext cx="264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753000" y="2957400"/>
            <a:ext cx="609480" cy="609480"/>
            <a:chOff x="3753000" y="2957400"/>
            <a:chExt cx="609480" cy="609480"/>
          </a:xfrm>
        </p:grpSpPr>
        <p:sp>
          <p:nvSpPr>
            <p:cNvPr id="667" name="Oval 113"/>
            <p:cNvSpPr/>
            <p:nvPr/>
          </p:nvSpPr>
          <p:spPr>
            <a:xfrm>
              <a:off x="3848400" y="30528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8" name="Oval 115"/>
            <p:cNvSpPr/>
            <p:nvPr/>
          </p:nvSpPr>
          <p:spPr>
            <a:xfrm>
              <a:off x="3969000" y="317340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9" name="Oval 116"/>
            <p:cNvSpPr/>
            <p:nvPr/>
          </p:nvSpPr>
          <p:spPr>
            <a:xfrm>
              <a:off x="3753000" y="29574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879800" y="2747880"/>
            <a:ext cx="609480" cy="609480"/>
            <a:chOff x="4879800" y="2747880"/>
            <a:chExt cx="609480" cy="609480"/>
          </a:xfrm>
        </p:grpSpPr>
        <p:sp>
          <p:nvSpPr>
            <p:cNvPr id="671" name="Oval 136"/>
            <p:cNvSpPr/>
            <p:nvPr/>
          </p:nvSpPr>
          <p:spPr>
            <a:xfrm>
              <a:off x="4975200" y="284328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2" name="Oval 137"/>
            <p:cNvSpPr/>
            <p:nvPr/>
          </p:nvSpPr>
          <p:spPr>
            <a:xfrm>
              <a:off x="5095800" y="29638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3" name="Oval 138"/>
            <p:cNvSpPr/>
            <p:nvPr/>
          </p:nvSpPr>
          <p:spPr>
            <a:xfrm>
              <a:off x="4879800" y="27478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260960" y="3441600"/>
            <a:ext cx="609480" cy="609480"/>
            <a:chOff x="4260960" y="3441600"/>
            <a:chExt cx="609480" cy="609480"/>
          </a:xfrm>
        </p:grpSpPr>
        <p:sp>
          <p:nvSpPr>
            <p:cNvPr id="675" name="Oval 140"/>
            <p:cNvSpPr/>
            <p:nvPr/>
          </p:nvSpPr>
          <p:spPr>
            <a:xfrm>
              <a:off x="4356360" y="35370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6" name="Oval 141"/>
            <p:cNvSpPr/>
            <p:nvPr/>
          </p:nvSpPr>
          <p:spPr>
            <a:xfrm>
              <a:off x="4476960" y="365760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7" name="Oval 142"/>
            <p:cNvSpPr/>
            <p:nvPr/>
          </p:nvSpPr>
          <p:spPr>
            <a:xfrm>
              <a:off x="4260960" y="34416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78" name="Rectangle 7"/>
          <p:cNvSpPr/>
          <p:nvPr/>
        </p:nvSpPr>
        <p:spPr>
          <a:xfrm>
            <a:off x="324000" y="1797120"/>
            <a:ext cx="2301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Fast and effective creation of your presentation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7280280" y="1515960"/>
            <a:ext cx="1558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Appealing visualization of your contents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6299280" y="4664160"/>
            <a:ext cx="134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Improved performing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106720" y="2133360"/>
            <a:ext cx="1953720" cy="1729080"/>
            <a:chOff x="2106720" y="2133360"/>
            <a:chExt cx="1953720" cy="1729080"/>
          </a:xfrm>
        </p:grpSpPr>
        <p:grpSp>
          <p:nvGrpSpPr>
            <p:cNvPr id="682" name=""/>
            <p:cNvGrpSpPr/>
            <p:nvPr/>
          </p:nvGrpSpPr>
          <p:grpSpPr>
            <a:xfrm>
              <a:off x="2106720" y="2133360"/>
              <a:ext cx="1864440" cy="1729080"/>
              <a:chOff x="2106720" y="2133360"/>
              <a:chExt cx="1864440" cy="1729080"/>
            </a:xfrm>
          </p:grpSpPr>
          <p:sp>
            <p:nvSpPr>
              <p:cNvPr id="683" name="Freeform 205"/>
              <p:cNvSpPr/>
              <p:nvPr/>
            </p:nvSpPr>
            <p:spPr>
              <a:xfrm rot="19522800">
                <a:off x="3013920" y="2694240"/>
                <a:ext cx="779040" cy="869400"/>
              </a:xfrm>
              <a:custGeom>
                <a:avLst/>
                <a:gdLst>
                  <a:gd name="textAreaLeft" fmla="*/ 0 w 779040"/>
                  <a:gd name="textAreaRight" fmla="*/ 779400 w 7790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4" name="Freeform 206"/>
              <p:cNvSpPr/>
              <p:nvPr/>
            </p:nvSpPr>
            <p:spPr>
              <a:xfrm rot="19522800">
                <a:off x="2218680" y="2894400"/>
                <a:ext cx="1069200" cy="728280"/>
              </a:xfrm>
              <a:custGeom>
                <a:avLst/>
                <a:gdLst>
                  <a:gd name="textAreaLeft" fmla="*/ 0 w 1069200"/>
                  <a:gd name="textAreaRight" fmla="*/ 1069560 w 1069200"/>
                  <a:gd name="textAreaTop" fmla="*/ 0 h 728280"/>
                  <a:gd name="textAreaBottom" fmla="*/ 728640 h 72828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5" name="Freeform 207"/>
              <p:cNvSpPr/>
              <p:nvPr/>
            </p:nvSpPr>
            <p:spPr>
              <a:xfrm rot="19522800">
                <a:off x="2413800" y="2266200"/>
                <a:ext cx="816840" cy="1114920"/>
              </a:xfrm>
              <a:custGeom>
                <a:avLst/>
                <a:gdLst>
                  <a:gd name="textAreaLeft" fmla="*/ 0 w 816840"/>
                  <a:gd name="textAreaRight" fmla="*/ 817200 w 816840"/>
                  <a:gd name="textAreaTop" fmla="*/ 0 h 1114920"/>
                  <a:gd name="textAreaBottom" fmla="*/ 1115280 h 111492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6" name="Freeform 208"/>
              <p:cNvSpPr/>
              <p:nvPr/>
            </p:nvSpPr>
            <p:spPr>
              <a:xfrm rot="19522800">
                <a:off x="2652480" y="2757960"/>
                <a:ext cx="640440" cy="88596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7" name="Freeform 209"/>
              <p:cNvSpPr/>
              <p:nvPr/>
            </p:nvSpPr>
            <p:spPr>
              <a:xfrm rot="19522800">
                <a:off x="2528640" y="2636280"/>
                <a:ext cx="926280" cy="673560"/>
              </a:xfrm>
              <a:custGeom>
                <a:avLst/>
                <a:gdLst>
                  <a:gd name="textAreaLeft" fmla="*/ 0 w 926280"/>
                  <a:gd name="textAreaRight" fmla="*/ 926640 w 926280"/>
                  <a:gd name="textAreaTop" fmla="*/ 0 h 673560"/>
                  <a:gd name="textAreaBottom" fmla="*/ 673920 h 67356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672000" y="3090240"/>
              <a:ext cx="388440" cy="304200"/>
              <a:chOff x="3672000" y="3090240"/>
              <a:chExt cx="388440" cy="304200"/>
            </a:xfrm>
          </p:grpSpPr>
          <p:sp>
            <p:nvSpPr>
              <p:cNvPr id="689" name="Freeform 211"/>
              <p:cNvSpPr/>
              <p:nvPr/>
            </p:nvSpPr>
            <p:spPr>
              <a:xfrm rot="19522800">
                <a:off x="3905280" y="3192480"/>
                <a:ext cx="129960" cy="127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0" name="Freeform 212"/>
              <p:cNvSpPr/>
              <p:nvPr/>
            </p:nvSpPr>
            <p:spPr>
              <a:xfrm rot="19522800">
                <a:off x="3712680" y="3134880"/>
                <a:ext cx="224640" cy="21420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688200" y="3145680"/>
              <a:ext cx="268560" cy="167040"/>
              <a:chOff x="3688200" y="3145680"/>
              <a:chExt cx="268560" cy="167040"/>
            </a:xfrm>
          </p:grpSpPr>
          <p:sp>
            <p:nvSpPr>
              <p:cNvPr id="692" name="Freeform 214"/>
              <p:cNvSpPr/>
              <p:nvPr/>
            </p:nvSpPr>
            <p:spPr>
              <a:xfrm rot="19522800">
                <a:off x="3732480" y="3180960"/>
                <a:ext cx="127800" cy="10440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3" name="Freeform 215"/>
              <p:cNvSpPr/>
              <p:nvPr/>
            </p:nvSpPr>
            <p:spPr>
              <a:xfrm rot="19522800">
                <a:off x="3707280" y="3173760"/>
                <a:ext cx="133560" cy="1098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4" name="Freeform 216"/>
              <p:cNvSpPr/>
              <p:nvPr/>
            </p:nvSpPr>
            <p:spPr>
              <a:xfrm rot="19522800">
                <a:off x="3755160" y="3187080"/>
                <a:ext cx="123480" cy="990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5" name="Freeform 217"/>
              <p:cNvSpPr/>
              <p:nvPr/>
            </p:nvSpPr>
            <p:spPr>
              <a:xfrm rot="19522800">
                <a:off x="3821760" y="3205440"/>
                <a:ext cx="104400" cy="83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6" name="Freeform 218"/>
              <p:cNvSpPr/>
              <p:nvPr/>
            </p:nvSpPr>
            <p:spPr>
              <a:xfrm rot="19522800">
                <a:off x="3803040" y="3200040"/>
                <a:ext cx="108000" cy="892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7" name="Freeform 219"/>
              <p:cNvSpPr/>
              <p:nvPr/>
            </p:nvSpPr>
            <p:spPr>
              <a:xfrm rot="19522800">
                <a:off x="3841920" y="3209400"/>
                <a:ext cx="100080" cy="817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1720"/>
                  <a:gd name="textAreaBottom" fmla="*/ 81720 h 8172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178240" y="1873440"/>
            <a:ext cx="1999440" cy="1701360"/>
            <a:chOff x="5178240" y="1873440"/>
            <a:chExt cx="1999440" cy="1701360"/>
          </a:xfrm>
        </p:grpSpPr>
        <p:grpSp>
          <p:nvGrpSpPr>
            <p:cNvPr id="699" name=""/>
            <p:cNvGrpSpPr/>
            <p:nvPr/>
          </p:nvGrpSpPr>
          <p:grpSpPr>
            <a:xfrm>
              <a:off x="5262840" y="1873440"/>
              <a:ext cx="1914840" cy="1701360"/>
              <a:chOff x="5262840" y="1873440"/>
              <a:chExt cx="1914840" cy="1701360"/>
            </a:xfrm>
          </p:grpSpPr>
          <p:sp>
            <p:nvSpPr>
              <p:cNvPr id="700" name="Freeform 239"/>
              <p:cNvSpPr/>
              <p:nvPr/>
            </p:nvSpPr>
            <p:spPr>
              <a:xfrm rot="7222800">
                <a:off x="5445720" y="2473920"/>
                <a:ext cx="778320" cy="870120"/>
              </a:xfrm>
              <a:custGeom>
                <a:avLst/>
                <a:gdLst>
                  <a:gd name="textAreaLeft" fmla="*/ 0 w 778320"/>
                  <a:gd name="textAreaRight" fmla="*/ 778680 w 778320"/>
                  <a:gd name="textAreaTop" fmla="*/ 0 h 870120"/>
                  <a:gd name="textAreaBottom" fmla="*/ 870480 h 87012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1" name="Freeform 240"/>
              <p:cNvSpPr/>
              <p:nvPr/>
            </p:nvSpPr>
            <p:spPr>
              <a:xfrm rot="7222800">
                <a:off x="5837040" y="2154240"/>
                <a:ext cx="1068480" cy="72864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2" name="Freeform 241"/>
              <p:cNvSpPr/>
              <p:nvPr/>
            </p:nvSpPr>
            <p:spPr>
              <a:xfrm rot="7222800">
                <a:off x="6082200" y="2383560"/>
                <a:ext cx="816480" cy="1114200"/>
              </a:xfrm>
              <a:custGeom>
                <a:avLst/>
                <a:gdLst>
                  <a:gd name="textAreaLeft" fmla="*/ 0 w 816480"/>
                  <a:gd name="textAreaRight" fmla="*/ 816840 w 816480"/>
                  <a:gd name="textAreaTop" fmla="*/ 0 h 1114200"/>
                  <a:gd name="textAreaBottom" fmla="*/ 1114560 h 111420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3" name="Freeform 242"/>
              <p:cNvSpPr/>
              <p:nvPr/>
            </p:nvSpPr>
            <p:spPr>
              <a:xfrm rot="7222800">
                <a:off x="5875200" y="2216160"/>
                <a:ext cx="638640" cy="887400"/>
              </a:xfrm>
              <a:custGeom>
                <a:avLst/>
                <a:gdLst>
                  <a:gd name="textAreaLeft" fmla="*/ 0 w 638640"/>
                  <a:gd name="textAreaRight" fmla="*/ 639000 w 63864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4" name="Freeform 243"/>
              <p:cNvSpPr/>
              <p:nvPr/>
            </p:nvSpPr>
            <p:spPr>
              <a:xfrm rot="7222800">
                <a:off x="5812200" y="2536920"/>
                <a:ext cx="924120" cy="67464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178240" y="2832840"/>
              <a:ext cx="374760" cy="303120"/>
              <a:chOff x="5178240" y="2832840"/>
              <a:chExt cx="374760" cy="303120"/>
            </a:xfrm>
          </p:grpSpPr>
          <p:sp>
            <p:nvSpPr>
              <p:cNvPr id="706" name="Freeform 245"/>
              <p:cNvSpPr/>
              <p:nvPr/>
            </p:nvSpPr>
            <p:spPr>
              <a:xfrm rot="7222800">
                <a:off x="5201640" y="2968920"/>
                <a:ext cx="130320" cy="12888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7" name="Freeform 246"/>
              <p:cNvSpPr/>
              <p:nvPr/>
            </p:nvSpPr>
            <p:spPr>
              <a:xfrm rot="7222800">
                <a:off x="5290560" y="2876760"/>
                <a:ext cx="225360" cy="21492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280480" y="2889360"/>
              <a:ext cx="256680" cy="178200"/>
              <a:chOff x="5280480" y="2889360"/>
              <a:chExt cx="256680" cy="178200"/>
            </a:xfrm>
          </p:grpSpPr>
          <p:sp>
            <p:nvSpPr>
              <p:cNvPr id="709" name="Freeform 248"/>
              <p:cNvSpPr/>
              <p:nvPr/>
            </p:nvSpPr>
            <p:spPr>
              <a:xfrm rot="7222800">
                <a:off x="5373000" y="2928960"/>
                <a:ext cx="125640" cy="1047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0" name="Freeform 249"/>
              <p:cNvSpPr/>
              <p:nvPr/>
            </p:nvSpPr>
            <p:spPr>
              <a:xfrm rot="7222800">
                <a:off x="5390280" y="2919240"/>
                <a:ext cx="132120" cy="10944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1" name="Freeform 250"/>
              <p:cNvSpPr/>
              <p:nvPr/>
            </p:nvSpPr>
            <p:spPr>
              <a:xfrm rot="7222800">
                <a:off x="5352120" y="2936160"/>
                <a:ext cx="120600" cy="982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2" name="Freeform 251"/>
              <p:cNvSpPr/>
              <p:nvPr/>
            </p:nvSpPr>
            <p:spPr>
              <a:xfrm rot="7222800">
                <a:off x="5308200" y="2960280"/>
                <a:ext cx="103680" cy="824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3" name="Freeform 252"/>
              <p:cNvSpPr/>
              <p:nvPr/>
            </p:nvSpPr>
            <p:spPr>
              <a:xfrm rot="7222800">
                <a:off x="5322240" y="2951640"/>
                <a:ext cx="106920" cy="889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88920"/>
                  <a:gd name="textAreaBottom" fmla="*/ 88920 h 8892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4" name="Freeform 253"/>
              <p:cNvSpPr/>
              <p:nvPr/>
            </p:nvSpPr>
            <p:spPr>
              <a:xfrm rot="7222800">
                <a:off x="5291640" y="2962800"/>
                <a:ext cx="99000" cy="824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4561560" y="3744000"/>
            <a:ext cx="1553040" cy="1597320"/>
            <a:chOff x="4561560" y="3744000"/>
            <a:chExt cx="1553040" cy="1597320"/>
          </a:xfrm>
        </p:grpSpPr>
        <p:grpSp>
          <p:nvGrpSpPr>
            <p:cNvPr id="716" name=""/>
            <p:cNvGrpSpPr/>
            <p:nvPr/>
          </p:nvGrpSpPr>
          <p:grpSpPr>
            <a:xfrm>
              <a:off x="4620240" y="3796560"/>
              <a:ext cx="1494360" cy="1544760"/>
              <a:chOff x="4620240" y="3796560"/>
              <a:chExt cx="1494360" cy="1544760"/>
            </a:xfrm>
          </p:grpSpPr>
          <p:sp>
            <p:nvSpPr>
              <p:cNvPr id="717" name="Freeform 277"/>
              <p:cNvSpPr/>
              <p:nvPr/>
            </p:nvSpPr>
            <p:spPr>
              <a:xfrm rot="10843800">
                <a:off x="4625640" y="3801240"/>
                <a:ext cx="755640" cy="84420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844200"/>
                  <a:gd name="textAreaBottom" fmla="*/ 844560 h 844200"/>
                </a:gdLst>
                <a:ahLst/>
                <a:rect l="textAreaLeft" t="textAreaTop" r="textAreaRight" b="textAreaBottom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8" name="Freeform 278"/>
              <p:cNvSpPr/>
              <p:nvPr/>
            </p:nvSpPr>
            <p:spPr>
              <a:xfrm rot="10843800">
                <a:off x="5071680" y="4132800"/>
                <a:ext cx="1038240" cy="707400"/>
              </a:xfrm>
              <a:custGeom>
                <a:avLst/>
                <a:gdLst>
                  <a:gd name="textAreaLeft" fmla="*/ 0 w 1038240"/>
                  <a:gd name="textAreaRight" fmla="*/ 1038600 w 1038240"/>
                  <a:gd name="textAreaTop" fmla="*/ 0 h 707400"/>
                  <a:gd name="textAreaBottom" fmla="*/ 707400 h 707400"/>
                </a:gdLst>
                <a:ahLst/>
                <a:rect l="textAreaLeft" t="textAreaTop" r="textAreaRight" b="textAreaBottom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9" name="Freeform 279"/>
              <p:cNvSpPr/>
              <p:nvPr/>
            </p:nvSpPr>
            <p:spPr>
              <a:xfrm rot="10843800">
                <a:off x="4896000" y="4254120"/>
                <a:ext cx="792000" cy="108216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1082160"/>
                  <a:gd name="textAreaBottom" fmla="*/ 1082520 h 1082160"/>
                </a:gdLst>
                <a:ahLst/>
                <a:rect l="textAreaLeft" t="textAreaTop" r="textAreaRight" b="textAreaBottom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0" name="Freeform 280"/>
              <p:cNvSpPr/>
              <p:nvPr/>
            </p:nvSpPr>
            <p:spPr>
              <a:xfrm rot="10843800">
                <a:off x="5075280" y="3979080"/>
                <a:ext cx="620640" cy="8600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860040"/>
                  <a:gd name="textAreaBottom" fmla="*/ 860400 h 860040"/>
                </a:gdLst>
                <a:ahLst/>
                <a:rect l="textAreaLeft" t="textAreaTop" r="textAreaRight" b="textAreaBottom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1" name="Freeform 281"/>
              <p:cNvSpPr/>
              <p:nvPr/>
            </p:nvSpPr>
            <p:spPr>
              <a:xfrm rot="10843800">
                <a:off x="4793760" y="4250880"/>
                <a:ext cx="898560" cy="655200"/>
              </a:xfrm>
              <a:custGeom>
                <a:avLst/>
                <a:gdLst>
                  <a:gd name="textAreaLeft" fmla="*/ 0 w 898560"/>
                  <a:gd name="textAreaRight" fmla="*/ 898920 w 898560"/>
                  <a:gd name="textAreaTop" fmla="*/ 0 h 655200"/>
                  <a:gd name="textAreaBottom" fmla="*/ 655560 h 655200"/>
                </a:gdLst>
                <a:ahLst/>
                <a:rect l="textAreaLeft" t="textAreaTop" r="textAreaRight" b="textAreaBottom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6d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4561560" y="3744000"/>
              <a:ext cx="281520" cy="262080"/>
              <a:chOff x="4561560" y="3744000"/>
              <a:chExt cx="281520" cy="262080"/>
            </a:xfrm>
          </p:grpSpPr>
          <p:sp>
            <p:nvSpPr>
              <p:cNvPr id="723" name="Freeform 283"/>
              <p:cNvSpPr/>
              <p:nvPr/>
            </p:nvSpPr>
            <p:spPr>
              <a:xfrm rot="10843800">
                <a:off x="4562280" y="3744360"/>
                <a:ext cx="127080" cy="1249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4" name="Freeform 284"/>
              <p:cNvSpPr/>
              <p:nvPr/>
            </p:nvSpPr>
            <p:spPr>
              <a:xfrm rot="10843800">
                <a:off x="4624200" y="3797280"/>
                <a:ext cx="217440" cy="2073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633200" y="3815640"/>
              <a:ext cx="198360" cy="175320"/>
              <a:chOff x="4633200" y="3815640"/>
              <a:chExt cx="198360" cy="175320"/>
            </a:xfrm>
          </p:grpSpPr>
          <p:sp>
            <p:nvSpPr>
              <p:cNvPr id="726" name="Freeform 286"/>
              <p:cNvSpPr/>
              <p:nvPr/>
            </p:nvSpPr>
            <p:spPr>
              <a:xfrm rot="10843800">
                <a:off x="4687560" y="3871080"/>
                <a:ext cx="123840" cy="1000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7" name="Freeform 287"/>
              <p:cNvSpPr/>
              <p:nvPr/>
            </p:nvSpPr>
            <p:spPr>
              <a:xfrm rot="10843800">
                <a:off x="4700160" y="3883680"/>
                <a:ext cx="130320" cy="10620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8" name="Freeform 288"/>
              <p:cNvSpPr/>
              <p:nvPr/>
            </p:nvSpPr>
            <p:spPr>
              <a:xfrm rot="10843800">
                <a:off x="4674600" y="3861720"/>
                <a:ext cx="120600" cy="950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9" name="Freeform 289"/>
              <p:cNvSpPr/>
              <p:nvPr/>
            </p:nvSpPr>
            <p:spPr>
              <a:xfrm rot="10843800">
                <a:off x="4646160" y="3825000"/>
                <a:ext cx="101880" cy="8100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30" name="Freeform 290"/>
              <p:cNvSpPr/>
              <p:nvPr/>
            </p:nvSpPr>
            <p:spPr>
              <a:xfrm rot="10843800">
                <a:off x="4654080" y="3836520"/>
                <a:ext cx="106560" cy="856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31" name="Freeform 291"/>
              <p:cNvSpPr/>
              <p:nvPr/>
            </p:nvSpPr>
            <p:spPr>
              <a:xfrm rot="10843800">
                <a:off x="4633560" y="3816000"/>
                <a:ext cx="96840" cy="79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159-3113-4C9C-BC87-B422F4081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"/>
                            </p:stCondLst>
                            <p:childTnLst>
                              <p:par>
                                <p:cTn id="21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dur="indefinite" nodeType="after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 Black"/>
              </a:rPr>
              <a:t>感谢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8353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Arial"/>
              </a:rPr>
              <a:t>此处填写名称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4" name="直接连接符 9"/>
          <p:cNvSpPr/>
          <p:nvPr/>
        </p:nvSpPr>
        <p:spPr>
          <a:xfrm>
            <a:off x="495360" y="4581360"/>
            <a:ext cx="799308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1979280" y="835200"/>
            <a:ext cx="5295600" cy="2601720"/>
            <a:chOff x="1979280" y="835200"/>
            <a:chExt cx="5295600" cy="2601720"/>
          </a:xfrm>
        </p:grpSpPr>
        <p:sp>
          <p:nvSpPr>
            <p:cNvPr id="736" name="Rectangle 75"/>
            <p:cNvSpPr/>
            <p:nvPr/>
          </p:nvSpPr>
          <p:spPr>
            <a:xfrm rot="11122200">
              <a:off x="3036240" y="281592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4495320" y="907920"/>
              <a:ext cx="1500120" cy="1614600"/>
              <a:chOff x="4495320" y="907920"/>
              <a:chExt cx="1500120" cy="1614600"/>
            </a:xfrm>
          </p:grpSpPr>
          <p:sp>
            <p:nvSpPr>
              <p:cNvPr id="738" name="Rectangle 48"/>
              <p:cNvSpPr/>
              <p:nvPr/>
            </p:nvSpPr>
            <p:spPr>
              <a:xfrm>
                <a:off x="4495320" y="90792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39" name="TextBox 49"/>
              <p:cNvSpPr/>
              <p:nvPr/>
            </p:nvSpPr>
            <p:spPr>
              <a:xfrm>
                <a:off x="4897440" y="108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0" name="Oval 50"/>
              <p:cNvSpPr/>
              <p:nvPr/>
            </p:nvSpPr>
            <p:spPr>
              <a:xfrm>
                <a:off x="459972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1" name="Oval 51"/>
              <p:cNvSpPr/>
              <p:nvPr/>
            </p:nvSpPr>
            <p:spPr>
              <a:xfrm>
                <a:off x="577044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2" name="TextBox 52"/>
              <p:cNvSpPr/>
              <p:nvPr/>
            </p:nvSpPr>
            <p:spPr>
              <a:xfrm>
                <a:off x="4495320" y="11131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43" name="Rectangle 53"/>
            <p:cNvSpPr/>
            <p:nvPr/>
          </p:nvSpPr>
          <p:spPr>
            <a:xfrm rot="10800000">
              <a:off x="455652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4" name="Rectangle 54"/>
            <p:cNvSpPr/>
            <p:nvPr/>
          </p:nvSpPr>
          <p:spPr>
            <a:xfrm rot="11122200">
              <a:off x="5777280" y="262440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5" name="Rectangle 55"/>
            <p:cNvSpPr/>
            <p:nvPr/>
          </p:nvSpPr>
          <p:spPr>
            <a:xfrm rot="10800000">
              <a:off x="197928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1979640" y="912960"/>
              <a:ext cx="1500120" cy="1614960"/>
              <a:chOff x="1979640" y="912960"/>
              <a:chExt cx="1500120" cy="1614960"/>
            </a:xfrm>
          </p:grpSpPr>
          <p:sp>
            <p:nvSpPr>
              <p:cNvPr id="747" name="Rectangle 57"/>
              <p:cNvSpPr/>
              <p:nvPr/>
            </p:nvSpPr>
            <p:spPr>
              <a:xfrm>
                <a:off x="1979640" y="91296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8" name="TextBox 58"/>
              <p:cNvSpPr/>
              <p:nvPr/>
            </p:nvSpPr>
            <p:spPr>
              <a:xfrm>
                <a:off x="2381760" y="10933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9" name="Oval 59"/>
              <p:cNvSpPr/>
              <p:nvPr/>
            </p:nvSpPr>
            <p:spPr>
              <a:xfrm>
                <a:off x="208404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0" name="Oval 60"/>
              <p:cNvSpPr/>
              <p:nvPr/>
            </p:nvSpPr>
            <p:spPr>
              <a:xfrm>
                <a:off x="325476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1" name="TextBox 61"/>
              <p:cNvSpPr/>
              <p:nvPr/>
            </p:nvSpPr>
            <p:spPr>
              <a:xfrm>
                <a:off x="1979640" y="11185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056400" y="913680"/>
              <a:ext cx="1953000" cy="2005200"/>
              <a:chOff x="3056400" y="913680"/>
              <a:chExt cx="1953000" cy="2005200"/>
            </a:xfrm>
          </p:grpSpPr>
          <p:sp>
            <p:nvSpPr>
              <p:cNvPr id="753" name="Rectangle 63"/>
              <p:cNvSpPr/>
              <p:nvPr/>
            </p:nvSpPr>
            <p:spPr>
              <a:xfrm rot="1201800">
                <a:off x="3282480" y="11224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4" name="TextBox 64"/>
              <p:cNvSpPr/>
              <p:nvPr/>
            </p:nvSpPr>
            <p:spPr>
              <a:xfrm rot="1201800">
                <a:off x="3658320" y="126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5" name="Oval 65"/>
              <p:cNvSpPr/>
              <p:nvPr/>
            </p:nvSpPr>
            <p:spPr>
              <a:xfrm rot="1201800">
                <a:off x="3634920" y="1064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6" name="Oval 66"/>
              <p:cNvSpPr/>
              <p:nvPr/>
            </p:nvSpPr>
            <p:spPr>
              <a:xfrm rot="1201800">
                <a:off x="4734720" y="146556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57" name="TextBox 67"/>
              <p:cNvSpPr/>
              <p:nvPr/>
            </p:nvSpPr>
            <p:spPr>
              <a:xfrm rot="1201800">
                <a:off x="3440880" y="134424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587560" y="835200"/>
              <a:ext cx="1687320" cy="1762560"/>
              <a:chOff x="5587560" y="835200"/>
              <a:chExt cx="1687320" cy="1762560"/>
            </a:xfrm>
          </p:grpSpPr>
          <p:sp>
            <p:nvSpPr>
              <p:cNvPr id="759" name="Rectangle 69"/>
              <p:cNvSpPr/>
              <p:nvPr/>
            </p:nvSpPr>
            <p:spPr>
              <a:xfrm rot="21168000">
                <a:off x="5680800" y="9226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60" name="TextBox 70"/>
              <p:cNvSpPr/>
              <p:nvPr/>
            </p:nvSpPr>
            <p:spPr>
              <a:xfrm rot="21168000">
                <a:off x="6093360" y="108144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6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61" name="Oval 71"/>
              <p:cNvSpPr/>
              <p:nvPr/>
            </p:nvSpPr>
            <p:spPr>
              <a:xfrm rot="21168000">
                <a:off x="5711760" y="110160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62" name="Oval 72"/>
              <p:cNvSpPr/>
              <p:nvPr/>
            </p:nvSpPr>
            <p:spPr>
              <a:xfrm rot="21168000">
                <a:off x="6873480" y="9547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63" name="TextBox 73"/>
              <p:cNvSpPr/>
              <p:nvPr/>
            </p:nvSpPr>
            <p:spPr>
              <a:xfrm rot="21168000">
                <a:off x="5623200" y="1119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阵列图示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2000" y="1268280"/>
            <a:ext cx="1881000" cy="1906560"/>
            <a:chOff x="1332000" y="1268280"/>
            <a:chExt cx="1881000" cy="1906560"/>
          </a:xfrm>
        </p:grpSpPr>
        <p:grpSp>
          <p:nvGrpSpPr>
            <p:cNvPr id="78" name=""/>
            <p:cNvGrpSpPr/>
            <p:nvPr/>
          </p:nvGrpSpPr>
          <p:grpSpPr>
            <a:xfrm>
              <a:off x="1332000" y="1268280"/>
              <a:ext cx="1881000" cy="1906560"/>
              <a:chOff x="1332000" y="1268280"/>
              <a:chExt cx="1881000" cy="1906560"/>
            </a:xfrm>
          </p:grpSpPr>
          <p:sp>
            <p:nvSpPr>
              <p:cNvPr id="79" name="Freeform 11"/>
              <p:cNvSpPr/>
              <p:nvPr/>
            </p:nvSpPr>
            <p:spPr>
              <a:xfrm>
                <a:off x="1332000" y="1304640"/>
                <a:ext cx="1849320" cy="1870200"/>
              </a:xfrm>
              <a:custGeom>
                <a:avLst/>
                <a:gdLst>
                  <a:gd name="textAreaLeft" fmla="*/ 0 w 1849320"/>
                  <a:gd name="textAreaRight" fmla="*/ 1849680 w 1849320"/>
                  <a:gd name="textAreaTop" fmla="*/ 0 h 1870200"/>
                  <a:gd name="textAreaBottom" fmla="*/ 1870560 h 1870200"/>
                </a:gdLst>
                <a:ahLst/>
                <a:rect l="textAreaLeft" t="textAreaTop" r="textAreaRight" b="textAreaBottom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" name="Freeform 8"/>
              <p:cNvSpPr/>
              <p:nvPr/>
            </p:nvSpPr>
            <p:spPr>
              <a:xfrm>
                <a:off x="1333440" y="1268280"/>
                <a:ext cx="1879560" cy="1818000"/>
              </a:xfrm>
              <a:custGeom>
                <a:avLst/>
                <a:gdLst>
                  <a:gd name="textAreaLeft" fmla="*/ 0 w 1879560"/>
                  <a:gd name="textAreaRight" fmla="*/ 1879920 w 1879560"/>
                  <a:gd name="textAreaTop" fmla="*/ 0 h 1818000"/>
                  <a:gd name="textAreaBottom" fmla="*/ 1818360 h 1818000"/>
                </a:gdLst>
                <a:ahLst/>
                <a:rect l="textAreaLeft" t="textAreaTop" r="textAreaRight" b="textAreaBottom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ff6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585800" y="1520640"/>
              <a:ext cx="380880" cy="459720"/>
              <a:chOff x="1585800" y="1520640"/>
              <a:chExt cx="380880" cy="459720"/>
            </a:xfrm>
          </p:grpSpPr>
          <p:sp>
            <p:nvSpPr>
              <p:cNvPr id="82" name="TextBox 26"/>
              <p:cNvSpPr/>
              <p:nvPr/>
            </p:nvSpPr>
            <p:spPr>
              <a:xfrm>
                <a:off x="1617480" y="1520640"/>
                <a:ext cx="31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" name="Freeform 27"/>
              <p:cNvSpPr/>
              <p:nvPr/>
            </p:nvSpPr>
            <p:spPr>
              <a:xfrm>
                <a:off x="1585800" y="1557000"/>
                <a:ext cx="380880" cy="38916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84" name="TextBox 45"/>
            <p:cNvSpPr/>
            <p:nvPr/>
          </p:nvSpPr>
          <p:spPr>
            <a:xfrm rot="21025800">
              <a:off x="1607040" y="1818720"/>
              <a:ext cx="130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79600" y="1465200"/>
            <a:ext cx="6217560" cy="4421160"/>
            <a:chOff x="1479600" y="1465200"/>
            <a:chExt cx="6217560" cy="4421160"/>
          </a:xfrm>
        </p:grpSpPr>
        <p:grpSp>
          <p:nvGrpSpPr>
            <p:cNvPr id="86" name=""/>
            <p:cNvGrpSpPr/>
            <p:nvPr/>
          </p:nvGrpSpPr>
          <p:grpSpPr>
            <a:xfrm>
              <a:off x="1479600" y="3671640"/>
              <a:ext cx="1879920" cy="1915920"/>
              <a:chOff x="1479600" y="3671640"/>
              <a:chExt cx="1879920" cy="1915920"/>
            </a:xfrm>
          </p:grpSpPr>
          <p:sp>
            <p:nvSpPr>
              <p:cNvPr id="87" name="Freeform 19"/>
              <p:cNvSpPr/>
              <p:nvPr/>
            </p:nvSpPr>
            <p:spPr>
              <a:xfrm>
                <a:off x="1479600" y="3715920"/>
                <a:ext cx="1850040" cy="1871640"/>
              </a:xfrm>
              <a:custGeom>
                <a:avLst/>
                <a:gdLst>
                  <a:gd name="textAreaLeft" fmla="*/ 0 w 1850040"/>
                  <a:gd name="textAreaRight" fmla="*/ 1850400 w 1850040"/>
                  <a:gd name="textAreaTop" fmla="*/ 0 h 1871640"/>
                  <a:gd name="textAreaBottom" fmla="*/ 1872000 h 1871640"/>
                </a:gdLst>
                <a:ahLst/>
                <a:rect l="textAreaLeft" t="textAreaTop" r="textAreaRight" b="textAreaBottom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" name="Freeform 4"/>
              <p:cNvSpPr/>
              <p:nvPr/>
            </p:nvSpPr>
            <p:spPr>
              <a:xfrm>
                <a:off x="1479600" y="3671640"/>
                <a:ext cx="1879920" cy="1819080"/>
              </a:xfrm>
              <a:custGeom>
                <a:avLst/>
                <a:gdLst>
                  <a:gd name="textAreaLeft" fmla="*/ 0 w 1879920"/>
                  <a:gd name="textAreaRight" fmla="*/ 1880280 w 1879920"/>
                  <a:gd name="textAreaTop" fmla="*/ 0 h 1819080"/>
                  <a:gd name="textAreaBottom" fmla="*/ 1819440 h 1819080"/>
                </a:gdLst>
                <a:ahLst/>
                <a:rect l="textAreaLeft" t="textAreaTop" r="textAreaRight" b="textAreaBottom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680800" y="3850920"/>
              <a:ext cx="2016360" cy="2035440"/>
              <a:chOff x="5680800" y="3850920"/>
              <a:chExt cx="2016360" cy="2035440"/>
            </a:xfrm>
          </p:grpSpPr>
          <p:sp>
            <p:nvSpPr>
              <p:cNvPr id="90" name="Freeform 20"/>
              <p:cNvSpPr/>
              <p:nvPr/>
            </p:nvSpPr>
            <p:spPr>
              <a:xfrm flipH="1" rot="21277800">
                <a:off x="5763960" y="3933000"/>
                <a:ext cx="1849320" cy="1870560"/>
              </a:xfrm>
              <a:custGeom>
                <a:avLst/>
                <a:gdLst>
                  <a:gd name="textAreaLeft" fmla="*/ -360 w 1849320"/>
                  <a:gd name="textAreaRight" fmla="*/ 1849320 w 1849320"/>
                  <a:gd name="textAreaTop" fmla="*/ 0 h 1870560"/>
                  <a:gd name="textAreaBottom" fmla="*/ 1870920 h 1870560"/>
                </a:gdLst>
                <a:ahLst/>
                <a:rect l="textAreaLeft" t="textAreaTop" r="textAreaRight" b="textAreaBottom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1" name="Freeform 5"/>
              <p:cNvSpPr/>
              <p:nvPr/>
            </p:nvSpPr>
            <p:spPr>
              <a:xfrm flipH="1">
                <a:off x="5708160" y="3850920"/>
                <a:ext cx="1879560" cy="1818360"/>
              </a:xfrm>
              <a:custGeom>
                <a:avLst/>
                <a:gdLst>
                  <a:gd name="textAreaLeft" fmla="*/ -360 w 1879560"/>
                  <a:gd name="textAreaRight" fmla="*/ 1879560 w 1879560"/>
                  <a:gd name="textAreaTop" fmla="*/ 0 h 1818360"/>
                  <a:gd name="textAreaBottom" fmla="*/ 1818720 h 1818360"/>
                </a:gdLst>
                <a:ahLst/>
                <a:rect l="textAreaLeft" t="textAreaTop" r="textAreaRight" b="textAreaBottom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e9d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92" name="Rectangle 6"/>
            <p:cNvSpPr/>
            <p:nvPr/>
          </p:nvSpPr>
          <p:spPr>
            <a:xfrm rot="344400">
              <a:off x="3618000" y="3992400"/>
              <a:ext cx="1676160" cy="1676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708880" y="1465200"/>
              <a:ext cx="1828800" cy="1740600"/>
              <a:chOff x="5708880" y="1465200"/>
              <a:chExt cx="1828800" cy="1740600"/>
            </a:xfrm>
          </p:grpSpPr>
          <p:sp>
            <p:nvSpPr>
              <p:cNvPr id="94" name="Freeform 15"/>
              <p:cNvSpPr/>
              <p:nvPr/>
            </p:nvSpPr>
            <p:spPr>
              <a:xfrm>
                <a:off x="5838840" y="1595160"/>
                <a:ext cx="1679760" cy="1610640"/>
              </a:xfrm>
              <a:custGeom>
                <a:avLst/>
                <a:gdLst>
                  <a:gd name="textAreaLeft" fmla="*/ 0 w 1679760"/>
                  <a:gd name="textAreaRight" fmla="*/ 1680120 w 1679760"/>
                  <a:gd name="textAreaTop" fmla="*/ 0 h 1610640"/>
                  <a:gd name="textAreaBottom" fmla="*/ 1611000 h 1610640"/>
                </a:gdLst>
                <a:ahLst/>
                <a:rect l="textAreaLeft" t="textAreaTop" r="textAreaRight" b="textAreaBottom"/>
                <a:pathLst>
                  <a:path w="1680046" h="1610117">
                    <a:moveTo>
                      <a:pt x="1670046" y="60004"/>
                    </a:moveTo>
                    <a:cubicBezTo>
                      <a:pt x="1673379" y="576708"/>
                      <a:pt x="1676713" y="1093413"/>
                      <a:pt x="1680046" y="1610117"/>
                    </a:cubicBezTo>
                    <a:lnTo>
                      <a:pt x="0" y="1590115"/>
                    </a:lnTo>
                    <a:lnTo>
                      <a:pt x="200006" y="0"/>
                    </a:lnTo>
                    <a:lnTo>
                      <a:pt x="1670046" y="6000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5" name="Freeform 7"/>
              <p:cNvSpPr/>
              <p:nvPr/>
            </p:nvSpPr>
            <p:spPr>
              <a:xfrm>
                <a:off x="5708880" y="1465200"/>
                <a:ext cx="1828800" cy="1693080"/>
              </a:xfrm>
              <a:custGeom>
                <a:avLst/>
                <a:gdLst>
                  <a:gd name="textAreaLeft" fmla="*/ 0 w 1828800"/>
                  <a:gd name="textAreaRight" fmla="*/ 1829160 w 1828800"/>
                  <a:gd name="textAreaTop" fmla="*/ 0 h 1693080"/>
                  <a:gd name="textAreaBottom" fmla="*/ 1693440 h 1693080"/>
                </a:gdLst>
                <a:ahLst/>
                <a:rect l="textAreaLeft" t="textAreaTop" r="textAreaRight" b="textAreaBottom"/>
                <a:pathLst>
                  <a:path w="1828800" h="1692679">
                    <a:moveTo>
                      <a:pt x="152400" y="16279"/>
                    </a:moveTo>
                    <a:cubicBezTo>
                      <a:pt x="711200" y="16279"/>
                      <a:pt x="1491204" y="0"/>
                      <a:pt x="1828800" y="16279"/>
                    </a:cubicBezTo>
                    <a:cubicBezTo>
                      <a:pt x="1780413" y="324626"/>
                      <a:pt x="1727200" y="1133879"/>
                      <a:pt x="1676400" y="1692679"/>
                    </a:cubicBezTo>
                    <a:lnTo>
                      <a:pt x="0" y="1692679"/>
                    </a:lnTo>
                    <a:lnTo>
                      <a:pt x="152400" y="1627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96" name="Rectangle 10"/>
            <p:cNvSpPr/>
            <p:nvPr/>
          </p:nvSpPr>
          <p:spPr>
            <a:xfrm>
              <a:off x="3516120" y="1782720"/>
              <a:ext cx="1676160" cy="1676520"/>
            </a:xfrm>
            <a:prstGeom prst="rect">
              <a:avLst/>
            </a:prstGeom>
            <a:solidFill>
              <a:srgbClr val="72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719520" y="1888920"/>
              <a:ext cx="382320" cy="459720"/>
              <a:chOff x="3719520" y="1888920"/>
              <a:chExt cx="382320" cy="459720"/>
            </a:xfrm>
          </p:grpSpPr>
          <p:sp>
            <p:nvSpPr>
              <p:cNvPr id="98" name="TextBox 30"/>
              <p:cNvSpPr/>
              <p:nvPr/>
            </p:nvSpPr>
            <p:spPr>
              <a:xfrm>
                <a:off x="3751920" y="188892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9" name="Freeform 31"/>
              <p:cNvSpPr/>
              <p:nvPr/>
            </p:nvSpPr>
            <p:spPr>
              <a:xfrm>
                <a:off x="3719520" y="1938240"/>
                <a:ext cx="382320" cy="38880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00" name="TextBox 33"/>
            <p:cNvSpPr/>
            <p:nvPr/>
          </p:nvSpPr>
          <p:spPr>
            <a:xfrm>
              <a:off x="6037920" y="15570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6037200" y="1595160"/>
              <a:ext cx="353880" cy="423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02" name="TextBox 36"/>
            <p:cNvSpPr/>
            <p:nvPr/>
          </p:nvSpPr>
          <p:spPr>
            <a:xfrm>
              <a:off x="1649520" y="3850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 rot="2920800">
              <a:off x="1650240" y="3940560"/>
              <a:ext cx="353880" cy="326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04" name="TextBox 38"/>
            <p:cNvSpPr/>
            <p:nvPr/>
          </p:nvSpPr>
          <p:spPr>
            <a:xfrm>
              <a:off x="3751920" y="395964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05" name="Freeform 39"/>
            <p:cNvSpPr/>
            <p:nvPr/>
          </p:nvSpPr>
          <p:spPr>
            <a:xfrm>
              <a:off x="3746520" y="4049640"/>
              <a:ext cx="345960" cy="3553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46676" h="355026">
                  <a:moveTo>
                    <a:pt x="306675" y="71672"/>
                  </a:moveTo>
                  <a:cubicBezTo>
                    <a:pt x="286675" y="43337"/>
                    <a:pt x="260007" y="18335"/>
                    <a:pt x="216673" y="11668"/>
                  </a:cubicBezTo>
                  <a:cubicBezTo>
                    <a:pt x="173339" y="5001"/>
                    <a:pt x="81669" y="0"/>
                    <a:pt x="46668" y="31669"/>
                  </a:cubicBezTo>
                  <a:cubicBezTo>
                    <a:pt x="11667" y="63338"/>
                    <a:pt x="0" y="153345"/>
                    <a:pt x="6667" y="201682"/>
                  </a:cubicBezTo>
                  <a:cubicBezTo>
                    <a:pt x="13334" y="250019"/>
                    <a:pt x="43335" y="300023"/>
                    <a:pt x="86669" y="321691"/>
                  </a:cubicBezTo>
                  <a:cubicBezTo>
                    <a:pt x="130004" y="343359"/>
                    <a:pt x="225006" y="355026"/>
                    <a:pt x="266674" y="331691"/>
                  </a:cubicBezTo>
                  <a:cubicBezTo>
                    <a:pt x="308342" y="308356"/>
                    <a:pt x="326676" y="225016"/>
                    <a:pt x="336676" y="181680"/>
                  </a:cubicBezTo>
                  <a:cubicBezTo>
                    <a:pt x="346676" y="138344"/>
                    <a:pt x="326675" y="100007"/>
                    <a:pt x="306675" y="7167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81480" y="3939480"/>
              <a:ext cx="381600" cy="459720"/>
              <a:chOff x="6081480" y="3939480"/>
              <a:chExt cx="381600" cy="459720"/>
            </a:xfrm>
          </p:grpSpPr>
          <p:sp>
            <p:nvSpPr>
              <p:cNvPr id="107" name="TextBox 41"/>
              <p:cNvSpPr/>
              <p:nvPr/>
            </p:nvSpPr>
            <p:spPr>
              <a:xfrm>
                <a:off x="6103080" y="3939480"/>
                <a:ext cx="31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>
                <a:off x="6081480" y="3981240"/>
                <a:ext cx="381600" cy="38736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09" name="TextBox 46"/>
            <p:cNvSpPr/>
            <p:nvPr/>
          </p:nvSpPr>
          <p:spPr>
            <a:xfrm>
              <a:off x="3516840" y="2439360"/>
              <a:ext cx="16549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0" name="TextBox 47"/>
            <p:cNvSpPr/>
            <p:nvPr/>
          </p:nvSpPr>
          <p:spPr>
            <a:xfrm>
              <a:off x="5749920" y="2130840"/>
              <a:ext cx="1713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1" name="TextBox 48"/>
            <p:cNvSpPr/>
            <p:nvPr/>
          </p:nvSpPr>
          <p:spPr>
            <a:xfrm rot="20984400">
              <a:off x="1595520" y="430236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 rot="365400">
              <a:off x="3648960" y="460728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TextBox 50"/>
            <p:cNvSpPr/>
            <p:nvPr/>
          </p:nvSpPr>
          <p:spPr>
            <a:xfrm rot="365400">
              <a:off x="5867280" y="448452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55C-8B05-4482-9106-8318281DB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04560" y="5233680"/>
            <a:ext cx="2338200" cy="740160"/>
            <a:chOff x="304560" y="5233680"/>
            <a:chExt cx="2338200" cy="740160"/>
          </a:xfrm>
        </p:grpSpPr>
        <p:sp>
          <p:nvSpPr>
            <p:cNvPr id="115" name="Rektangel 23"/>
            <p:cNvSpPr/>
            <p:nvPr/>
          </p:nvSpPr>
          <p:spPr>
            <a:xfrm flipH="1">
              <a:off x="304200" y="5492880"/>
              <a:ext cx="2328840" cy="480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Ligebenet trapez 25"/>
            <p:cNvSpPr/>
            <p:nvPr/>
          </p:nvSpPr>
          <p:spPr>
            <a:xfrm flipH="1" flipV="1">
              <a:off x="304200" y="5233320"/>
              <a:ext cx="2338200" cy="258840"/>
            </a:xfrm>
            <a:custGeom>
              <a:avLst/>
              <a:gdLst>
                <a:gd name="textAreaLeft" fmla="*/ 231840 w 2338200"/>
                <a:gd name="textAreaRight" fmla="*/ 2106360 w 233820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17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8" name="Rektangel 23"/>
          <p:cNvSpPr/>
          <p:nvPr/>
        </p:nvSpPr>
        <p:spPr>
          <a:xfrm flipH="1">
            <a:off x="1065960" y="5011560"/>
            <a:ext cx="2328840" cy="481320"/>
          </a:xfrm>
          <a:prstGeom prst="rect">
            <a:avLst/>
          </a:prstGeom>
          <a:solidFill>
            <a:srgbClr val="ffe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Ligebenet trapez 25"/>
          <p:cNvSpPr/>
          <p:nvPr/>
        </p:nvSpPr>
        <p:spPr>
          <a:xfrm flipH="1" flipV="1">
            <a:off x="1066680" y="4753080"/>
            <a:ext cx="2338560" cy="258480"/>
          </a:xfrm>
          <a:custGeom>
            <a:avLst/>
            <a:gdLst>
              <a:gd name="textAreaLeft" fmla="*/ 420840 w 2338560"/>
              <a:gd name="textAreaRight" fmla="*/ 1917720 w 2338560"/>
              <a:gd name="textAreaTop" fmla="*/ 46440 h 258480"/>
              <a:gd name="textAreaBottom" fmla="*/ 212040 h 25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51" y="21600"/>
                </a:lnTo>
                <a:lnTo>
                  <a:pt x="3849" y="216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81080" y="4274640"/>
            <a:ext cx="2338560" cy="740160"/>
            <a:chOff x="1981080" y="4274640"/>
            <a:chExt cx="2338560" cy="740160"/>
          </a:xfrm>
        </p:grpSpPr>
        <p:sp>
          <p:nvSpPr>
            <p:cNvPr id="121" name="Rektangel 23"/>
            <p:cNvSpPr/>
            <p:nvPr/>
          </p:nvSpPr>
          <p:spPr>
            <a:xfrm flipH="1">
              <a:off x="1981080" y="4533840"/>
              <a:ext cx="2329200" cy="480960"/>
            </a:xfrm>
            <a:prstGeom prst="rect">
              <a:avLst/>
            </a:prstGeom>
            <a:solidFill>
              <a:srgbClr val="ffb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Ligebenet trapez 25"/>
            <p:cNvSpPr/>
            <p:nvPr/>
          </p:nvSpPr>
          <p:spPr>
            <a:xfrm flipH="1" flipV="1">
              <a:off x="1981080" y="4274280"/>
              <a:ext cx="2338560" cy="258840"/>
            </a:xfrm>
            <a:custGeom>
              <a:avLst/>
              <a:gdLst>
                <a:gd name="textAreaLeft" fmla="*/ 231840 w 2338560"/>
                <a:gd name="textAreaRight" fmla="*/ 2106720 w 233856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71800" y="3795480"/>
            <a:ext cx="2338560" cy="740160"/>
            <a:chOff x="2971800" y="3795480"/>
            <a:chExt cx="2338560" cy="740160"/>
          </a:xfrm>
        </p:grpSpPr>
        <p:sp>
          <p:nvSpPr>
            <p:cNvPr id="124" name="Rektangel 23"/>
            <p:cNvSpPr/>
            <p:nvPr/>
          </p:nvSpPr>
          <p:spPr>
            <a:xfrm flipH="1">
              <a:off x="2971800" y="4054680"/>
              <a:ext cx="2329200" cy="480960"/>
            </a:xfrm>
            <a:prstGeom prst="rect">
              <a:avLst/>
            </a:prstGeom>
            <a:solidFill>
              <a:srgbClr val="ff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Ligebenet trapez 25"/>
            <p:cNvSpPr/>
            <p:nvPr/>
          </p:nvSpPr>
          <p:spPr>
            <a:xfrm flipH="1" flipV="1">
              <a:off x="2971800" y="3795120"/>
              <a:ext cx="2338560" cy="258840"/>
            </a:xfrm>
            <a:custGeom>
              <a:avLst/>
              <a:gdLst>
                <a:gd name="textAreaLeft" fmla="*/ 231840 w 2338560"/>
                <a:gd name="textAreaRight" fmla="*/ 2106720 w 233856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86200" y="3317400"/>
            <a:ext cx="2338560" cy="740160"/>
            <a:chOff x="3886200" y="3317400"/>
            <a:chExt cx="2338560" cy="740160"/>
          </a:xfrm>
        </p:grpSpPr>
        <p:sp>
          <p:nvSpPr>
            <p:cNvPr id="127" name="Rektangel 23"/>
            <p:cNvSpPr/>
            <p:nvPr/>
          </p:nvSpPr>
          <p:spPr>
            <a:xfrm flipH="1">
              <a:off x="3886200" y="3576600"/>
              <a:ext cx="2329200" cy="480960"/>
            </a:xfrm>
            <a:prstGeom prst="rect">
              <a:avLst/>
            </a:prstGeom>
            <a:solidFill>
              <a:srgbClr val="ff6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Ligebenet trapez 25"/>
            <p:cNvSpPr/>
            <p:nvPr/>
          </p:nvSpPr>
          <p:spPr>
            <a:xfrm flipH="1" flipV="1">
              <a:off x="3886200" y="3317040"/>
              <a:ext cx="2338560" cy="258840"/>
            </a:xfrm>
            <a:custGeom>
              <a:avLst/>
              <a:gdLst>
                <a:gd name="textAreaLeft" fmla="*/ 231840 w 2338560"/>
                <a:gd name="textAreaRight" fmla="*/ 2106720 w 233856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800600" y="2838240"/>
            <a:ext cx="2338560" cy="740160"/>
            <a:chOff x="4800600" y="2838240"/>
            <a:chExt cx="2338560" cy="740160"/>
          </a:xfrm>
        </p:grpSpPr>
        <p:sp>
          <p:nvSpPr>
            <p:cNvPr id="130" name="Rektangel 23"/>
            <p:cNvSpPr/>
            <p:nvPr/>
          </p:nvSpPr>
          <p:spPr>
            <a:xfrm flipH="1">
              <a:off x="4800600" y="3097440"/>
              <a:ext cx="2329200" cy="480960"/>
            </a:xfrm>
            <a:prstGeom prst="rect">
              <a:avLst/>
            </a:prstGeom>
            <a:solidFill>
              <a:srgbClr val="f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Ligebenet trapez 25"/>
            <p:cNvSpPr/>
            <p:nvPr/>
          </p:nvSpPr>
          <p:spPr>
            <a:xfrm flipH="1" flipV="1">
              <a:off x="4800600" y="2837880"/>
              <a:ext cx="2338560" cy="258840"/>
            </a:xfrm>
            <a:custGeom>
              <a:avLst/>
              <a:gdLst>
                <a:gd name="textAreaLeft" fmla="*/ 231840 w 2338560"/>
                <a:gd name="textAreaRight" fmla="*/ 2106720 w 233856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715000" y="2371320"/>
            <a:ext cx="2338560" cy="740160"/>
            <a:chOff x="5715000" y="2371320"/>
            <a:chExt cx="2338560" cy="740160"/>
          </a:xfrm>
        </p:grpSpPr>
        <p:sp>
          <p:nvSpPr>
            <p:cNvPr id="133" name="Rektangel 23"/>
            <p:cNvSpPr/>
            <p:nvPr/>
          </p:nvSpPr>
          <p:spPr>
            <a:xfrm flipH="1">
              <a:off x="5715000" y="2630520"/>
              <a:ext cx="2329200" cy="480960"/>
            </a:xfrm>
            <a:prstGeom prst="rect">
              <a:avLst/>
            </a:prstGeom>
            <a:solidFill>
              <a:srgbClr val="ff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Ligebenet trapez 25"/>
            <p:cNvSpPr/>
            <p:nvPr/>
          </p:nvSpPr>
          <p:spPr>
            <a:xfrm flipH="1" flipV="1">
              <a:off x="5715000" y="2370960"/>
              <a:ext cx="2338560" cy="258840"/>
            </a:xfrm>
            <a:custGeom>
              <a:avLst/>
              <a:gdLst>
                <a:gd name="textAreaLeft" fmla="*/ 231840 w 2338560"/>
                <a:gd name="textAreaRight" fmla="*/ 2106720 w 233856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524280" y="1891800"/>
            <a:ext cx="2338200" cy="740160"/>
            <a:chOff x="6524280" y="1891800"/>
            <a:chExt cx="2338200" cy="740160"/>
          </a:xfrm>
        </p:grpSpPr>
        <p:sp>
          <p:nvSpPr>
            <p:cNvPr id="136" name="Rektangel 23"/>
            <p:cNvSpPr/>
            <p:nvPr/>
          </p:nvSpPr>
          <p:spPr>
            <a:xfrm flipH="1">
              <a:off x="6523920" y="2151000"/>
              <a:ext cx="2328840" cy="480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Ligebenet trapez 25"/>
            <p:cNvSpPr/>
            <p:nvPr/>
          </p:nvSpPr>
          <p:spPr>
            <a:xfrm flipH="1" flipV="1">
              <a:off x="6523920" y="1891440"/>
              <a:ext cx="2338200" cy="258840"/>
            </a:xfrm>
            <a:custGeom>
              <a:avLst/>
              <a:gdLst>
                <a:gd name="textAreaLeft" fmla="*/ 231840 w 2338200"/>
                <a:gd name="textAreaRight" fmla="*/ 2106360 w 2338200"/>
                <a:gd name="textAreaTop" fmla="*/ 25560 h 258840"/>
                <a:gd name="textAreaBottom" fmla="*/ 233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92" y="21600"/>
                  </a:lnTo>
                  <a:lnTo>
                    <a:pt x="708" y="2160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8" name="TextBox 31"/>
          <p:cNvSpPr/>
          <p:nvPr/>
        </p:nvSpPr>
        <p:spPr>
          <a:xfrm>
            <a:off x="771480" y="560556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TextBox 32"/>
          <p:cNvSpPr/>
          <p:nvPr/>
        </p:nvSpPr>
        <p:spPr>
          <a:xfrm>
            <a:off x="1598760" y="51260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2523960" y="464832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510000" y="41702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TextBox 35"/>
          <p:cNvSpPr/>
          <p:nvPr/>
        </p:nvSpPr>
        <p:spPr>
          <a:xfrm>
            <a:off x="4387680" y="368136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TextBox 36"/>
          <p:cNvSpPr/>
          <p:nvPr/>
        </p:nvSpPr>
        <p:spPr>
          <a:xfrm>
            <a:off x="5338800" y="321300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TextBox 37"/>
          <p:cNvSpPr/>
          <p:nvPr/>
        </p:nvSpPr>
        <p:spPr>
          <a:xfrm>
            <a:off x="6353280" y="27446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TextBox 38"/>
          <p:cNvSpPr/>
          <p:nvPr/>
        </p:nvSpPr>
        <p:spPr>
          <a:xfrm>
            <a:off x="6991200" y="224460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Rektangel 23"/>
          <p:cNvSpPr/>
          <p:nvPr/>
        </p:nvSpPr>
        <p:spPr>
          <a:xfrm flipH="1">
            <a:off x="304200" y="5973840"/>
            <a:ext cx="2328840" cy="480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218360" y="1278000"/>
            <a:ext cx="985680" cy="852480"/>
            <a:chOff x="7218360" y="1278000"/>
            <a:chExt cx="985680" cy="852480"/>
          </a:xfrm>
        </p:grpSpPr>
        <p:sp>
          <p:nvSpPr>
            <p:cNvPr id="148" name="Ellipse 59"/>
            <p:cNvSpPr/>
            <p:nvPr/>
          </p:nvSpPr>
          <p:spPr>
            <a:xfrm>
              <a:off x="7218360" y="1931760"/>
              <a:ext cx="98568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5-Point Star 49"/>
            <p:cNvSpPr/>
            <p:nvPr/>
          </p:nvSpPr>
          <p:spPr>
            <a:xfrm>
              <a:off x="7373160" y="1278000"/>
              <a:ext cx="703800" cy="703440"/>
            </a:xfrm>
            <a:prstGeom prst="star5">
              <a:avLst/>
            </a:prstGeom>
            <a:solidFill>
              <a:srgbClr val="ff9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32960" y="4513320"/>
            <a:ext cx="360" cy="792000"/>
            <a:chOff x="732960" y="4513320"/>
            <a:chExt cx="360" cy="792000"/>
          </a:xfrm>
        </p:grpSpPr>
        <p:sp>
          <p:nvSpPr>
            <p:cNvPr id="151" name="Line 33"/>
            <p:cNvSpPr/>
            <p:nvPr/>
          </p:nvSpPr>
          <p:spPr>
            <a:xfrm flipV="1">
              <a:off x="7333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 rot="10800000">
              <a:off x="7329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3" name="Rektangel 64"/>
          <p:cNvSpPr/>
          <p:nvPr/>
        </p:nvSpPr>
        <p:spPr>
          <a:xfrm>
            <a:off x="85680" y="3652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357800" y="2677680"/>
            <a:ext cx="1440" cy="792360"/>
            <a:chOff x="4357800" y="2677680"/>
            <a:chExt cx="1440" cy="792360"/>
          </a:xfrm>
        </p:grpSpPr>
        <p:sp>
          <p:nvSpPr>
            <p:cNvPr id="155" name="Line 33"/>
            <p:cNvSpPr/>
            <p:nvPr/>
          </p:nvSpPr>
          <p:spPr>
            <a:xfrm flipV="1">
              <a:off x="4357800" y="2677680"/>
              <a:ext cx="144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10800000">
              <a:off x="4357800" y="2677680"/>
              <a:ext cx="144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7" name="Rektangel 64"/>
          <p:cNvSpPr/>
          <p:nvPr/>
        </p:nvSpPr>
        <p:spPr>
          <a:xfrm>
            <a:off x="3710160" y="18176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45840" y="3623760"/>
            <a:ext cx="2160" cy="792360"/>
            <a:chOff x="2445840" y="3623760"/>
            <a:chExt cx="2160" cy="792360"/>
          </a:xfrm>
        </p:grpSpPr>
        <p:sp>
          <p:nvSpPr>
            <p:cNvPr id="159" name="Line 33"/>
            <p:cNvSpPr/>
            <p:nvPr/>
          </p:nvSpPr>
          <p:spPr>
            <a:xfrm flipV="1">
              <a:off x="2446200" y="362376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0800000">
              <a:off x="2445840" y="362376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1" name="Rektangel 64"/>
          <p:cNvSpPr/>
          <p:nvPr/>
        </p:nvSpPr>
        <p:spPr>
          <a:xfrm>
            <a:off x="1798560" y="27637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63760" y="4513320"/>
            <a:ext cx="360" cy="792000"/>
            <a:chOff x="5063760" y="4513320"/>
            <a:chExt cx="360" cy="792000"/>
          </a:xfrm>
        </p:grpSpPr>
        <p:sp>
          <p:nvSpPr>
            <p:cNvPr id="163" name="Line 33"/>
            <p:cNvSpPr/>
            <p:nvPr/>
          </p:nvSpPr>
          <p:spPr>
            <a:xfrm flipV="1">
              <a:off x="50641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 rot="10800000">
              <a:off x="50637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5" name="Rektangel 64"/>
          <p:cNvSpPr/>
          <p:nvPr/>
        </p:nvSpPr>
        <p:spPr>
          <a:xfrm>
            <a:off x="4359240" y="525780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421840" y="2629080"/>
            <a:ext cx="1440" cy="792000"/>
            <a:chOff x="8421840" y="2629080"/>
            <a:chExt cx="1440" cy="792000"/>
          </a:xfrm>
        </p:grpSpPr>
        <p:sp>
          <p:nvSpPr>
            <p:cNvPr id="167" name="Line 33"/>
            <p:cNvSpPr/>
            <p:nvPr/>
          </p:nvSpPr>
          <p:spPr>
            <a:xfrm flipV="1">
              <a:off x="8421840" y="2629080"/>
              <a:ext cx="144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8421840" y="2629080"/>
              <a:ext cx="14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9" name="Rektangel 64"/>
          <p:cNvSpPr/>
          <p:nvPr/>
        </p:nvSpPr>
        <p:spPr>
          <a:xfrm>
            <a:off x="7716960" y="33526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971440" y="5492880"/>
            <a:ext cx="360" cy="792000"/>
            <a:chOff x="2971440" y="5492880"/>
            <a:chExt cx="360" cy="792000"/>
          </a:xfrm>
        </p:grpSpPr>
        <p:sp>
          <p:nvSpPr>
            <p:cNvPr id="171" name="Line 33"/>
            <p:cNvSpPr/>
            <p:nvPr/>
          </p:nvSpPr>
          <p:spPr>
            <a:xfrm flipV="1">
              <a:off x="2971800" y="549288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2971440" y="549288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73" name="Rektangel 64"/>
          <p:cNvSpPr/>
          <p:nvPr/>
        </p:nvSpPr>
        <p:spPr>
          <a:xfrm>
            <a:off x="2916360" y="5884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125760" y="1698120"/>
            <a:ext cx="2160" cy="792360"/>
            <a:chOff x="6125760" y="1698120"/>
            <a:chExt cx="2160" cy="792360"/>
          </a:xfrm>
        </p:grpSpPr>
        <p:sp>
          <p:nvSpPr>
            <p:cNvPr id="175" name="Line 33"/>
            <p:cNvSpPr/>
            <p:nvPr/>
          </p:nvSpPr>
          <p:spPr>
            <a:xfrm flipV="1">
              <a:off x="6126120" y="169812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10800000">
              <a:off x="6125760" y="169812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77" name="Rektangel 64"/>
          <p:cNvSpPr/>
          <p:nvPr/>
        </p:nvSpPr>
        <p:spPr>
          <a:xfrm>
            <a:off x="5478480" y="838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703560" y="3575160"/>
            <a:ext cx="2160" cy="792000"/>
            <a:chOff x="6703560" y="3575160"/>
            <a:chExt cx="2160" cy="792000"/>
          </a:xfrm>
        </p:grpSpPr>
        <p:sp>
          <p:nvSpPr>
            <p:cNvPr id="179" name="Line 33"/>
            <p:cNvSpPr/>
            <p:nvPr/>
          </p:nvSpPr>
          <p:spPr>
            <a:xfrm flipV="1">
              <a:off x="6703920" y="3575160"/>
              <a:ext cx="180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6703560" y="3575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1" name="Rektangel 64"/>
          <p:cNvSpPr/>
          <p:nvPr/>
        </p:nvSpPr>
        <p:spPr>
          <a:xfrm>
            <a:off x="5999040" y="4267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95720" y="990360"/>
            <a:ext cx="360" cy="228600"/>
            <a:chOff x="7695720" y="990360"/>
            <a:chExt cx="360" cy="228600"/>
          </a:xfrm>
        </p:grpSpPr>
        <p:sp>
          <p:nvSpPr>
            <p:cNvPr id="183" name="Line 33"/>
            <p:cNvSpPr/>
            <p:nvPr/>
          </p:nvSpPr>
          <p:spPr>
            <a:xfrm flipV="1">
              <a:off x="7696080" y="990360"/>
              <a:ext cx="0" cy="2286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7695720" y="99036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5" name="Rektangel 64"/>
          <p:cNvSpPr/>
          <p:nvPr/>
        </p:nvSpPr>
        <p:spPr>
          <a:xfrm>
            <a:off x="7070760" y="1778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642-CC69-490D-9604-EAA2515C62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92360" y="1219320"/>
            <a:ext cx="5851440" cy="5163840"/>
            <a:chOff x="1692360" y="1219320"/>
            <a:chExt cx="5851440" cy="5163840"/>
          </a:xfrm>
        </p:grpSpPr>
        <p:sp>
          <p:nvSpPr>
            <p:cNvPr id="189" name="TextBox 89"/>
            <p:cNvSpPr/>
            <p:nvPr/>
          </p:nvSpPr>
          <p:spPr>
            <a:xfrm>
              <a:off x="3565440" y="1973160"/>
              <a:ext cx="21366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0" name="TextBox 90"/>
            <p:cNvSpPr/>
            <p:nvPr/>
          </p:nvSpPr>
          <p:spPr>
            <a:xfrm>
              <a:off x="2628720" y="4014720"/>
              <a:ext cx="3987720" cy="36828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1" name="TextBox 91"/>
            <p:cNvSpPr/>
            <p:nvPr/>
          </p:nvSpPr>
          <p:spPr>
            <a:xfrm>
              <a:off x="2146320" y="5022720"/>
              <a:ext cx="4924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2" name="TextBox 92"/>
            <p:cNvSpPr/>
            <p:nvPr/>
          </p:nvSpPr>
          <p:spPr>
            <a:xfrm>
              <a:off x="1692360" y="6013440"/>
              <a:ext cx="5851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3" name="Isosceles Triangle 85"/>
            <p:cNvSpPr/>
            <p:nvPr/>
          </p:nvSpPr>
          <p:spPr>
            <a:xfrm>
              <a:off x="3565440" y="1219320"/>
              <a:ext cx="2136600" cy="7556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4" name="Trapezoid 86"/>
            <p:cNvSpPr/>
            <p:nvPr/>
          </p:nvSpPr>
          <p:spPr>
            <a:xfrm flipV="1">
              <a:off x="3105000" y="2342160"/>
              <a:ext cx="3065400" cy="639720"/>
            </a:xfrm>
            <a:custGeom>
              <a:avLst/>
              <a:gdLst>
                <a:gd name="textAreaLeft" fmla="*/ 509400 w 3065400"/>
                <a:gd name="textAreaRight" fmla="*/ 2556000 w 3065400"/>
                <a:gd name="textAreaTop" fmla="*/ 106200 h 639720"/>
                <a:gd name="textAreaBottom" fmla="*/ 53352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88" y="21600"/>
                  </a:lnTo>
                  <a:lnTo>
                    <a:pt x="3312" y="2160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5" name="Trapezoid 87"/>
            <p:cNvSpPr/>
            <p:nvPr/>
          </p:nvSpPr>
          <p:spPr>
            <a:xfrm flipV="1">
              <a:off x="2628720" y="3363840"/>
              <a:ext cx="3998880" cy="637920"/>
            </a:xfrm>
            <a:custGeom>
              <a:avLst/>
              <a:gdLst>
                <a:gd name="textAreaLeft" fmla="*/ 584280 w 3998880"/>
                <a:gd name="textAreaRight" fmla="*/ 3414600 w 3998880"/>
                <a:gd name="textAreaTop" fmla="*/ 93240 h 637920"/>
                <a:gd name="textAreaBottom" fmla="*/ 54468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068" y="21600"/>
                  </a:lnTo>
                  <a:lnTo>
                    <a:pt x="2532" y="2160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6" name="Trapezoid 88"/>
            <p:cNvSpPr/>
            <p:nvPr/>
          </p:nvSpPr>
          <p:spPr>
            <a:xfrm flipV="1">
              <a:off x="2146320" y="4382280"/>
              <a:ext cx="4938840" cy="639720"/>
            </a:xfrm>
            <a:custGeom>
              <a:avLst/>
              <a:gdLst>
                <a:gd name="textAreaLeft" fmla="*/ 660960 w 4938840"/>
                <a:gd name="textAreaRight" fmla="*/ 4277880 w 4938840"/>
                <a:gd name="textAreaTop" fmla="*/ 85680 h 639720"/>
                <a:gd name="textAreaBottom" fmla="*/ 55404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545" y="21600"/>
                  </a:lnTo>
                  <a:lnTo>
                    <a:pt x="2055" y="2160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7" name="Trapezoid 89"/>
            <p:cNvSpPr/>
            <p:nvPr/>
          </p:nvSpPr>
          <p:spPr>
            <a:xfrm flipV="1">
              <a:off x="1692360" y="5361480"/>
              <a:ext cx="5851440" cy="639720"/>
            </a:xfrm>
            <a:custGeom>
              <a:avLst/>
              <a:gdLst>
                <a:gd name="textAreaLeft" fmla="*/ 735120 w 5851440"/>
                <a:gd name="textAreaRight" fmla="*/ 5116320 w 5851440"/>
                <a:gd name="textAreaTop" fmla="*/ 80280 h 639720"/>
                <a:gd name="textAreaBottom" fmla="*/ 55944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65" y="21600"/>
                  </a:lnTo>
                  <a:lnTo>
                    <a:pt x="1735" y="2160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8" name="TextBox 98"/>
            <p:cNvSpPr/>
            <p:nvPr/>
          </p:nvSpPr>
          <p:spPr>
            <a:xfrm>
              <a:off x="3105000" y="2994120"/>
              <a:ext cx="30654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99" name="TextBox 63"/>
          <p:cNvSpPr/>
          <p:nvPr/>
        </p:nvSpPr>
        <p:spPr>
          <a:xfrm>
            <a:off x="3971880" y="1979640"/>
            <a:ext cx="1351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alue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TextBox 65"/>
          <p:cNvSpPr/>
          <p:nvPr/>
        </p:nvSpPr>
        <p:spPr>
          <a:xfrm>
            <a:off x="3043080" y="4019400"/>
            <a:ext cx="3203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s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TextBox 66"/>
          <p:cNvSpPr/>
          <p:nvPr/>
        </p:nvSpPr>
        <p:spPr>
          <a:xfrm>
            <a:off x="2614680" y="5029200"/>
            <a:ext cx="40910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ategic goal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TextBox 68"/>
          <p:cNvSpPr/>
          <p:nvPr/>
        </p:nvSpPr>
        <p:spPr>
          <a:xfrm>
            <a:off x="2171880" y="6019920"/>
            <a:ext cx="49924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actic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3505320" y="2987640"/>
            <a:ext cx="2286000" cy="380880"/>
          </a:xfrm>
          <a:prstGeom prst="rect">
            <a:avLst/>
          </a:prstGeom>
          <a:solidFill>
            <a:srgbClr val="3e7fcd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Isosceles Triangle 59"/>
          <p:cNvSpPr/>
          <p:nvPr/>
        </p:nvSpPr>
        <p:spPr>
          <a:xfrm>
            <a:off x="3983040" y="1225440"/>
            <a:ext cx="1339920" cy="75564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Trapezoid 60"/>
          <p:cNvSpPr/>
          <p:nvPr/>
        </p:nvSpPr>
        <p:spPr>
          <a:xfrm flipV="1">
            <a:off x="3505320" y="2347200"/>
            <a:ext cx="2286000" cy="639720"/>
          </a:xfrm>
          <a:custGeom>
            <a:avLst/>
            <a:gdLst>
              <a:gd name="textAreaLeft" fmla="*/ 446040 w 2286000"/>
              <a:gd name="textAreaRight" fmla="*/ 1839960 w 2286000"/>
              <a:gd name="textAreaTop" fmla="*/ 124920 h 639720"/>
              <a:gd name="textAreaBottom" fmla="*/ 51480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61" y="21600"/>
                </a:lnTo>
                <a:lnTo>
                  <a:pt x="4439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Trapezoid 61"/>
          <p:cNvSpPr/>
          <p:nvPr/>
        </p:nvSpPr>
        <p:spPr>
          <a:xfrm flipV="1">
            <a:off x="3043080" y="3368520"/>
            <a:ext cx="3203640" cy="640080"/>
          </a:xfrm>
          <a:custGeom>
            <a:avLst/>
            <a:gdLst>
              <a:gd name="textAreaLeft" fmla="*/ 520560 w 3203640"/>
              <a:gd name="textAreaRight" fmla="*/ 2683080 w 3203640"/>
              <a:gd name="textAreaTop" fmla="*/ 104040 h 640080"/>
              <a:gd name="textAreaBottom" fmla="*/ 536040 h 64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30" y="21600"/>
                </a:lnTo>
                <a:lnTo>
                  <a:pt x="3170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Trapezoid 62"/>
          <p:cNvSpPr/>
          <p:nvPr/>
        </p:nvSpPr>
        <p:spPr>
          <a:xfrm flipV="1">
            <a:off x="2614680" y="4388760"/>
            <a:ext cx="4091040" cy="639720"/>
          </a:xfrm>
          <a:custGeom>
            <a:avLst/>
            <a:gdLst>
              <a:gd name="textAreaLeft" fmla="*/ 578160 w 4091040"/>
              <a:gd name="textAreaRight" fmla="*/ 3512880 w 4091040"/>
              <a:gd name="textAreaTop" fmla="*/ 90360 h 639720"/>
              <a:gd name="textAreaBottom" fmla="*/ 54936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4" y="21600"/>
                </a:lnTo>
                <a:lnTo>
                  <a:pt x="2346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Trapezoid 67"/>
          <p:cNvSpPr/>
          <p:nvPr/>
        </p:nvSpPr>
        <p:spPr>
          <a:xfrm flipV="1">
            <a:off x="2171880" y="5368320"/>
            <a:ext cx="4992480" cy="639720"/>
          </a:xfrm>
          <a:custGeom>
            <a:avLst/>
            <a:gdLst>
              <a:gd name="textAreaLeft" fmla="*/ 658440 w 4992480"/>
              <a:gd name="textAreaRight" fmla="*/ 4334040 w 4992480"/>
              <a:gd name="textAreaTop" fmla="*/ 84240 h 639720"/>
              <a:gd name="textAreaBottom" fmla="*/ 5554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1" y="21600"/>
                </a:lnTo>
                <a:lnTo>
                  <a:pt x="1979" y="216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TextBox 64"/>
          <p:cNvSpPr/>
          <p:nvPr/>
        </p:nvSpPr>
        <p:spPr>
          <a:xfrm>
            <a:off x="3505320" y="2998800"/>
            <a:ext cx="2286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027320" y="159840"/>
            <a:ext cx="1257480" cy="1580040"/>
            <a:chOff x="4027320" y="159840"/>
            <a:chExt cx="1257480" cy="1580040"/>
          </a:xfrm>
        </p:grpSpPr>
        <p:sp>
          <p:nvSpPr>
            <p:cNvPr id="211" name="Oval 5"/>
            <p:cNvSpPr/>
            <p:nvPr/>
          </p:nvSpPr>
          <p:spPr>
            <a:xfrm>
              <a:off x="4027320" y="482760"/>
              <a:ext cx="1257480" cy="125712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2" name="Ellipse 43"/>
            <p:cNvSpPr/>
            <p:nvPr/>
          </p:nvSpPr>
          <p:spPr>
            <a:xfrm>
              <a:off x="4127760" y="591480"/>
              <a:ext cx="1056600" cy="105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4130640" y="591480"/>
              <a:ext cx="1050480" cy="1049400"/>
            </a:xfrm>
            <a:prstGeom prst="ellipse">
              <a:avLst/>
            </a:prstGeom>
            <a:solidFill>
              <a:srgbClr val="bfbfbf"/>
            </a:solidFill>
            <a:ln w="792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4" name="Måne 120"/>
            <p:cNvSpPr/>
            <p:nvPr/>
          </p:nvSpPr>
          <p:spPr>
            <a:xfrm rot="16551600">
              <a:off x="4428000" y="906120"/>
              <a:ext cx="455400" cy="97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85" y="963"/>
                    <a:pt x="5370" y="5080"/>
                    <a:pt x="5370" y="10800"/>
                  </a:cubicBezTo>
                  <a:cubicBezTo>
                    <a:pt x="5370" y="16520"/>
                    <a:pt x="13485" y="206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188600" y="645840"/>
              <a:ext cx="934560" cy="936000"/>
              <a:chOff x="4188600" y="645840"/>
              <a:chExt cx="934560" cy="9360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678560" y="645840"/>
                <a:ext cx="1080" cy="936000"/>
                <a:chOff x="4678560" y="645840"/>
                <a:chExt cx="1080" cy="936000"/>
              </a:xfrm>
            </p:grpSpPr>
            <p:sp>
              <p:nvSpPr>
                <p:cNvPr id="217" name="Straight Connector 55"/>
                <p:cNvSpPr/>
                <p:nvPr/>
              </p:nvSpPr>
              <p:spPr>
                <a:xfrm flipH="1">
                  <a:off x="4678560" y="1502640"/>
                  <a:ext cx="108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18" name="Straight Connector 56"/>
                <p:cNvSpPr/>
                <p:nvPr/>
              </p:nvSpPr>
              <p:spPr>
                <a:xfrm flipH="1">
                  <a:off x="4678560" y="645840"/>
                  <a:ext cx="108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188600" y="1114560"/>
                <a:ext cx="934560" cy="3240"/>
                <a:chOff x="4188600" y="1114560"/>
                <a:chExt cx="934560" cy="3240"/>
              </a:xfrm>
            </p:grpSpPr>
            <p:sp>
              <p:nvSpPr>
                <p:cNvPr id="220" name="Straight Connector 53"/>
                <p:cNvSpPr/>
                <p:nvPr/>
              </p:nvSpPr>
              <p:spPr>
                <a:xfrm>
                  <a:off x="5043960" y="1116720"/>
                  <a:ext cx="79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21" name="Straight Connector 18"/>
                <p:cNvSpPr/>
                <p:nvPr/>
              </p:nvSpPr>
              <p:spPr>
                <a:xfrm>
                  <a:off x="4188600" y="1114560"/>
                  <a:ext cx="79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4253040" y="705960"/>
              <a:ext cx="807120" cy="806400"/>
              <a:chOff x="4253040" y="705960"/>
              <a:chExt cx="807120" cy="80640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4420440" y="705960"/>
                <a:ext cx="493200" cy="806400"/>
                <a:chOff x="4420440" y="705960"/>
                <a:chExt cx="493200" cy="806400"/>
              </a:xfrm>
            </p:grpSpPr>
            <p:sp>
              <p:nvSpPr>
                <p:cNvPr id="224" name="Straight Connector 33"/>
                <p:cNvSpPr/>
                <p:nvPr/>
              </p:nvSpPr>
              <p:spPr>
                <a:xfrm>
                  <a:off x="4885920" y="1465920"/>
                  <a:ext cx="2772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25" name="Straight Connector 50"/>
                <p:cNvSpPr/>
                <p:nvPr/>
              </p:nvSpPr>
              <p:spPr>
                <a:xfrm>
                  <a:off x="4420440" y="705960"/>
                  <a:ext cx="2772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253040" y="871200"/>
                <a:ext cx="807120" cy="492840"/>
                <a:chOff x="4253040" y="871200"/>
                <a:chExt cx="807120" cy="492840"/>
              </a:xfrm>
            </p:grpSpPr>
            <p:sp>
              <p:nvSpPr>
                <p:cNvPr id="227" name="Straight Connector 47"/>
                <p:cNvSpPr/>
                <p:nvPr/>
              </p:nvSpPr>
              <p:spPr>
                <a:xfrm flipV="1">
                  <a:off x="5014080" y="871200"/>
                  <a:ext cx="4608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32"/>
                <p:cNvSpPr/>
                <p:nvPr/>
              </p:nvSpPr>
              <p:spPr>
                <a:xfrm flipV="1">
                  <a:off x="4253040" y="1335960"/>
                  <a:ext cx="4608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4247640" y="703800"/>
              <a:ext cx="830880" cy="830520"/>
              <a:chOff x="4247640" y="703800"/>
              <a:chExt cx="830880" cy="8305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247640" y="874440"/>
                <a:ext cx="830880" cy="452520"/>
                <a:chOff x="4247640" y="874440"/>
                <a:chExt cx="830880" cy="452520"/>
              </a:xfrm>
            </p:grpSpPr>
            <p:sp>
              <p:nvSpPr>
                <p:cNvPr id="231" name="Straight Connector 43"/>
                <p:cNvSpPr/>
                <p:nvPr/>
              </p:nvSpPr>
              <p:spPr>
                <a:xfrm>
                  <a:off x="5031720" y="1300320"/>
                  <a:ext cx="46800" cy="2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44"/>
                <p:cNvSpPr/>
                <p:nvPr/>
              </p:nvSpPr>
              <p:spPr>
                <a:xfrm>
                  <a:off x="4247640" y="874440"/>
                  <a:ext cx="47160" cy="2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429440" y="703800"/>
                <a:ext cx="451800" cy="830520"/>
                <a:chOff x="4429440" y="703800"/>
                <a:chExt cx="451800" cy="830520"/>
              </a:xfrm>
            </p:grpSpPr>
            <p:sp>
              <p:nvSpPr>
                <p:cNvPr id="234" name="Straight Connector 41"/>
                <p:cNvSpPr/>
                <p:nvPr/>
              </p:nvSpPr>
              <p:spPr>
                <a:xfrm flipV="1">
                  <a:off x="4854600" y="703800"/>
                  <a:ext cx="26640" cy="47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35" name="Straight Connector 42"/>
                <p:cNvSpPr/>
                <p:nvPr/>
              </p:nvSpPr>
              <p:spPr>
                <a:xfrm flipV="1">
                  <a:off x="4429440" y="1487160"/>
                  <a:ext cx="26640" cy="47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Block Arc 12"/>
            <p:cNvSpPr/>
            <p:nvPr/>
          </p:nvSpPr>
          <p:spPr>
            <a:xfrm rot="16908600">
              <a:off x="4524840" y="183960"/>
              <a:ext cx="261720" cy="2610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68300" h="366713">
                  <a:moveTo>
                    <a:pt x="0" y="183357"/>
                  </a:moveTo>
                  <a:lnTo>
                    <a:pt x="0" y="183357"/>
                  </a:lnTo>
                  <a:cubicBezTo>
                    <a:pt x="0" y="82091"/>
                    <a:pt x="82446" y="0"/>
                    <a:pt x="184150" y="0"/>
                  </a:cubicBezTo>
                  <a:cubicBezTo>
                    <a:pt x="285853" y="0"/>
                    <a:pt x="368300" y="82091"/>
                    <a:pt x="368300" y="183357"/>
                  </a:cubicBezTo>
                  <a:cubicBezTo>
                    <a:pt x="368300" y="284622"/>
                    <a:pt x="285853" y="366714"/>
                    <a:pt x="184150" y="366714"/>
                  </a:cubicBezTo>
                  <a:cubicBezTo>
                    <a:pt x="103740" y="366714"/>
                    <a:pt x="32628" y="314766"/>
                    <a:pt x="8491" y="238395"/>
                  </a:cubicBezTo>
                  <a:lnTo>
                    <a:pt x="23998" y="233536"/>
                  </a:lnTo>
                  <a:lnTo>
                    <a:pt x="23997" y="233536"/>
                  </a:lnTo>
                  <a:cubicBezTo>
                    <a:pt x="46010" y="303129"/>
                    <a:pt x="110842" y="350464"/>
                    <a:pt x="184150" y="350464"/>
                  </a:cubicBezTo>
                  <a:cubicBezTo>
                    <a:pt x="276879" y="350464"/>
                    <a:pt x="352051" y="275647"/>
                    <a:pt x="352051" y="183357"/>
                  </a:cubicBezTo>
                  <a:cubicBezTo>
                    <a:pt x="352051" y="91066"/>
                    <a:pt x="276879" y="16250"/>
                    <a:pt x="184150" y="16250"/>
                  </a:cubicBezTo>
                  <a:cubicBezTo>
                    <a:pt x="91420" y="16250"/>
                    <a:pt x="16249" y="91066"/>
                    <a:pt x="16249" y="183357"/>
                  </a:cubicBezTo>
                  <a:lnTo>
                    <a:pt x="0" y="183357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4618080" y="393840"/>
              <a:ext cx="75960" cy="8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17200" y="871920"/>
              <a:ext cx="525960" cy="523440"/>
              <a:chOff x="4417200" y="871920"/>
              <a:chExt cx="525960" cy="5234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417200" y="871920"/>
                <a:ext cx="525960" cy="523440"/>
                <a:chOff x="4417200" y="871920"/>
                <a:chExt cx="525960" cy="523440"/>
              </a:xfrm>
            </p:grpSpPr>
            <p:sp>
              <p:nvSpPr>
                <p:cNvPr id="240" name="Isosceles Triangle 34"/>
                <p:cNvSpPr/>
                <p:nvPr/>
              </p:nvSpPr>
              <p:spPr>
                <a:xfrm>
                  <a:off x="4624200" y="8719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41" name="Isosceles Triangle 35"/>
                <p:cNvSpPr/>
                <p:nvPr/>
              </p:nvSpPr>
              <p:spPr>
                <a:xfrm flipV="1">
                  <a:off x="4624200" y="11347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4417200" y="1076400"/>
                  <a:ext cx="525960" cy="113760"/>
                  <a:chOff x="4417200" y="1076400"/>
                  <a:chExt cx="525960" cy="113760"/>
                </a:xfrm>
              </p:grpSpPr>
              <p:sp>
                <p:nvSpPr>
                  <p:cNvPr id="243" name="Isosceles Triangle 37"/>
                  <p:cNvSpPr/>
                  <p:nvPr/>
                </p:nvSpPr>
                <p:spPr>
                  <a:xfrm rot="16200000">
                    <a:off x="4492440" y="100080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Isosceles Triangle 38"/>
                  <p:cNvSpPr/>
                  <p:nvPr/>
                </p:nvSpPr>
                <p:spPr>
                  <a:xfrm flipV="1" rot="16200000">
                    <a:off x="4756680" y="100368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4529880" y="981360"/>
                <a:ext cx="302040" cy="303840"/>
                <a:chOff x="4529880" y="981360"/>
                <a:chExt cx="302040" cy="303840"/>
              </a:xfrm>
            </p:grpSpPr>
            <p:sp>
              <p:nvSpPr>
                <p:cNvPr id="246" name="Isosceles Triangle 29"/>
                <p:cNvSpPr/>
                <p:nvPr/>
              </p:nvSpPr>
              <p:spPr>
                <a:xfrm rot="18900000">
                  <a:off x="4580280" y="98244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47" name="Isosceles Triangle 30"/>
                <p:cNvSpPr/>
                <p:nvPr/>
              </p:nvSpPr>
              <p:spPr>
                <a:xfrm flipV="1" rot="18900000">
                  <a:off x="4704120" y="110772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4531320" y="982800"/>
                  <a:ext cx="300600" cy="302400"/>
                  <a:chOff x="4531320" y="982800"/>
                  <a:chExt cx="300600" cy="302400"/>
                </a:xfrm>
              </p:grpSpPr>
              <p:sp>
                <p:nvSpPr>
                  <p:cNvPr id="249" name="Isosceles Triangle 32"/>
                  <p:cNvSpPr/>
                  <p:nvPr/>
                </p:nvSpPr>
                <p:spPr>
                  <a:xfrm rot="13500000">
                    <a:off x="4582440" y="1108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Isosceles Triangle 33"/>
                  <p:cNvSpPr/>
                  <p:nvPr/>
                </p:nvSpPr>
                <p:spPr>
                  <a:xfrm flipV="1" rot="13500000">
                    <a:off x="4706640" y="982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4634280" y="777240"/>
              <a:ext cx="87480" cy="678600"/>
              <a:chOff x="4634280" y="777240"/>
              <a:chExt cx="87480" cy="67860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4652640" y="777240"/>
                <a:ext cx="51840" cy="678600"/>
                <a:chOff x="4652640" y="777240"/>
                <a:chExt cx="51840" cy="678600"/>
              </a:xfrm>
            </p:grpSpPr>
            <p:sp>
              <p:nvSpPr>
                <p:cNvPr id="253" name="Isosceles Triangle 25"/>
                <p:cNvSpPr/>
                <p:nvPr/>
              </p:nvSpPr>
              <p:spPr>
                <a:xfrm flipH="1" rot="10800000">
                  <a:off x="4652640" y="111816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254" name="Isosceles Triangle 26"/>
                <p:cNvSpPr/>
                <p:nvPr/>
              </p:nvSpPr>
              <p:spPr>
                <a:xfrm flipH="1" flipV="1" rot="10800000">
                  <a:off x="4654080" y="77724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Oval 13"/>
              <p:cNvSpPr/>
              <p:nvPr/>
            </p:nvSpPr>
            <p:spPr>
              <a:xfrm flipH="1" rot="10800000">
                <a:off x="4633920" y="1085760"/>
                <a:ext cx="87480" cy="87480"/>
              </a:xfrm>
              <a:prstGeom prst="ellipse">
                <a:avLst/>
              </a:prstGeom>
              <a:solidFill>
                <a:srgbClr val="0c0c0c"/>
              </a:solidFill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256" name="Oval 24"/>
              <p:cNvSpPr/>
              <p:nvPr/>
            </p:nvSpPr>
            <p:spPr>
              <a:xfrm flipH="1" rot="10800000">
                <a:off x="4660560" y="1110960"/>
                <a:ext cx="37800" cy="378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257" name="TextBox 166"/>
            <p:cNvSpPr/>
            <p:nvPr/>
          </p:nvSpPr>
          <p:spPr>
            <a:xfrm>
              <a:off x="4571280" y="6861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58" name="TextBox 167"/>
            <p:cNvSpPr/>
            <p:nvPr/>
          </p:nvSpPr>
          <p:spPr>
            <a:xfrm>
              <a:off x="4571280" y="132732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59" name="TextBox 168"/>
            <p:cNvSpPr/>
            <p:nvPr/>
          </p:nvSpPr>
          <p:spPr>
            <a:xfrm>
              <a:off x="488628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0" name="TextBox 169"/>
            <p:cNvSpPr/>
            <p:nvPr/>
          </p:nvSpPr>
          <p:spPr>
            <a:xfrm>
              <a:off x="422424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1" name="Ellipse 45"/>
            <p:cNvSpPr/>
            <p:nvPr/>
          </p:nvSpPr>
          <p:spPr>
            <a:xfrm>
              <a:off x="4248000" y="683640"/>
              <a:ext cx="856440" cy="712080"/>
            </a:xfrm>
            <a:prstGeom prst="ellipse">
              <a:avLst/>
            </a:pr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62" name="TextBox 76"/>
          <p:cNvSpPr/>
          <p:nvPr/>
        </p:nvSpPr>
        <p:spPr>
          <a:xfrm>
            <a:off x="2811600" y="5481720"/>
            <a:ext cx="38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TextBox 77"/>
          <p:cNvSpPr/>
          <p:nvPr/>
        </p:nvSpPr>
        <p:spPr>
          <a:xfrm>
            <a:off x="3043080" y="44956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4" name="TextBox 78"/>
          <p:cNvSpPr/>
          <p:nvPr/>
        </p:nvSpPr>
        <p:spPr>
          <a:xfrm>
            <a:off x="3505320" y="3500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5" name="TextBox 79"/>
          <p:cNvSpPr/>
          <p:nvPr/>
        </p:nvSpPr>
        <p:spPr>
          <a:xfrm>
            <a:off x="3971880" y="243828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6" name="TextBox 80"/>
          <p:cNvSpPr/>
          <p:nvPr/>
        </p:nvSpPr>
        <p:spPr>
          <a:xfrm>
            <a:off x="3951360" y="1701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1143000" y="60022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arallelogram 96"/>
          <p:cNvSpPr/>
          <p:nvPr/>
        </p:nvSpPr>
        <p:spPr>
          <a:xfrm>
            <a:off x="1143000" y="536256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Rectangle 97"/>
          <p:cNvSpPr/>
          <p:nvPr/>
        </p:nvSpPr>
        <p:spPr>
          <a:xfrm>
            <a:off x="1611360" y="49816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0" name="Parallelogram 98"/>
          <p:cNvSpPr/>
          <p:nvPr/>
        </p:nvSpPr>
        <p:spPr>
          <a:xfrm>
            <a:off x="1611360" y="4343400"/>
            <a:ext cx="850680" cy="639720"/>
          </a:xfrm>
          <a:prstGeom prst="parallelogram">
            <a:avLst>
              <a:gd name="adj" fmla="val 74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1" name="Rectangle 99"/>
          <p:cNvSpPr/>
          <p:nvPr/>
        </p:nvSpPr>
        <p:spPr>
          <a:xfrm>
            <a:off x="2081160" y="396252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2" name="Parallelogram 100"/>
          <p:cNvSpPr/>
          <p:nvPr/>
        </p:nvSpPr>
        <p:spPr>
          <a:xfrm>
            <a:off x="2081160" y="3322800"/>
            <a:ext cx="849240" cy="639720"/>
          </a:xfrm>
          <a:prstGeom prst="parallelogram">
            <a:avLst>
              <a:gd name="adj" fmla="val 7494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Rectangle 101"/>
          <p:cNvSpPr/>
          <p:nvPr/>
        </p:nvSpPr>
        <p:spPr>
          <a:xfrm>
            <a:off x="2549520" y="2941560"/>
            <a:ext cx="38088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4" name="Parallelogram 102"/>
          <p:cNvSpPr/>
          <p:nvPr/>
        </p:nvSpPr>
        <p:spPr>
          <a:xfrm>
            <a:off x="2549520" y="230184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Up Arrow 104"/>
          <p:cNvSpPr/>
          <p:nvPr/>
        </p:nvSpPr>
        <p:spPr>
          <a:xfrm>
            <a:off x="2851200" y="1225440"/>
            <a:ext cx="730080" cy="1081080"/>
          </a:xfrm>
          <a:prstGeom prst="up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009880" y="6019920"/>
            <a:ext cx="287640" cy="307080"/>
            <a:chOff x="2009880" y="6019920"/>
            <a:chExt cx="287640" cy="307080"/>
          </a:xfrm>
        </p:grpSpPr>
        <p:sp>
          <p:nvSpPr>
            <p:cNvPr id="277" name="Ellipse 53"/>
            <p:cNvSpPr/>
            <p:nvPr/>
          </p:nvSpPr>
          <p:spPr>
            <a:xfrm>
              <a:off x="2009880" y="604980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78" name="Tekstboks 54"/>
            <p:cNvSpPr/>
            <p:nvPr/>
          </p:nvSpPr>
          <p:spPr>
            <a:xfrm>
              <a:off x="2014560" y="6019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490840" y="5060880"/>
            <a:ext cx="287640" cy="307080"/>
            <a:chOff x="2490840" y="5060880"/>
            <a:chExt cx="287640" cy="307080"/>
          </a:xfrm>
        </p:grpSpPr>
        <p:sp>
          <p:nvSpPr>
            <p:cNvPr id="280" name="Ellipse 53"/>
            <p:cNvSpPr/>
            <p:nvPr/>
          </p:nvSpPr>
          <p:spPr>
            <a:xfrm>
              <a:off x="2490840" y="5090760"/>
              <a:ext cx="27216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81" name="Tekstboks 54"/>
            <p:cNvSpPr/>
            <p:nvPr/>
          </p:nvSpPr>
          <p:spPr>
            <a:xfrm>
              <a:off x="2495520" y="50608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05200" y="4035600"/>
            <a:ext cx="287640" cy="307080"/>
            <a:chOff x="2905200" y="4035600"/>
            <a:chExt cx="287640" cy="307080"/>
          </a:xfrm>
        </p:grpSpPr>
        <p:sp>
          <p:nvSpPr>
            <p:cNvPr id="283" name="Ellipse 53"/>
            <p:cNvSpPr/>
            <p:nvPr/>
          </p:nvSpPr>
          <p:spPr>
            <a:xfrm>
              <a:off x="2905200" y="406548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84" name="Tekstboks 54"/>
            <p:cNvSpPr/>
            <p:nvPr/>
          </p:nvSpPr>
          <p:spPr>
            <a:xfrm>
              <a:off x="2909880" y="4035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367080" y="3014640"/>
            <a:ext cx="286920" cy="307080"/>
            <a:chOff x="3367080" y="3014640"/>
            <a:chExt cx="286920" cy="307080"/>
          </a:xfrm>
        </p:grpSpPr>
        <p:sp>
          <p:nvSpPr>
            <p:cNvPr id="286" name="Ellipse 53"/>
            <p:cNvSpPr/>
            <p:nvPr/>
          </p:nvSpPr>
          <p:spPr>
            <a:xfrm>
              <a:off x="3367080" y="304452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87" name="Tekstboks 54"/>
            <p:cNvSpPr/>
            <p:nvPr/>
          </p:nvSpPr>
          <p:spPr>
            <a:xfrm>
              <a:off x="3371040" y="3014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833640" y="1998720"/>
            <a:ext cx="286920" cy="307080"/>
            <a:chOff x="3833640" y="1998720"/>
            <a:chExt cx="286920" cy="307080"/>
          </a:xfrm>
        </p:grpSpPr>
        <p:sp>
          <p:nvSpPr>
            <p:cNvPr id="289" name="Ellipse 53"/>
            <p:cNvSpPr/>
            <p:nvPr/>
          </p:nvSpPr>
          <p:spPr>
            <a:xfrm>
              <a:off x="3833640" y="202860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90" name="Tekstboks 54"/>
            <p:cNvSpPr/>
            <p:nvPr/>
          </p:nvSpPr>
          <p:spPr>
            <a:xfrm>
              <a:off x="3837600" y="1998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F75-5388-4A5E-9318-9C0541946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029200" y="4721400"/>
            <a:ext cx="214632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66560" y="3716280"/>
            <a:ext cx="821088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466560" y="3208320"/>
            <a:ext cx="8210880" cy="5763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6560" y="3208320"/>
            <a:ext cx="5905800" cy="576360"/>
          </a:xfrm>
          <a:prstGeom prst="roundRect">
            <a:avLst>
              <a:gd name="adj" fmla="val 50000"/>
            </a:avLst>
          </a:prstGeom>
          <a:solidFill>
            <a:srgbClr val="00589a"/>
          </a:solidFill>
          <a:ln w="9360">
            <a:solidFill>
              <a:srgbClr val="005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700200" y="3208320"/>
            <a:ext cx="7759440" cy="73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24000" y="1913040"/>
            <a:ext cx="5976720" cy="1871280"/>
            <a:chOff x="2124000" y="1913040"/>
            <a:chExt cx="5976720" cy="1871280"/>
          </a:xfrm>
        </p:grpSpPr>
        <p:grpSp>
          <p:nvGrpSpPr>
            <p:cNvPr id="299" name=""/>
            <p:cNvGrpSpPr/>
            <p:nvPr/>
          </p:nvGrpSpPr>
          <p:grpSpPr>
            <a:xfrm>
              <a:off x="2124000" y="1913040"/>
              <a:ext cx="1080" cy="1871280"/>
              <a:chOff x="2124000" y="1913040"/>
              <a:chExt cx="1080" cy="1871280"/>
            </a:xfrm>
          </p:grpSpPr>
          <p:sp>
            <p:nvSpPr>
              <p:cNvPr id="300" name="Line 7"/>
              <p:cNvSpPr/>
              <p:nvPr/>
            </p:nvSpPr>
            <p:spPr>
              <a:xfrm>
                <a:off x="212400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212400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617640" y="1913040"/>
              <a:ext cx="1080" cy="1871280"/>
              <a:chOff x="3617640" y="1913040"/>
              <a:chExt cx="1080" cy="1871280"/>
            </a:xfrm>
          </p:grpSpPr>
          <p:sp>
            <p:nvSpPr>
              <p:cNvPr id="303" name="Line 8"/>
              <p:cNvSpPr/>
              <p:nvPr/>
            </p:nvSpPr>
            <p:spPr>
              <a:xfrm>
                <a:off x="3617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3617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110920" y="1913040"/>
              <a:ext cx="1440" cy="1871280"/>
              <a:chOff x="5110920" y="1913040"/>
              <a:chExt cx="1440" cy="1871280"/>
            </a:xfrm>
          </p:grpSpPr>
          <p:sp>
            <p:nvSpPr>
              <p:cNvPr id="306" name="Line 9"/>
              <p:cNvSpPr/>
              <p:nvPr/>
            </p:nvSpPr>
            <p:spPr>
              <a:xfrm>
                <a:off x="5110920" y="1913040"/>
                <a:ext cx="144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5110920" y="1913040"/>
                <a:ext cx="144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604560" y="1913040"/>
              <a:ext cx="1080" cy="1871280"/>
              <a:chOff x="6604560" y="1913040"/>
              <a:chExt cx="1080" cy="1871280"/>
            </a:xfrm>
          </p:grpSpPr>
          <p:sp>
            <p:nvSpPr>
              <p:cNvPr id="309" name="Line 10"/>
              <p:cNvSpPr/>
              <p:nvPr/>
            </p:nvSpPr>
            <p:spPr>
              <a:xfrm>
                <a:off x="660456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660456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099640" y="1913040"/>
              <a:ext cx="1080" cy="1871280"/>
              <a:chOff x="8099640" y="1913040"/>
              <a:chExt cx="1080" cy="1871280"/>
            </a:xfrm>
          </p:grpSpPr>
          <p:sp>
            <p:nvSpPr>
              <p:cNvPr id="312" name="Line 11"/>
              <p:cNvSpPr/>
              <p:nvPr/>
            </p:nvSpPr>
            <p:spPr>
              <a:xfrm>
                <a:off x="8099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8099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WordArt 12"/>
          <p:cNvSpPr/>
          <p:nvPr/>
        </p:nvSpPr>
        <p:spPr>
          <a:xfrm>
            <a:off x="1303200" y="1913040"/>
            <a:ext cx="776520" cy="272880"/>
          </a:xfrm>
          <a:custGeom>
            <a:avLst/>
            <a:gdLst>
              <a:gd name="textAreaLeft" fmla="*/ 0 w 776520"/>
              <a:gd name="textAreaRight" fmla="*/ 776880 w 77652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5" name="WordArt 13"/>
          <p:cNvSpPr/>
          <p:nvPr/>
        </p:nvSpPr>
        <p:spPr>
          <a:xfrm>
            <a:off x="2787480" y="1913040"/>
            <a:ext cx="776520" cy="272880"/>
          </a:xfrm>
          <a:custGeom>
            <a:avLst/>
            <a:gdLst>
              <a:gd name="textAreaLeft" fmla="*/ 0 w 776520"/>
              <a:gd name="textAreaRight" fmla="*/ 776880 w 77652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6" name="WordArt 14"/>
          <p:cNvSpPr/>
          <p:nvPr/>
        </p:nvSpPr>
        <p:spPr>
          <a:xfrm>
            <a:off x="4281480" y="1913040"/>
            <a:ext cx="776160" cy="272880"/>
          </a:xfrm>
          <a:custGeom>
            <a:avLst/>
            <a:gdLst>
              <a:gd name="textAreaLeft" fmla="*/ 0 w 776160"/>
              <a:gd name="textAreaRight" fmla="*/ 776520 w 77616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7" name="WordArt 15"/>
          <p:cNvSpPr/>
          <p:nvPr/>
        </p:nvSpPr>
        <p:spPr>
          <a:xfrm>
            <a:off x="5775480" y="1913040"/>
            <a:ext cx="776160" cy="272880"/>
          </a:xfrm>
          <a:custGeom>
            <a:avLst/>
            <a:gdLst>
              <a:gd name="textAreaLeft" fmla="*/ 0 w 776160"/>
              <a:gd name="textAreaRight" fmla="*/ 776520 w 77616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WordArt 16"/>
          <p:cNvSpPr/>
          <p:nvPr/>
        </p:nvSpPr>
        <p:spPr>
          <a:xfrm>
            <a:off x="7277040" y="1913040"/>
            <a:ext cx="776520" cy="272880"/>
          </a:xfrm>
          <a:custGeom>
            <a:avLst/>
            <a:gdLst>
              <a:gd name="textAreaLeft" fmla="*/ 0 w 776520"/>
              <a:gd name="textAreaRight" fmla="*/ 776880 w 77652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>
            <a:off x="5029200" y="3855960"/>
            <a:ext cx="2158920" cy="936720"/>
          </a:xfrm>
          <a:prstGeom prst="upArrowCallout">
            <a:avLst>
              <a:gd name="adj1" fmla="val 69149"/>
              <a:gd name="adj2" fmla="val 34571"/>
              <a:gd name="adj3" fmla="val 12713"/>
              <a:gd name="adj4" fmla="val 25421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116892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268020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Rectangle 20"/>
          <p:cNvSpPr/>
          <p:nvPr/>
        </p:nvSpPr>
        <p:spPr>
          <a:xfrm>
            <a:off x="417384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Rectangle 21"/>
          <p:cNvSpPr/>
          <p:nvPr/>
        </p:nvSpPr>
        <p:spPr>
          <a:xfrm>
            <a:off x="716148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2174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169236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32036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4697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6191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EEF-4274-4C09-A214-7C5C1DFC46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4"/>
          <p:cNvSpPr/>
          <p:nvPr/>
        </p:nvSpPr>
        <p:spPr>
          <a:xfrm>
            <a:off x="0" y="-38160"/>
            <a:ext cx="9144000" cy="2193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74240" y="115920"/>
            <a:ext cx="9142920" cy="5218200"/>
            <a:chOff x="174240" y="115920"/>
            <a:chExt cx="9142920" cy="5218200"/>
          </a:xfrm>
        </p:grpSpPr>
        <p:grpSp>
          <p:nvGrpSpPr>
            <p:cNvPr id="332" name=""/>
            <p:cNvGrpSpPr/>
            <p:nvPr/>
          </p:nvGrpSpPr>
          <p:grpSpPr>
            <a:xfrm>
              <a:off x="4776120" y="275760"/>
              <a:ext cx="947520" cy="947880"/>
              <a:chOff x="4776120" y="275760"/>
              <a:chExt cx="947520" cy="947880"/>
            </a:xfrm>
          </p:grpSpPr>
          <p:sp>
            <p:nvSpPr>
              <p:cNvPr id="333" name="Rektangel 40"/>
              <p:cNvSpPr/>
              <p:nvPr/>
            </p:nvSpPr>
            <p:spPr>
              <a:xfrm rot="13200">
                <a:off x="4777560" y="277560"/>
                <a:ext cx="943920" cy="94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34" name="Billede 8" descr=""/>
              <p:cNvPicPr/>
              <p:nvPr/>
            </p:nvPicPr>
            <p:blipFill>
              <a:blip r:embed="rId1"/>
              <a:srcRect l="0" t="0" r="0" b="6929"/>
              <a:stretch/>
            </p:blipFill>
            <p:spPr>
              <a:xfrm rot="24000">
                <a:off x="4822920" y="311040"/>
                <a:ext cx="865440" cy="77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4311000" y="355320"/>
              <a:ext cx="1028160" cy="1027800"/>
              <a:chOff x="4311000" y="355320"/>
              <a:chExt cx="1028160" cy="1027800"/>
            </a:xfrm>
          </p:grpSpPr>
          <p:sp>
            <p:nvSpPr>
              <p:cNvPr id="336" name="Rektangel 40"/>
              <p:cNvSpPr/>
              <p:nvPr/>
            </p:nvSpPr>
            <p:spPr>
              <a:xfrm rot="93000">
                <a:off x="4323960" y="368640"/>
                <a:ext cx="1001520" cy="10011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37" name="Billede 22" descr=""/>
              <p:cNvPicPr/>
              <p:nvPr/>
            </p:nvPicPr>
            <p:blipFill>
              <a:blip r:embed="rId2">
                <a:lum bright="18000"/>
              </a:blip>
              <a:srcRect l="0" t="0" r="0" b="16528"/>
              <a:stretch/>
            </p:blipFill>
            <p:spPr>
              <a:xfrm rot="63000">
                <a:off x="4356720" y="405360"/>
                <a:ext cx="940320" cy="758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8" name=""/>
            <p:cNvGrpSpPr/>
            <p:nvPr/>
          </p:nvGrpSpPr>
          <p:grpSpPr>
            <a:xfrm>
              <a:off x="3791160" y="474840"/>
              <a:ext cx="1137240" cy="1136880"/>
              <a:chOff x="3791160" y="474840"/>
              <a:chExt cx="1137240" cy="1136880"/>
            </a:xfrm>
          </p:grpSpPr>
          <p:sp>
            <p:nvSpPr>
              <p:cNvPr id="339" name="Rektangel 40"/>
              <p:cNvSpPr/>
              <p:nvPr/>
            </p:nvSpPr>
            <p:spPr>
              <a:xfrm rot="66600">
                <a:off x="3801600" y="485280"/>
                <a:ext cx="1116000" cy="111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40" name="Billede 10" descr=""/>
              <p:cNvPicPr/>
              <p:nvPr/>
            </p:nvPicPr>
            <p:blipFill>
              <a:blip r:embed="rId3"/>
              <a:srcRect l="11895" t="0" r="12483" b="2981"/>
              <a:stretch/>
            </p:blipFill>
            <p:spPr>
              <a:xfrm rot="75000">
                <a:off x="3857400" y="522360"/>
                <a:ext cx="101808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1" name=""/>
            <p:cNvGrpSpPr/>
            <p:nvPr/>
          </p:nvGrpSpPr>
          <p:grpSpPr>
            <a:xfrm>
              <a:off x="3319560" y="600480"/>
              <a:ext cx="1254240" cy="1254240"/>
              <a:chOff x="3319560" y="600480"/>
              <a:chExt cx="1254240" cy="1254240"/>
            </a:xfrm>
          </p:grpSpPr>
          <p:sp>
            <p:nvSpPr>
              <p:cNvPr id="342" name="Rektangel 40"/>
              <p:cNvSpPr/>
              <p:nvPr/>
            </p:nvSpPr>
            <p:spPr>
              <a:xfrm rot="13200">
                <a:off x="3321720" y="602640"/>
                <a:ext cx="1249560" cy="1249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43" name="Billede 6" descr=""/>
              <p:cNvPicPr/>
              <p:nvPr/>
            </p:nvPicPr>
            <p:blipFill>
              <a:blip r:embed="rId4"/>
              <a:srcRect l="13817" t="3626" r="18272" b="12556"/>
              <a:stretch/>
            </p:blipFill>
            <p:spPr>
              <a:xfrm>
                <a:off x="3404520" y="652320"/>
                <a:ext cx="10821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4" name=""/>
            <p:cNvGrpSpPr/>
            <p:nvPr/>
          </p:nvGrpSpPr>
          <p:grpSpPr>
            <a:xfrm>
              <a:off x="2967120" y="814320"/>
              <a:ext cx="1238400" cy="1238400"/>
              <a:chOff x="2967120" y="814320"/>
              <a:chExt cx="1238400" cy="1238400"/>
            </a:xfrm>
          </p:grpSpPr>
          <p:sp>
            <p:nvSpPr>
              <p:cNvPr id="345" name="Rektangel 40"/>
              <p:cNvSpPr/>
              <p:nvPr/>
            </p:nvSpPr>
            <p:spPr>
              <a:xfrm rot="48000">
                <a:off x="2975400" y="822600"/>
                <a:ext cx="1221480" cy="1221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46" name="Billede 45" descr=""/>
              <p:cNvPicPr/>
              <p:nvPr/>
            </p:nvPicPr>
            <p:blipFill>
              <a:blip r:embed="rId5"/>
              <a:srcRect l="21126" t="0" r="0" b="0"/>
              <a:stretch/>
            </p:blipFill>
            <p:spPr>
              <a:xfrm rot="77400">
                <a:off x="3020040" y="882000"/>
                <a:ext cx="1106640" cy="93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7" name=""/>
            <p:cNvGrpSpPr/>
            <p:nvPr/>
          </p:nvGrpSpPr>
          <p:grpSpPr>
            <a:xfrm>
              <a:off x="2560320" y="1034280"/>
              <a:ext cx="1272960" cy="1272600"/>
              <a:chOff x="2560320" y="1034280"/>
              <a:chExt cx="1272960" cy="1272600"/>
            </a:xfrm>
          </p:grpSpPr>
          <p:sp>
            <p:nvSpPr>
              <p:cNvPr id="348" name="Rektangel 40"/>
              <p:cNvSpPr/>
              <p:nvPr/>
            </p:nvSpPr>
            <p:spPr>
              <a:xfrm rot="48000">
                <a:off x="2568960" y="1042920"/>
                <a:ext cx="1255320" cy="1255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49" name="Billede 15" descr=""/>
              <p:cNvPicPr/>
              <p:nvPr/>
            </p:nvPicPr>
            <p:blipFill>
              <a:blip r:embed="rId6"/>
              <a:srcRect l="0" t="0" r="14105" b="0"/>
              <a:stretch/>
            </p:blipFill>
            <p:spPr>
              <a:xfrm>
                <a:off x="2640240" y="1078920"/>
                <a:ext cx="1125720" cy="98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" name=""/>
            <p:cNvGrpSpPr/>
            <p:nvPr/>
          </p:nvGrpSpPr>
          <p:grpSpPr>
            <a:xfrm>
              <a:off x="1675800" y="115920"/>
              <a:ext cx="7636320" cy="5218200"/>
              <a:chOff x="1675800" y="115920"/>
              <a:chExt cx="7636320" cy="5218200"/>
            </a:xfrm>
          </p:grpSpPr>
          <p:sp>
            <p:nvSpPr>
              <p:cNvPr id="351" name="Freeform 174"/>
              <p:cNvSpPr/>
              <p:nvPr/>
            </p:nvSpPr>
            <p:spPr>
              <a:xfrm>
                <a:off x="1726560" y="115920"/>
                <a:ext cx="7585560" cy="5218200"/>
              </a:xfrm>
              <a:custGeom>
                <a:avLst/>
                <a:gdLst>
                  <a:gd name="textAreaLeft" fmla="*/ 0 w 7585560"/>
                  <a:gd name="textAreaRight" fmla="*/ 7585920 w 7585560"/>
                  <a:gd name="textAreaTop" fmla="*/ 0 h 5218200"/>
                  <a:gd name="textAreaBottom" fmla="*/ 5218560 h 5218200"/>
                </a:gdLst>
                <a:ahLst/>
                <a:rect l="textAreaLeft" t="textAreaTop" r="textAreaRight" b="textAreaBottom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52" name="Freeform 4"/>
              <p:cNvSpPr/>
              <p:nvPr/>
            </p:nvSpPr>
            <p:spPr>
              <a:xfrm>
                <a:off x="1675800" y="115920"/>
                <a:ext cx="7585560" cy="5218200"/>
              </a:xfrm>
              <a:custGeom>
                <a:avLst/>
                <a:gdLst>
                  <a:gd name="textAreaLeft" fmla="*/ 0 w 7585560"/>
                  <a:gd name="textAreaRight" fmla="*/ 7585920 w 7585560"/>
                  <a:gd name="textAreaTop" fmla="*/ 0 h 5218200"/>
                  <a:gd name="textAreaBottom" fmla="*/ 5218560 h 5218200"/>
                </a:gdLst>
                <a:ahLst/>
                <a:rect l="textAreaLeft" t="textAreaTop" r="textAreaRight" b="textAreaBottom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353" name="TextBox 155"/>
            <p:cNvSpPr/>
            <p:nvPr/>
          </p:nvSpPr>
          <p:spPr>
            <a:xfrm>
              <a:off x="3749760" y="4307040"/>
              <a:ext cx="204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4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4" name="TextBox 157"/>
            <p:cNvSpPr/>
            <p:nvPr/>
          </p:nvSpPr>
          <p:spPr>
            <a:xfrm>
              <a:off x="3885480" y="3764520"/>
              <a:ext cx="16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endParaRPr b="0" lang="en-US" sz="3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5" name="TextBox 158"/>
            <p:cNvSpPr/>
            <p:nvPr/>
          </p:nvSpPr>
          <p:spPr>
            <a:xfrm>
              <a:off x="4038120" y="3240360"/>
              <a:ext cx="13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9</a:t>
              </a:r>
              <a:endParaRPr b="0" lang="en-US" sz="2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6" name="TextBox 159"/>
            <p:cNvSpPr/>
            <p:nvPr/>
          </p:nvSpPr>
          <p:spPr>
            <a:xfrm>
              <a:off x="4266720" y="2865240"/>
              <a:ext cx="12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8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7" name="TextBox 160"/>
            <p:cNvSpPr/>
            <p:nvPr/>
          </p:nvSpPr>
          <p:spPr>
            <a:xfrm>
              <a:off x="4487760" y="2496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7</a:t>
              </a:r>
              <a:endParaRPr b="0" lang="en-US" sz="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8" name="TextBox 161"/>
            <p:cNvSpPr/>
            <p:nvPr/>
          </p:nvSpPr>
          <p:spPr>
            <a:xfrm>
              <a:off x="4780080" y="21837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6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9" name="TextBox 162"/>
            <p:cNvSpPr/>
            <p:nvPr/>
          </p:nvSpPr>
          <p:spPr>
            <a:xfrm>
              <a:off x="5076000" y="1944720"/>
              <a:ext cx="11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5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0" name="TextBox 163"/>
            <p:cNvSpPr/>
            <p:nvPr/>
          </p:nvSpPr>
          <p:spPr>
            <a:xfrm>
              <a:off x="5333400" y="17132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1" name="TextBox 164"/>
            <p:cNvSpPr/>
            <p:nvPr/>
          </p:nvSpPr>
          <p:spPr>
            <a:xfrm>
              <a:off x="5664240" y="1509480"/>
              <a:ext cx="63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2" name="TextBox 165"/>
            <p:cNvSpPr/>
            <p:nvPr/>
          </p:nvSpPr>
          <p:spPr>
            <a:xfrm>
              <a:off x="5924880" y="138780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2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3" name="TextBox 166"/>
            <p:cNvSpPr/>
            <p:nvPr/>
          </p:nvSpPr>
          <p:spPr>
            <a:xfrm>
              <a:off x="6191640" y="1268640"/>
              <a:ext cx="41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04640" y="1299600"/>
              <a:ext cx="1290960" cy="1290960"/>
              <a:chOff x="2204640" y="1299600"/>
              <a:chExt cx="1290960" cy="1290960"/>
            </a:xfrm>
          </p:grpSpPr>
          <p:sp>
            <p:nvSpPr>
              <p:cNvPr id="365" name="Rektangel 40"/>
              <p:cNvSpPr/>
              <p:nvPr/>
            </p:nvSpPr>
            <p:spPr>
              <a:xfrm rot="13200">
                <a:off x="2207160" y="1301760"/>
                <a:ext cx="1285920" cy="12859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66" name="Billede 8" descr=""/>
              <p:cNvPicPr/>
              <p:nvPr/>
            </p:nvPicPr>
            <p:blipFill>
              <a:blip r:embed="rId7"/>
              <a:srcRect l="0" t="0" r="0" b="6943"/>
              <a:stretch/>
            </p:blipFill>
            <p:spPr>
              <a:xfrm rot="24000">
                <a:off x="2270160" y="1347840"/>
                <a:ext cx="1179360" cy="105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"/>
            <p:cNvGrpSpPr/>
            <p:nvPr/>
          </p:nvGrpSpPr>
          <p:grpSpPr>
            <a:xfrm>
              <a:off x="1651320" y="1656720"/>
              <a:ext cx="1395720" cy="1395720"/>
              <a:chOff x="1651320" y="1656720"/>
              <a:chExt cx="1395720" cy="1395720"/>
            </a:xfrm>
          </p:grpSpPr>
          <p:sp>
            <p:nvSpPr>
              <p:cNvPr id="368" name="Rektangel 40"/>
              <p:cNvSpPr/>
              <p:nvPr/>
            </p:nvSpPr>
            <p:spPr>
              <a:xfrm rot="93000">
                <a:off x="1669320" y="1674720"/>
                <a:ext cx="1359360" cy="1359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69" name="Billede 22" descr=""/>
              <p:cNvPicPr/>
              <p:nvPr/>
            </p:nvPicPr>
            <p:blipFill>
              <a:blip r:embed="rId8">
                <a:lum bright="18000"/>
              </a:blip>
              <a:srcRect l="0" t="0" r="0" b="16506"/>
              <a:stretch/>
            </p:blipFill>
            <p:spPr>
              <a:xfrm rot="63000">
                <a:off x="1713960" y="1724400"/>
                <a:ext cx="1276920" cy="102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0" name=""/>
            <p:cNvGrpSpPr/>
            <p:nvPr/>
          </p:nvGrpSpPr>
          <p:grpSpPr>
            <a:xfrm>
              <a:off x="1146960" y="2085840"/>
              <a:ext cx="1470240" cy="1470240"/>
              <a:chOff x="1146960" y="2085840"/>
              <a:chExt cx="1470240" cy="1470240"/>
            </a:xfrm>
          </p:grpSpPr>
          <p:sp>
            <p:nvSpPr>
              <p:cNvPr id="371" name="Rektangel 40"/>
              <p:cNvSpPr/>
              <p:nvPr/>
            </p:nvSpPr>
            <p:spPr>
              <a:xfrm rot="66600">
                <a:off x="1160640" y="2099520"/>
                <a:ext cx="1442520" cy="1442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72" name="Billede 10" descr=""/>
              <p:cNvPicPr/>
              <p:nvPr/>
            </p:nvPicPr>
            <p:blipFill>
              <a:blip r:embed="rId9"/>
              <a:srcRect l="11894" t="0" r="12474" b="2991"/>
              <a:stretch/>
            </p:blipFill>
            <p:spPr>
              <a:xfrm rot="75000">
                <a:off x="1233360" y="2148120"/>
                <a:ext cx="1315440" cy="112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3" name=""/>
            <p:cNvGrpSpPr/>
            <p:nvPr/>
          </p:nvGrpSpPr>
          <p:grpSpPr>
            <a:xfrm>
              <a:off x="579600" y="2496600"/>
              <a:ext cx="1626480" cy="1626480"/>
              <a:chOff x="579600" y="2496600"/>
              <a:chExt cx="1626480" cy="1626480"/>
            </a:xfrm>
          </p:grpSpPr>
          <p:sp>
            <p:nvSpPr>
              <p:cNvPr id="374" name="Rektangel 40"/>
              <p:cNvSpPr/>
              <p:nvPr/>
            </p:nvSpPr>
            <p:spPr>
              <a:xfrm rot="13200">
                <a:off x="582480" y="2499480"/>
                <a:ext cx="1620360" cy="1620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75" name="Billede 6" descr=""/>
              <p:cNvPicPr/>
              <p:nvPr/>
            </p:nvPicPr>
            <p:blipFill>
              <a:blip r:embed="rId10"/>
              <a:srcRect l="13820" t="3613" r="18282" b="12552"/>
              <a:stretch/>
            </p:blipFill>
            <p:spPr>
              <a:xfrm>
                <a:off x="691200" y="2563560"/>
                <a:ext cx="1402560" cy="130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"/>
            <p:cNvGrpSpPr/>
            <p:nvPr/>
          </p:nvGrpSpPr>
          <p:grpSpPr>
            <a:xfrm>
              <a:off x="174240" y="3312360"/>
              <a:ext cx="1636200" cy="1636200"/>
              <a:chOff x="174240" y="3312360"/>
              <a:chExt cx="1636200" cy="1636200"/>
            </a:xfrm>
          </p:grpSpPr>
          <p:sp>
            <p:nvSpPr>
              <p:cNvPr id="377" name="Rektangel 40"/>
              <p:cNvSpPr/>
              <p:nvPr/>
            </p:nvSpPr>
            <p:spPr>
              <a:xfrm rot="48000">
                <a:off x="185400" y="3323520"/>
                <a:ext cx="1613520" cy="1613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378" name="Billede 45" descr=""/>
              <p:cNvPicPr/>
              <p:nvPr/>
            </p:nvPicPr>
            <p:blipFill>
              <a:blip r:embed="rId11"/>
              <a:srcRect l="21119" t="0" r="0" b="0"/>
              <a:stretch/>
            </p:blipFill>
            <p:spPr>
              <a:xfrm rot="77400">
                <a:off x="243720" y="3400920"/>
                <a:ext cx="1466280" cy="12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Freeform 856"/>
            <p:cNvSpPr/>
            <p:nvPr/>
          </p:nvSpPr>
          <p:spPr>
            <a:xfrm>
              <a:off x="3429000" y="166680"/>
              <a:ext cx="5816880" cy="4978800"/>
            </a:xfrm>
            <a:custGeom>
              <a:avLst/>
              <a:gdLst>
                <a:gd name="textAreaLeft" fmla="*/ 0 w 5816880"/>
                <a:gd name="textAreaRight" fmla="*/ 5817240 w 5816880"/>
                <a:gd name="textAreaTop" fmla="*/ 0 h 4978800"/>
                <a:gd name="textAreaBottom" fmla="*/ 4979160 h 4978800"/>
              </a:gdLst>
              <a:ahLst/>
              <a:rect l="textAreaLeft" t="textAreaTop" r="textAreaRight" b="textAreaBottom"/>
              <a:pathLst>
                <a:path w="5816600" h="4978400">
                  <a:moveTo>
                    <a:pt x="0" y="4978400"/>
                  </a:moveTo>
                  <a:cubicBezTo>
                    <a:pt x="7408" y="4826000"/>
                    <a:pt x="14817" y="4673600"/>
                    <a:pt x="38100" y="4521200"/>
                  </a:cubicBezTo>
                  <a:cubicBezTo>
                    <a:pt x="61383" y="4368800"/>
                    <a:pt x="95250" y="4222750"/>
                    <a:pt x="139700" y="4064000"/>
                  </a:cubicBezTo>
                  <a:cubicBezTo>
                    <a:pt x="184150" y="3905250"/>
                    <a:pt x="239183" y="3727450"/>
                    <a:pt x="304800" y="3568700"/>
                  </a:cubicBezTo>
                  <a:cubicBezTo>
                    <a:pt x="370417" y="3409950"/>
                    <a:pt x="446617" y="3261783"/>
                    <a:pt x="533400" y="3111500"/>
                  </a:cubicBezTo>
                  <a:cubicBezTo>
                    <a:pt x="620183" y="2961217"/>
                    <a:pt x="721783" y="2808817"/>
                    <a:pt x="825500" y="2667000"/>
                  </a:cubicBezTo>
                  <a:cubicBezTo>
                    <a:pt x="929217" y="2525183"/>
                    <a:pt x="1039283" y="2385483"/>
                    <a:pt x="1155700" y="2260600"/>
                  </a:cubicBezTo>
                  <a:cubicBezTo>
                    <a:pt x="1272117" y="2135717"/>
                    <a:pt x="1405467" y="2019300"/>
                    <a:pt x="1524000" y="1917700"/>
                  </a:cubicBezTo>
                  <a:cubicBezTo>
                    <a:pt x="1642533" y="1816100"/>
                    <a:pt x="1744133" y="1739900"/>
                    <a:pt x="1866900" y="1651000"/>
                  </a:cubicBezTo>
                  <a:cubicBezTo>
                    <a:pt x="1989667" y="1562100"/>
                    <a:pt x="2131483" y="1464733"/>
                    <a:pt x="2260600" y="1384300"/>
                  </a:cubicBezTo>
                  <a:cubicBezTo>
                    <a:pt x="2389717" y="1303867"/>
                    <a:pt x="2499783" y="1238250"/>
                    <a:pt x="2641600" y="1168400"/>
                  </a:cubicBezTo>
                  <a:cubicBezTo>
                    <a:pt x="2783417" y="1098550"/>
                    <a:pt x="3111500" y="965200"/>
                    <a:pt x="3111500" y="965200"/>
                  </a:cubicBezTo>
                  <a:cubicBezTo>
                    <a:pt x="3285067" y="891117"/>
                    <a:pt x="3429000" y="823658"/>
                    <a:pt x="3683000" y="723900"/>
                  </a:cubicBezTo>
                  <a:cubicBezTo>
                    <a:pt x="3937000" y="624142"/>
                    <a:pt x="4635500" y="366650"/>
                    <a:pt x="4635500" y="366650"/>
                  </a:cubicBezTo>
                  <a:lnTo>
                    <a:pt x="58166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0" name="TextBox 857"/>
            <p:cNvSpPr/>
            <p:nvPr/>
          </p:nvSpPr>
          <p:spPr>
            <a:xfrm>
              <a:off x="5675040" y="4578120"/>
              <a:ext cx="23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1" name="TextBox 858"/>
            <p:cNvSpPr/>
            <p:nvPr/>
          </p:nvSpPr>
          <p:spPr>
            <a:xfrm>
              <a:off x="5554440" y="3909240"/>
              <a:ext cx="233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2" name="TextBox 859"/>
            <p:cNvSpPr/>
            <p:nvPr/>
          </p:nvSpPr>
          <p:spPr>
            <a:xfrm>
              <a:off x="5547240" y="3361320"/>
              <a:ext cx="233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3" name="TextBox 860"/>
            <p:cNvSpPr/>
            <p:nvPr/>
          </p:nvSpPr>
          <p:spPr>
            <a:xfrm>
              <a:off x="5562000" y="3017880"/>
              <a:ext cx="2336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3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4" name="TextBox 861"/>
            <p:cNvSpPr/>
            <p:nvPr/>
          </p:nvSpPr>
          <p:spPr>
            <a:xfrm>
              <a:off x="5664240" y="2625480"/>
              <a:ext cx="233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5" name="TextBox 862"/>
            <p:cNvSpPr/>
            <p:nvPr/>
          </p:nvSpPr>
          <p:spPr>
            <a:xfrm>
              <a:off x="5892840" y="2339280"/>
              <a:ext cx="233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6" name="TextBox 863"/>
            <p:cNvSpPr/>
            <p:nvPr/>
          </p:nvSpPr>
          <p:spPr>
            <a:xfrm>
              <a:off x="6146640" y="20430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7" name="TextBox 864"/>
            <p:cNvSpPr/>
            <p:nvPr/>
          </p:nvSpPr>
          <p:spPr>
            <a:xfrm>
              <a:off x="6358680" y="179676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8" name="TextBox 865"/>
            <p:cNvSpPr/>
            <p:nvPr/>
          </p:nvSpPr>
          <p:spPr>
            <a:xfrm>
              <a:off x="6748920" y="1495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89" name="Straight Connector 867"/>
            <p:cNvSpPr/>
            <p:nvPr/>
          </p:nvSpPr>
          <p:spPr>
            <a:xfrm>
              <a:off x="5222880" y="4762800"/>
              <a:ext cx="44100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0" name="Straight Connector 869"/>
            <p:cNvSpPr/>
            <p:nvPr/>
          </p:nvSpPr>
          <p:spPr>
            <a:xfrm>
              <a:off x="5112000" y="4078440"/>
              <a:ext cx="44280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1" name="Straight Connector 870"/>
            <p:cNvSpPr/>
            <p:nvPr/>
          </p:nvSpPr>
          <p:spPr>
            <a:xfrm>
              <a:off x="5112000" y="3544920"/>
              <a:ext cx="40608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2" name="Straight Connector 871"/>
            <p:cNvSpPr/>
            <p:nvPr/>
          </p:nvSpPr>
          <p:spPr>
            <a:xfrm>
              <a:off x="5227560" y="3164040"/>
              <a:ext cx="33480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3" name="Straight Connector 872"/>
            <p:cNvSpPr/>
            <p:nvPr/>
          </p:nvSpPr>
          <p:spPr>
            <a:xfrm>
              <a:off x="5351400" y="2768760"/>
              <a:ext cx="33336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4" name="Straight Connector 873"/>
            <p:cNvSpPr/>
            <p:nvPr/>
          </p:nvSpPr>
          <p:spPr>
            <a:xfrm>
              <a:off x="5538960" y="2478240"/>
              <a:ext cx="33480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5" name="Straight Connector 874"/>
            <p:cNvSpPr/>
            <p:nvPr/>
          </p:nvSpPr>
          <p:spPr>
            <a:xfrm>
              <a:off x="5791320" y="2184480"/>
              <a:ext cx="33336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6" name="Straight Connector 875"/>
            <p:cNvSpPr/>
            <p:nvPr/>
          </p:nvSpPr>
          <p:spPr>
            <a:xfrm>
              <a:off x="6024600" y="1944720"/>
              <a:ext cx="33336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7" name="Straight Connector 876"/>
            <p:cNvSpPr/>
            <p:nvPr/>
          </p:nvSpPr>
          <p:spPr>
            <a:xfrm>
              <a:off x="6400800" y="1617480"/>
              <a:ext cx="33336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8" name="TextBox 877"/>
            <p:cNvSpPr/>
            <p:nvPr/>
          </p:nvSpPr>
          <p:spPr>
            <a:xfrm>
              <a:off x="6981120" y="1334520"/>
              <a:ext cx="233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99" name="Straight Connector 878"/>
            <p:cNvSpPr/>
            <p:nvPr/>
          </p:nvSpPr>
          <p:spPr>
            <a:xfrm>
              <a:off x="6632640" y="1455840"/>
              <a:ext cx="33336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00" name="TextBox 883"/>
            <p:cNvSpPr/>
            <p:nvPr/>
          </p:nvSpPr>
          <p:spPr>
            <a:xfrm>
              <a:off x="6540480" y="1639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01" name="Straight Connector 884"/>
            <p:cNvSpPr/>
            <p:nvPr/>
          </p:nvSpPr>
          <p:spPr>
            <a:xfrm>
              <a:off x="6232680" y="1762200"/>
              <a:ext cx="334800" cy="1440"/>
            </a:xfrm>
            <a:prstGeom prst="line">
              <a:avLst/>
            </a:prstGeom>
            <a:ln w="255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402" name="Rectangle 13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556-A84A-401E-AAB7-0C72947BF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1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图片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呈现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05" name="Rectangle 59"/>
          <p:cNvSpPr/>
          <p:nvPr/>
        </p:nvSpPr>
        <p:spPr>
          <a:xfrm>
            <a:off x="0" y="3774960"/>
            <a:ext cx="91440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643120" y="1555920"/>
            <a:ext cx="1828800" cy="3744720"/>
            <a:chOff x="2643120" y="1555920"/>
            <a:chExt cx="1828800" cy="3744720"/>
          </a:xfrm>
        </p:grpSpPr>
        <p:sp>
          <p:nvSpPr>
            <p:cNvPr id="407" name="Rectangle 219"/>
            <p:cNvSpPr/>
            <p:nvPr/>
          </p:nvSpPr>
          <p:spPr>
            <a:xfrm flipH="1">
              <a:off x="2643120" y="1555920"/>
              <a:ext cx="1828800" cy="3204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08" name="Rectangle 223"/>
            <p:cNvSpPr/>
            <p:nvPr/>
          </p:nvSpPr>
          <p:spPr>
            <a:xfrm flipH="1" flipV="1">
              <a:off x="2642760" y="2563920"/>
              <a:ext cx="1828800" cy="2736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09" name="Rounded Rectangle 229"/>
            <p:cNvSpPr/>
            <p:nvPr/>
          </p:nvSpPr>
          <p:spPr>
            <a:xfrm flipH="1" rot="10800000">
              <a:off x="30006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10" name="Rectangle 233"/>
            <p:cNvSpPr/>
            <p:nvPr/>
          </p:nvSpPr>
          <p:spPr>
            <a:xfrm flipH="1">
              <a:off x="2643120" y="1895400"/>
              <a:ext cx="182880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11" name="TextBox 92"/>
            <p:cNvSpPr/>
            <p:nvPr/>
          </p:nvSpPr>
          <p:spPr>
            <a:xfrm>
              <a:off x="297144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08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07680" y="1625400"/>
              <a:ext cx="182880" cy="182880"/>
              <a:chOff x="4207680" y="1625400"/>
              <a:chExt cx="182880" cy="182880"/>
            </a:xfrm>
          </p:grpSpPr>
          <p:sp>
            <p:nvSpPr>
              <p:cNvPr id="413" name="Oval 248"/>
              <p:cNvSpPr/>
              <p:nvPr/>
            </p:nvSpPr>
            <p:spPr>
              <a:xfrm>
                <a:off x="420768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4277160" y="1662840"/>
                <a:ext cx="56880" cy="102240"/>
                <a:chOff x="4277160" y="1662840"/>
                <a:chExt cx="56880" cy="102240"/>
              </a:xfrm>
            </p:grpSpPr>
            <p:sp>
              <p:nvSpPr>
                <p:cNvPr id="415" name="Straight Connector 250"/>
                <p:cNvSpPr/>
                <p:nvPr/>
              </p:nvSpPr>
              <p:spPr>
                <a:xfrm>
                  <a:off x="4277160" y="1662840"/>
                  <a:ext cx="56880" cy="57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416" name="Straight Connector 251"/>
                <p:cNvSpPr/>
                <p:nvPr/>
              </p:nvSpPr>
              <p:spPr>
                <a:xfrm flipV="1">
                  <a:off x="4277160" y="1707480"/>
                  <a:ext cx="56880" cy="57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Round Same Side Corner Rectangle 58"/>
          <p:cNvSpPr/>
          <p:nvPr/>
        </p:nvSpPr>
        <p:spPr>
          <a:xfrm rot="16200000">
            <a:off x="-180720" y="2512440"/>
            <a:ext cx="3746520" cy="1828800"/>
          </a:xfrm>
          <a:custGeom>
            <a:avLst/>
            <a:gdLst>
              <a:gd name="textAreaLeft" fmla="*/ 0 w 3746520"/>
              <a:gd name="textAreaRight" fmla="*/ 3746880 w 37465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746500" h="1828800">
                <a:moveTo>
                  <a:pt x="112782" y="0"/>
                </a:moveTo>
                <a:lnTo>
                  <a:pt x="3633718" y="0"/>
                </a:lnTo>
                <a:lnTo>
                  <a:pt x="3633718" y="-1"/>
                </a:lnTo>
                <a:cubicBezTo>
                  <a:pt x="3696005" y="-1"/>
                  <a:pt x="3746500" y="50494"/>
                  <a:pt x="3746500" y="112782"/>
                </a:cubicBezTo>
                <a:lnTo>
                  <a:pt x="3746500" y="1828800"/>
                </a:lnTo>
                <a:lnTo>
                  <a:pt x="0" y="1828800"/>
                </a:lnTo>
                <a:lnTo>
                  <a:pt x="0" y="112782"/>
                </a:lnTo>
                <a:lnTo>
                  <a:pt x="-1" y="112781"/>
                </a:lnTo>
                <a:cubicBezTo>
                  <a:pt x="-1" y="50494"/>
                  <a:pt x="50494" y="-1"/>
                  <a:pt x="112782" y="-1"/>
                </a:cubicBez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8" name="Round Single Corner Rectangle 218"/>
          <p:cNvSpPr/>
          <p:nvPr/>
        </p:nvSpPr>
        <p:spPr>
          <a:xfrm flipH="1">
            <a:off x="785880" y="1555920"/>
            <a:ext cx="1828800" cy="320400"/>
          </a:xfrm>
          <a:custGeom>
            <a:avLst/>
            <a:gdLst>
              <a:gd name="textAreaLeft" fmla="*/ 360 w 1828800"/>
              <a:gd name="textAreaRight" fmla="*/ 1829520 w 18288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828800" h="320622">
                <a:moveTo>
                  <a:pt x="0" y="0"/>
                </a:moveTo>
                <a:lnTo>
                  <a:pt x="1746734" y="0"/>
                </a:lnTo>
                <a:lnTo>
                  <a:pt x="1746734" y="-1"/>
                </a:lnTo>
                <a:cubicBezTo>
                  <a:pt x="1792057" y="-1"/>
                  <a:pt x="1828800" y="36742"/>
                  <a:pt x="1828800" y="82066"/>
                </a:cubicBezTo>
                <a:lnTo>
                  <a:pt x="1828800" y="320622"/>
                </a:lnTo>
                <a:lnTo>
                  <a:pt x="0" y="320622"/>
                </a:lnTo>
                <a:close/>
              </a:path>
            </a:pathLst>
          </a:cu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9" name="Rectangle 226"/>
          <p:cNvSpPr/>
          <p:nvPr/>
        </p:nvSpPr>
        <p:spPr>
          <a:xfrm flipH="1">
            <a:off x="785880" y="1895400"/>
            <a:ext cx="1828800" cy="635040"/>
          </a:xfrm>
          <a:prstGeom prst="rect">
            <a:avLst/>
          </a:pr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0" name="Rounded Rectangle 230"/>
          <p:cNvSpPr/>
          <p:nvPr/>
        </p:nvSpPr>
        <p:spPr>
          <a:xfrm flipH="1" rot="10800000">
            <a:off x="11433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007cb4"/>
          </a:solidFill>
          <a:ln w="9360">
            <a:solidFill>
              <a:srgbClr val="006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1" name="TextBox 102"/>
          <p:cNvSpPr/>
          <p:nvPr/>
        </p:nvSpPr>
        <p:spPr>
          <a:xfrm>
            <a:off x="1114560" y="1938240"/>
            <a:ext cx="117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355840" y="1625760"/>
            <a:ext cx="182520" cy="182520"/>
            <a:chOff x="2355840" y="1625760"/>
            <a:chExt cx="182520" cy="182520"/>
          </a:xfrm>
        </p:grpSpPr>
        <p:sp>
          <p:nvSpPr>
            <p:cNvPr id="423" name="Oval 238"/>
            <p:cNvSpPr/>
            <p:nvPr/>
          </p:nvSpPr>
          <p:spPr>
            <a:xfrm>
              <a:off x="2355840" y="1625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426040" y="1663560"/>
              <a:ext cx="56880" cy="101520"/>
              <a:chOff x="2426040" y="1663560"/>
              <a:chExt cx="56880" cy="101520"/>
            </a:xfrm>
          </p:grpSpPr>
          <p:sp>
            <p:nvSpPr>
              <p:cNvPr id="425" name="Straight Connector 242"/>
              <p:cNvSpPr/>
              <p:nvPr/>
            </p:nvSpPr>
            <p:spPr>
              <a:xfrm>
                <a:off x="2426040" y="1663560"/>
                <a:ext cx="56880" cy="57240"/>
              </a:xfrm>
              <a:prstGeom prst="line">
                <a:avLst/>
              </a:prstGeom>
              <a:ln w="19080">
                <a:solidFill>
                  <a:srgbClr val="0060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26" name="Straight Connector 243"/>
              <p:cNvSpPr/>
              <p:nvPr/>
            </p:nvSpPr>
            <p:spPr>
              <a:xfrm flipV="1">
                <a:off x="2426040" y="1707840"/>
                <a:ext cx="56880" cy="57240"/>
              </a:xfrm>
              <a:prstGeom prst="line">
                <a:avLst/>
              </a:prstGeom>
              <a:ln w="19080">
                <a:solidFill>
                  <a:srgbClr val="0060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347880" y="1555920"/>
            <a:ext cx="1835640" cy="3744360"/>
            <a:chOff x="6347880" y="1555920"/>
            <a:chExt cx="1835640" cy="3744360"/>
          </a:xfrm>
        </p:grpSpPr>
        <p:sp>
          <p:nvSpPr>
            <p:cNvPr id="428" name="Round Single Corner Rectangle 221"/>
            <p:cNvSpPr/>
            <p:nvPr/>
          </p:nvSpPr>
          <p:spPr>
            <a:xfrm>
              <a:off x="6351120" y="1555920"/>
              <a:ext cx="1829160" cy="32040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320400"/>
                <a:gd name="textAreaBottom" fmla="*/ 320400 h 320400"/>
              </a:gdLst>
              <a:ahLst/>
              <a:rect l="textAreaLeft" t="textAreaTop" r="textAreaRight" b="textAreaBottom"/>
              <a:pathLst>
                <a:path w="1828420" h="320637">
                  <a:moveTo>
                    <a:pt x="0" y="0"/>
                  </a:moveTo>
                  <a:lnTo>
                    <a:pt x="1746350" y="0"/>
                  </a:lnTo>
                  <a:lnTo>
                    <a:pt x="1746350" y="-1"/>
                  </a:lnTo>
                  <a:cubicBezTo>
                    <a:pt x="1791676" y="-1"/>
                    <a:pt x="1828420" y="36743"/>
                    <a:pt x="1828420" y="82070"/>
                  </a:cubicBezTo>
                  <a:lnTo>
                    <a:pt x="1828420" y="320637"/>
                  </a:lnTo>
                  <a:lnTo>
                    <a:pt x="0" y="32063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29" name="Round Single Corner Rectangle 225"/>
            <p:cNvSpPr/>
            <p:nvPr/>
          </p:nvSpPr>
          <p:spPr>
            <a:xfrm flipV="1">
              <a:off x="6354360" y="2559960"/>
              <a:ext cx="1829160" cy="273996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-360 h 2739960"/>
                <a:gd name="textAreaBottom" fmla="*/ 2739960 h 2739960"/>
              </a:gdLst>
              <a:ahLst/>
              <a:rect l="textAreaLeft" t="textAreaTop" r="textAreaRight" b="textAreaBottom"/>
              <a:pathLst>
                <a:path w="1828420" h="2739700">
                  <a:moveTo>
                    <a:pt x="0" y="0"/>
                  </a:moveTo>
                  <a:lnTo>
                    <a:pt x="1702698" y="0"/>
                  </a:lnTo>
                  <a:lnTo>
                    <a:pt x="1702698" y="-1"/>
                  </a:lnTo>
                  <a:cubicBezTo>
                    <a:pt x="1772132" y="-1"/>
                    <a:pt x="1828420" y="56287"/>
                    <a:pt x="1828420" y="125722"/>
                  </a:cubicBezTo>
                  <a:lnTo>
                    <a:pt x="1828420" y="2739700"/>
                  </a:lnTo>
                  <a:lnTo>
                    <a:pt x="0" y="273970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0" name="Rounded Rectangle 231"/>
            <p:cNvSpPr/>
            <p:nvPr/>
          </p:nvSpPr>
          <p:spPr>
            <a:xfrm flipH="1" rot="10800000">
              <a:off x="67122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1" name="Rectangle 236"/>
            <p:cNvSpPr/>
            <p:nvPr/>
          </p:nvSpPr>
          <p:spPr>
            <a:xfrm flipH="1">
              <a:off x="6347520" y="1895400"/>
              <a:ext cx="182916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2" name="TextBox 113"/>
            <p:cNvSpPr/>
            <p:nvPr/>
          </p:nvSpPr>
          <p:spPr>
            <a:xfrm>
              <a:off x="667368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10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857720" y="1625400"/>
              <a:ext cx="182880" cy="182880"/>
              <a:chOff x="7857720" y="1625400"/>
              <a:chExt cx="182880" cy="182880"/>
            </a:xfrm>
          </p:grpSpPr>
          <p:sp>
            <p:nvSpPr>
              <p:cNvPr id="434" name="Oval 253"/>
              <p:cNvSpPr/>
              <p:nvPr/>
            </p:nvSpPr>
            <p:spPr>
              <a:xfrm>
                <a:off x="785772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7927560" y="1662840"/>
                <a:ext cx="56880" cy="102240"/>
                <a:chOff x="7927560" y="1662840"/>
                <a:chExt cx="56880" cy="102240"/>
              </a:xfrm>
            </p:grpSpPr>
            <p:sp>
              <p:nvSpPr>
                <p:cNvPr id="436" name="Straight Connector 255"/>
                <p:cNvSpPr/>
                <p:nvPr/>
              </p:nvSpPr>
              <p:spPr>
                <a:xfrm>
                  <a:off x="7927560" y="1662840"/>
                  <a:ext cx="56880" cy="57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437" name="Straight Connector 256"/>
                <p:cNvSpPr/>
                <p:nvPr/>
              </p:nvSpPr>
              <p:spPr>
                <a:xfrm flipV="1">
                  <a:off x="7927560" y="1707480"/>
                  <a:ext cx="56880" cy="57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8" name="Rectangle 262"/>
          <p:cNvSpPr/>
          <p:nvPr/>
        </p:nvSpPr>
        <p:spPr>
          <a:xfrm flipH="1" rot="5400000">
            <a:off x="4043880" y="3016440"/>
            <a:ext cx="2738520" cy="1828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9" name="Rectangle 220"/>
          <p:cNvSpPr/>
          <p:nvPr/>
        </p:nvSpPr>
        <p:spPr>
          <a:xfrm flipH="1">
            <a:off x="4498920" y="1555920"/>
            <a:ext cx="1828800" cy="320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0" name="Rectangle 227"/>
          <p:cNvSpPr/>
          <p:nvPr/>
        </p:nvSpPr>
        <p:spPr>
          <a:xfrm flipH="1">
            <a:off x="4495680" y="1895400"/>
            <a:ext cx="1828800" cy="635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1" name="Rounded Rectangle 228"/>
          <p:cNvSpPr/>
          <p:nvPr/>
        </p:nvSpPr>
        <p:spPr>
          <a:xfrm flipH="1" rot="10800000">
            <a:off x="48567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936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2" name="TextBox 123"/>
          <p:cNvSpPr/>
          <p:nvPr/>
        </p:nvSpPr>
        <p:spPr>
          <a:xfrm>
            <a:off x="4800600" y="193824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71717"/>
                </a:solidFill>
                <a:latin typeface="Arial"/>
                <a:ea typeface="微软雅黑"/>
              </a:rPr>
              <a:t>2009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046920" y="1625760"/>
            <a:ext cx="182520" cy="182520"/>
            <a:chOff x="6046920" y="1625760"/>
            <a:chExt cx="182520" cy="182520"/>
          </a:xfrm>
        </p:grpSpPr>
        <p:sp>
          <p:nvSpPr>
            <p:cNvPr id="444" name="Oval 258"/>
            <p:cNvSpPr/>
            <p:nvPr/>
          </p:nvSpPr>
          <p:spPr>
            <a:xfrm>
              <a:off x="6046920" y="1625760"/>
              <a:ext cx="182520" cy="182520"/>
            </a:xfrm>
            <a:prstGeom prst="ellipse">
              <a:avLst/>
            </a:prstGeom>
            <a:solidFill>
              <a:srgbClr val="006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6117120" y="1663560"/>
              <a:ext cx="56880" cy="101520"/>
              <a:chOff x="6117120" y="1663560"/>
              <a:chExt cx="56880" cy="101520"/>
            </a:xfrm>
          </p:grpSpPr>
          <p:sp>
            <p:nvSpPr>
              <p:cNvPr id="446" name="Straight Connector 260"/>
              <p:cNvSpPr/>
              <p:nvPr/>
            </p:nvSpPr>
            <p:spPr>
              <a:xfrm>
                <a:off x="6117120" y="1663560"/>
                <a:ext cx="56880" cy="57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47" name="Straight Connector 261"/>
              <p:cNvSpPr/>
              <p:nvPr/>
            </p:nvSpPr>
            <p:spPr>
              <a:xfrm flipV="1">
                <a:off x="6117120" y="1707840"/>
                <a:ext cx="56880" cy="57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Rektangel 613"/>
          <p:cNvSpPr/>
          <p:nvPr/>
        </p:nvSpPr>
        <p:spPr>
          <a:xfrm>
            <a:off x="99360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9" name="Rektangel 613"/>
          <p:cNvSpPr/>
          <p:nvPr/>
        </p:nvSpPr>
        <p:spPr>
          <a:xfrm>
            <a:off x="280512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0" name="Rektangel 613"/>
          <p:cNvSpPr/>
          <p:nvPr/>
        </p:nvSpPr>
        <p:spPr>
          <a:xfrm>
            <a:off x="4660920" y="1579680"/>
            <a:ext cx="12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1" name="Rektangel 613"/>
          <p:cNvSpPr/>
          <p:nvPr/>
        </p:nvSpPr>
        <p:spPr>
          <a:xfrm>
            <a:off x="644364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2" name="Rektangel 613"/>
          <p:cNvSpPr/>
          <p:nvPr/>
        </p:nvSpPr>
        <p:spPr>
          <a:xfrm>
            <a:off x="1185840" y="4843440"/>
            <a:ext cx="10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3" name="Rektangel 613"/>
          <p:cNvSpPr/>
          <p:nvPr/>
        </p:nvSpPr>
        <p:spPr>
          <a:xfrm>
            <a:off x="30416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4" name="Rektangel 613"/>
          <p:cNvSpPr/>
          <p:nvPr/>
        </p:nvSpPr>
        <p:spPr>
          <a:xfrm>
            <a:off x="48974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Rektangel 613"/>
          <p:cNvSpPr/>
          <p:nvPr/>
        </p:nvSpPr>
        <p:spPr>
          <a:xfrm>
            <a:off x="674532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6" name="Afrundet rektangel 20"/>
          <p:cNvSpPr/>
          <p:nvPr/>
        </p:nvSpPr>
        <p:spPr>
          <a:xfrm>
            <a:off x="470232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7" name="Afrundet rektangel 45"/>
          <p:cNvSpPr/>
          <p:nvPr/>
        </p:nvSpPr>
        <p:spPr>
          <a:xfrm>
            <a:off x="2860560" y="301464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8" name="Afrundet rektangel 55"/>
          <p:cNvSpPr/>
          <p:nvPr/>
        </p:nvSpPr>
        <p:spPr>
          <a:xfrm>
            <a:off x="657216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9" name="Afrundet rektangel 60"/>
          <p:cNvSpPr/>
          <p:nvPr/>
        </p:nvSpPr>
        <p:spPr>
          <a:xfrm>
            <a:off x="1011240" y="3016080"/>
            <a:ext cx="1370160" cy="13716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23">
                <a:moveTo>
                  <a:pt x="0" y="0"/>
                </a:moveTo>
                <a:arcTo wR="0" hR="0" stAng="16200000" swAng="-5400000"/>
                <a:lnTo>
                  <a:pt x="0" y="21623"/>
                </a:lnTo>
                <a:arcTo wR="0" hR="0" stAng="10800000" swAng="-5400000"/>
                <a:lnTo>
                  <a:pt x="21600" y="2162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939-3492-432C-8F5E-11F8FE0D25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2" name="TextBox 3"/>
          <p:cNvSpPr/>
          <p:nvPr/>
        </p:nvSpPr>
        <p:spPr>
          <a:xfrm>
            <a:off x="7621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2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8769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1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662940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111111"/>
                </a:solidFill>
                <a:latin typeface="Arial Bold"/>
                <a:ea typeface="宋体"/>
              </a:rPr>
              <a:t>6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883960" y="1802880"/>
            <a:ext cx="3745080" cy="2581560"/>
            <a:chOff x="2883960" y="1802880"/>
            <a:chExt cx="3745080" cy="2581560"/>
          </a:xfrm>
        </p:grpSpPr>
        <p:grpSp>
          <p:nvGrpSpPr>
            <p:cNvPr id="466" name=""/>
            <p:cNvGrpSpPr/>
            <p:nvPr/>
          </p:nvGrpSpPr>
          <p:grpSpPr>
            <a:xfrm>
              <a:off x="2883960" y="1802880"/>
              <a:ext cx="2065320" cy="2581560"/>
              <a:chOff x="2883960" y="1802880"/>
              <a:chExt cx="2065320" cy="2581560"/>
            </a:xfrm>
          </p:grpSpPr>
          <p:sp>
            <p:nvSpPr>
              <p:cNvPr id="467" name="Donut 15"/>
              <p:cNvSpPr/>
              <p:nvPr/>
            </p:nvSpPr>
            <p:spPr>
              <a:xfrm rot="10800000">
                <a:off x="2883960" y="1802880"/>
                <a:ext cx="1962360" cy="2581560"/>
              </a:xfrm>
              <a:prstGeom prst="donut">
                <a:avLst>
                  <a:gd name="adj" fmla="val 7652"/>
                </a:avLst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68" name="Donut 16"/>
              <p:cNvSpPr/>
              <p:nvPr/>
            </p:nvSpPr>
            <p:spPr>
              <a:xfrm rot="10800000">
                <a:off x="3061800" y="1896840"/>
                <a:ext cx="1832040" cy="2437200"/>
              </a:xfrm>
              <a:prstGeom prst="donut">
                <a:avLst>
                  <a:gd name="adj" fmla="val 7652"/>
                </a:avLst>
              </a:prstGeom>
              <a:solidFill>
                <a:srgbClr val="8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69" name="Oval 17"/>
              <p:cNvSpPr/>
              <p:nvPr/>
            </p:nvSpPr>
            <p:spPr>
              <a:xfrm rot="10800000">
                <a:off x="3061800" y="1896840"/>
                <a:ext cx="1832040" cy="243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0" name="Donut 18"/>
              <p:cNvSpPr/>
              <p:nvPr/>
            </p:nvSpPr>
            <p:spPr>
              <a:xfrm rot="10800000">
                <a:off x="3428280" y="2339280"/>
                <a:ext cx="1079640" cy="1509120"/>
              </a:xfrm>
              <a:prstGeom prst="donut">
                <a:avLst>
                  <a:gd name="adj" fmla="val 12226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1" name="Oval 19"/>
              <p:cNvSpPr/>
              <p:nvPr/>
            </p:nvSpPr>
            <p:spPr>
              <a:xfrm rot="10800000">
                <a:off x="3872880" y="2961360"/>
                <a:ext cx="190440" cy="264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2" name="Donut 20"/>
              <p:cNvSpPr/>
              <p:nvPr/>
            </p:nvSpPr>
            <p:spPr>
              <a:xfrm rot="10800000">
                <a:off x="3655800" y="2656800"/>
                <a:ext cx="625320" cy="874080"/>
              </a:xfrm>
              <a:prstGeom prst="donut">
                <a:avLst>
                  <a:gd name="adj" fmla="val 19296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3" name="Donut 21"/>
              <p:cNvSpPr/>
              <p:nvPr/>
            </p:nvSpPr>
            <p:spPr>
              <a:xfrm rot="10800000">
                <a:off x="2986920" y="1802880"/>
                <a:ext cx="1962360" cy="2581560"/>
              </a:xfrm>
              <a:prstGeom prst="donut">
                <a:avLst>
                  <a:gd name="adj" fmla="val 7652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4" name="Donut 22"/>
              <p:cNvSpPr/>
              <p:nvPr/>
            </p:nvSpPr>
            <p:spPr>
              <a:xfrm rot="10800000">
                <a:off x="3241440" y="2075760"/>
                <a:ext cx="1454040" cy="2035800"/>
              </a:xfrm>
              <a:prstGeom prst="donut">
                <a:avLst>
                  <a:gd name="adj" fmla="val 7652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956040" y="2699280"/>
              <a:ext cx="2673000" cy="820080"/>
              <a:chOff x="3956040" y="2699280"/>
              <a:chExt cx="2673000" cy="820080"/>
            </a:xfrm>
          </p:grpSpPr>
          <p:sp>
            <p:nvSpPr>
              <p:cNvPr id="476" name="Pentagon 9"/>
              <p:cNvSpPr/>
              <p:nvPr/>
            </p:nvSpPr>
            <p:spPr>
              <a:xfrm rot="10800000">
                <a:off x="3956040" y="3060720"/>
                <a:ext cx="527040" cy="666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7" name="Rectangle 10"/>
              <p:cNvSpPr/>
              <p:nvPr/>
            </p:nvSpPr>
            <p:spPr>
              <a:xfrm rot="10800000">
                <a:off x="4481640" y="3000600"/>
                <a:ext cx="185760" cy="1872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8" name="Rectangle 11"/>
              <p:cNvSpPr/>
              <p:nvPr/>
            </p:nvSpPr>
            <p:spPr>
              <a:xfrm rot="10800000">
                <a:off x="4667400" y="3017880"/>
                <a:ext cx="1961640" cy="1522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9" name="Pie 12"/>
              <p:cNvSpPr/>
              <p:nvPr/>
            </p:nvSpPr>
            <p:spPr>
              <a:xfrm rot="16200000">
                <a:off x="5801760" y="2700000"/>
                <a:ext cx="695160" cy="94320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943200"/>
                  <a:gd name="textAreaBottom" fmla="*/ 943560 h 943200"/>
                </a:gdLst>
                <a:ahLst/>
                <a:rect l="textAreaLeft" t="textAreaTop" r="textAreaRight" b="textAreaBottom"/>
                <a:pathLst>
                  <a:path w="857455" h="1163458">
                    <a:moveTo>
                      <a:pt x="430403" y="1163453"/>
                    </a:moveTo>
                    <a:lnTo>
                      <a:pt x="430403" y="1163453"/>
                    </a:lnTo>
                    <a:arcTo wR="428727" hR="581729" stAng="5400000" swAng="10800000"/>
                    <a:lnTo>
                      <a:pt x="428727" y="581729"/>
                    </a:lnTo>
                    <a:close/>
                  </a:path>
                </a:pathLst>
              </a:cu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0" name="Pie 13"/>
              <p:cNvSpPr/>
              <p:nvPr/>
            </p:nvSpPr>
            <p:spPr>
              <a:xfrm rot="5400000">
                <a:off x="5801040" y="2575800"/>
                <a:ext cx="695160" cy="941760"/>
              </a:xfrm>
              <a:custGeom>
                <a:avLst/>
                <a:gdLst>
                  <a:gd name="textAreaLeft" fmla="*/ 0 w 695160"/>
                  <a:gd name="textAreaRight" fmla="*/ 695520 w 69516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857455" h="1161500">
                    <a:moveTo>
                      <a:pt x="430400" y="1161495"/>
                    </a:moveTo>
                    <a:lnTo>
                      <a:pt x="430400" y="1161495"/>
                    </a:lnTo>
                    <a:arcTo wR="428727" hR="580750" stAng="5400000" swAng="10800000"/>
                    <a:lnTo>
                      <a:pt x="428727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1" name="Pie 14"/>
              <p:cNvSpPr/>
              <p:nvPr/>
            </p:nvSpPr>
            <p:spPr>
              <a:xfrm rot="16200000">
                <a:off x="5906520" y="2631600"/>
                <a:ext cx="484200" cy="9417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597086" h="1161500">
                    <a:moveTo>
                      <a:pt x="300216" y="1161490"/>
                    </a:moveTo>
                    <a:lnTo>
                      <a:pt x="300216" y="1161490"/>
                    </a:lnTo>
                    <a:arcTo wR="298543" hR="580750" stAng="5400000" swAng="10800000"/>
                    <a:lnTo>
                      <a:pt x="298543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Ellipse 98"/>
          <p:cNvSpPr/>
          <p:nvPr/>
        </p:nvSpPr>
        <p:spPr>
          <a:xfrm>
            <a:off x="669960" y="4187880"/>
            <a:ext cx="222552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3" name="Ellipse 98"/>
          <p:cNvSpPr/>
          <p:nvPr/>
        </p:nvSpPr>
        <p:spPr>
          <a:xfrm>
            <a:off x="2989440" y="4210200"/>
            <a:ext cx="181116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4" name="Ellipse 98"/>
          <p:cNvSpPr/>
          <p:nvPr/>
        </p:nvSpPr>
        <p:spPr>
          <a:xfrm>
            <a:off x="543708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5" name="Ellipse 98"/>
          <p:cNvSpPr/>
          <p:nvPr/>
        </p:nvSpPr>
        <p:spPr>
          <a:xfrm>
            <a:off x="711360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C3B-79D3-4C64-B232-039634FAF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ktangel 70"/>
          <p:cNvSpPr/>
          <p:nvPr/>
        </p:nvSpPr>
        <p:spPr>
          <a:xfrm flipV="1">
            <a:off x="0" y="1773720"/>
            <a:ext cx="9144000" cy="1854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7" name="Rectangle 75"/>
          <p:cNvSpPr/>
          <p:nvPr/>
        </p:nvSpPr>
        <p:spPr>
          <a:xfrm rot="11122200">
            <a:off x="2265120" y="5215680"/>
            <a:ext cx="2119320" cy="8319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779480" y="730800"/>
            <a:ext cx="5614560" cy="2210760"/>
            <a:chOff x="1779480" y="730800"/>
            <a:chExt cx="5614560" cy="2210760"/>
          </a:xfrm>
        </p:grpSpPr>
        <p:grpSp>
          <p:nvGrpSpPr>
            <p:cNvPr id="489" name=""/>
            <p:cNvGrpSpPr/>
            <p:nvPr/>
          </p:nvGrpSpPr>
          <p:grpSpPr>
            <a:xfrm>
              <a:off x="4447800" y="809640"/>
              <a:ext cx="1590840" cy="1809000"/>
              <a:chOff x="4447800" y="809640"/>
              <a:chExt cx="1590840" cy="1809000"/>
            </a:xfrm>
          </p:grpSpPr>
          <p:sp>
            <p:nvSpPr>
              <p:cNvPr id="490" name="Rectangle 35"/>
              <p:cNvSpPr/>
              <p:nvPr/>
            </p:nvSpPr>
            <p:spPr>
              <a:xfrm>
                <a:off x="4447800" y="8096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1" name="TextBox 36"/>
              <p:cNvSpPr/>
              <p:nvPr/>
            </p:nvSpPr>
            <p:spPr>
              <a:xfrm>
                <a:off x="4847040" y="10008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2" name="Oval 37"/>
              <p:cNvSpPr/>
              <p:nvPr/>
            </p:nvSpPr>
            <p:spPr>
              <a:xfrm>
                <a:off x="455868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3" name="Oval 38"/>
              <p:cNvSpPr/>
              <p:nvPr/>
            </p:nvSpPr>
            <p:spPr>
              <a:xfrm>
                <a:off x="579996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4" name="TextBox 39"/>
              <p:cNvSpPr/>
              <p:nvPr/>
            </p:nvSpPr>
            <p:spPr>
              <a:xfrm>
                <a:off x="4447800" y="102744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779480" y="815760"/>
              <a:ext cx="1590480" cy="1808640"/>
              <a:chOff x="1779480" y="815760"/>
              <a:chExt cx="1590480" cy="1808640"/>
            </a:xfrm>
          </p:grpSpPr>
          <p:sp>
            <p:nvSpPr>
              <p:cNvPr id="496" name="Rectangle 7"/>
              <p:cNvSpPr/>
              <p:nvPr/>
            </p:nvSpPr>
            <p:spPr>
              <a:xfrm>
                <a:off x="1779480" y="815760"/>
                <a:ext cx="1590480" cy="1683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7" name="TextBox 12"/>
              <p:cNvSpPr/>
              <p:nvPr/>
            </p:nvSpPr>
            <p:spPr>
              <a:xfrm>
                <a:off x="2205720" y="100656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111111"/>
                    </a:solidFill>
                    <a:latin typeface="Arial Bold"/>
                  </a:rPr>
                  <a:t>2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8" name="Oval 23"/>
              <p:cNvSpPr/>
              <p:nvPr/>
            </p:nvSpPr>
            <p:spPr>
              <a:xfrm>
                <a:off x="189036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9" name="Oval 24"/>
              <p:cNvSpPr/>
              <p:nvPr/>
            </p:nvSpPr>
            <p:spPr>
              <a:xfrm>
                <a:off x="313164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0" name="TextBox 26"/>
              <p:cNvSpPr/>
              <p:nvPr/>
            </p:nvSpPr>
            <p:spPr>
              <a:xfrm>
                <a:off x="1779480" y="1032840"/>
                <a:ext cx="1590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2920320" y="815040"/>
              <a:ext cx="2071440" cy="2126520"/>
              <a:chOff x="2920320" y="815040"/>
              <a:chExt cx="2071440" cy="2126520"/>
            </a:xfrm>
          </p:grpSpPr>
          <p:sp>
            <p:nvSpPr>
              <p:cNvPr id="502" name="Rectangle 29"/>
              <p:cNvSpPr/>
              <p:nvPr/>
            </p:nvSpPr>
            <p:spPr>
              <a:xfrm rot="1201800">
                <a:off x="3160440" y="10364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3" name="TextBox 30"/>
              <p:cNvSpPr/>
              <p:nvPr/>
            </p:nvSpPr>
            <p:spPr>
              <a:xfrm rot="1201800">
                <a:off x="3524400" y="112248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0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4" name="Oval 31"/>
              <p:cNvSpPr/>
              <p:nvPr/>
            </p:nvSpPr>
            <p:spPr>
              <a:xfrm rot="1201800">
                <a:off x="3534840" y="97596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5" name="Oval 32"/>
              <p:cNvSpPr/>
              <p:nvPr/>
            </p:nvSpPr>
            <p:spPr>
              <a:xfrm rot="1201800">
                <a:off x="4701600" y="140112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6" name="TextBox 33"/>
              <p:cNvSpPr/>
              <p:nvPr/>
            </p:nvSpPr>
            <p:spPr>
              <a:xfrm rot="1201800">
                <a:off x="3329280" y="126468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604840" y="730800"/>
              <a:ext cx="1789200" cy="1937880"/>
              <a:chOff x="5604840" y="730800"/>
              <a:chExt cx="1789200" cy="1937880"/>
            </a:xfrm>
          </p:grpSpPr>
          <p:sp>
            <p:nvSpPr>
              <p:cNvPr id="508" name="Rectangle 41"/>
              <p:cNvSpPr/>
              <p:nvPr/>
            </p:nvSpPr>
            <p:spPr>
              <a:xfrm rot="21168000">
                <a:off x="5703840" y="82368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09" name="TextBox 42"/>
              <p:cNvSpPr/>
              <p:nvPr/>
            </p:nvSpPr>
            <p:spPr>
              <a:xfrm rot="21168000">
                <a:off x="6142320" y="10134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10" name="Oval 43"/>
              <p:cNvSpPr/>
              <p:nvPr/>
            </p:nvSpPr>
            <p:spPr>
              <a:xfrm rot="21168000">
                <a:off x="5737680" y="101448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11" name="Oval 44"/>
              <p:cNvSpPr/>
              <p:nvPr/>
            </p:nvSpPr>
            <p:spPr>
              <a:xfrm rot="21168000">
                <a:off x="6969600" y="8586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12" name="TextBox 45"/>
              <p:cNvSpPr/>
              <p:nvPr/>
            </p:nvSpPr>
            <p:spPr>
              <a:xfrm rot="21168000">
                <a:off x="5643360" y="102672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4444920" y="2368440"/>
            <a:ext cx="2241720" cy="2368800"/>
            <a:chOff x="4444920" y="2368440"/>
            <a:chExt cx="2241720" cy="2368800"/>
          </a:xfrm>
        </p:grpSpPr>
        <p:sp>
          <p:nvSpPr>
            <p:cNvPr id="514" name="Rectangle 48"/>
            <p:cNvSpPr/>
            <p:nvPr/>
          </p:nvSpPr>
          <p:spPr>
            <a:xfrm>
              <a:off x="4444920" y="2368440"/>
              <a:ext cx="2241720" cy="2368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5" name="TextBox 49"/>
            <p:cNvSpPr/>
            <p:nvPr/>
          </p:nvSpPr>
          <p:spPr>
            <a:xfrm>
              <a:off x="5045760" y="263736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1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6" name="Oval 50"/>
            <p:cNvSpPr/>
            <p:nvPr/>
          </p:nvSpPr>
          <p:spPr>
            <a:xfrm>
              <a:off x="46011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7" name="Oval 51"/>
            <p:cNvSpPr/>
            <p:nvPr/>
          </p:nvSpPr>
          <p:spPr>
            <a:xfrm>
              <a:off x="63507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8" name="TextBox 52"/>
            <p:cNvSpPr/>
            <p:nvPr/>
          </p:nvSpPr>
          <p:spPr>
            <a:xfrm>
              <a:off x="4444920" y="267480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519" name="Rectangle 53"/>
          <p:cNvSpPr/>
          <p:nvPr/>
        </p:nvSpPr>
        <p:spPr>
          <a:xfrm rot="10800000">
            <a:off x="453672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0" name="Rectangle 54"/>
          <p:cNvSpPr/>
          <p:nvPr/>
        </p:nvSpPr>
        <p:spPr>
          <a:xfrm rot="11122200">
            <a:off x="6360480" y="4930200"/>
            <a:ext cx="2119320" cy="8283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1" name="Rectangle 55"/>
          <p:cNvSpPr/>
          <p:nvPr/>
        </p:nvSpPr>
        <p:spPr>
          <a:xfrm rot="10800000">
            <a:off x="68544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5800" y="2374920"/>
            <a:ext cx="2241720" cy="2371680"/>
            <a:chOff x="685800" y="2374920"/>
            <a:chExt cx="2241720" cy="2371680"/>
          </a:xfrm>
        </p:grpSpPr>
        <p:sp>
          <p:nvSpPr>
            <p:cNvPr id="523" name="Rectangle 57"/>
            <p:cNvSpPr/>
            <p:nvPr/>
          </p:nvSpPr>
          <p:spPr>
            <a:xfrm>
              <a:off x="685800" y="2374920"/>
              <a:ext cx="2241720" cy="2371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24" name="TextBox 58"/>
            <p:cNvSpPr/>
            <p:nvPr/>
          </p:nvSpPr>
          <p:spPr>
            <a:xfrm>
              <a:off x="1286640" y="2644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25" name="Oval 59"/>
            <p:cNvSpPr/>
            <p:nvPr/>
          </p:nvSpPr>
          <p:spPr>
            <a:xfrm>
              <a:off x="8420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26" name="Oval 60"/>
            <p:cNvSpPr/>
            <p:nvPr/>
          </p:nvSpPr>
          <p:spPr>
            <a:xfrm>
              <a:off x="25916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27" name="TextBox 61"/>
            <p:cNvSpPr/>
            <p:nvPr/>
          </p:nvSpPr>
          <p:spPr>
            <a:xfrm>
              <a:off x="685800" y="268164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296080" y="2377080"/>
            <a:ext cx="2916720" cy="2993040"/>
            <a:chOff x="2296080" y="2377080"/>
            <a:chExt cx="2916720" cy="2993040"/>
          </a:xfrm>
        </p:grpSpPr>
        <p:sp>
          <p:nvSpPr>
            <p:cNvPr id="529" name="Rectangle 63"/>
            <p:cNvSpPr/>
            <p:nvPr/>
          </p:nvSpPr>
          <p:spPr>
            <a:xfrm rot="1201800">
              <a:off x="2633760" y="2689200"/>
              <a:ext cx="224136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0" name="TextBox 64"/>
            <p:cNvSpPr/>
            <p:nvPr/>
          </p:nvSpPr>
          <p:spPr>
            <a:xfrm rot="1201800">
              <a:off x="3193920" y="294048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0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1" name="Oval 65"/>
            <p:cNvSpPr/>
            <p:nvPr/>
          </p:nvSpPr>
          <p:spPr>
            <a:xfrm rot="1201800">
              <a:off x="3159360" y="260316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2" name="Oval 66"/>
            <p:cNvSpPr/>
            <p:nvPr/>
          </p:nvSpPr>
          <p:spPr>
            <a:xfrm rot="1201800">
              <a:off x="4802760" y="320220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3" name="TextBox 67"/>
            <p:cNvSpPr/>
            <p:nvPr/>
          </p:nvSpPr>
          <p:spPr>
            <a:xfrm rot="1201800">
              <a:off x="2871000" y="3037320"/>
              <a:ext cx="22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76800" y="2259720"/>
            <a:ext cx="2520720" cy="2630520"/>
            <a:chOff x="6076800" y="2259720"/>
            <a:chExt cx="2520720" cy="2630520"/>
          </a:xfrm>
        </p:grpSpPr>
        <p:sp>
          <p:nvSpPr>
            <p:cNvPr id="535" name="Rectangle 69"/>
            <p:cNvSpPr/>
            <p:nvPr/>
          </p:nvSpPr>
          <p:spPr>
            <a:xfrm rot="21168000">
              <a:off x="6216120" y="2390400"/>
              <a:ext cx="224172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6" name="TextBox 70"/>
            <p:cNvSpPr/>
            <p:nvPr/>
          </p:nvSpPr>
          <p:spPr>
            <a:xfrm rot="21168000">
              <a:off x="6832800" y="2662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7" name="Oval 71"/>
            <p:cNvSpPr/>
            <p:nvPr/>
          </p:nvSpPr>
          <p:spPr>
            <a:xfrm rot="21168000">
              <a:off x="6263280" y="265788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8" name="Oval 72"/>
            <p:cNvSpPr/>
            <p:nvPr/>
          </p:nvSpPr>
          <p:spPr>
            <a:xfrm rot="21168000">
              <a:off x="7999200" y="243864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9" name="TextBox 73"/>
            <p:cNvSpPr/>
            <p:nvPr/>
          </p:nvSpPr>
          <p:spPr>
            <a:xfrm rot="21168000">
              <a:off x="6129360" y="270216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 Black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 Black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 Black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CC8-B9D5-46FB-AC04-6872F1436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21:00Z</dcterms:created>
  <dc:creator>田士庆</dc:creator>
  <dc:description>设计定制服务请访问 www.littletian.com 或 直接邮件 hello@littletian.com</dc:description>
  <cp:keywords>4.3; 浅蓝色; 静态; L</cp:keywords>
  <dc:language>en-US</dc:language>
  <cp:lastModifiedBy>Momo</cp:lastModifiedBy>
  <dcterms:modified xsi:type="dcterms:W3CDTF">2015-07-01T00:48:58Z</dcterms:modified>
  <cp:revision>34</cp:revision>
  <dc:subject>年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