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76A-C933-4FE6-B856-D9708718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2C1-E924-4693-B9A9-5C0CA41F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881-B7F7-4C5B-9DF3-916C21A3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7F2-CC18-43B6-A5D2-6BC0CC1A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8B7-D1A6-4AE9-828B-97FC94EE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D65-F50A-4670-981F-82A63A73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CBB-D751-4AA4-BFB2-DA9DD29C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E2C-7CBA-4AD4-B458-37F01748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C6F-3D3C-4C19-A4B1-18C060DC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811-A7C4-4DF8-8093-105538E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7D2-9EC9-416D-A103-E039908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A44-1B54-4C15-971A-1101545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479F-43B2-46DA-9B28-50DF06ED26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7392960" y="3751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专用模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880240" y="430056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cr173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77.7799987792969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5" dur="300" fill="hold"/>
                                        <p:tgtEl>
                                          <p:spTgt spid="45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757080" y="1941480"/>
            <a:ext cx="7848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把新世纪的祝福和希望，悄悄地放在将融的雪被下，让它们，沿着春天的秧苗生长，送给你满年的丰硕与芬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5"/>
          <p:cNvSpPr/>
          <p:nvPr/>
        </p:nvSpPr>
        <p:spPr>
          <a:xfrm>
            <a:off x="841320" y="1554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94"/>
          <p:cNvSpPr/>
          <p:nvPr/>
        </p:nvSpPr>
        <p:spPr>
          <a:xfrm>
            <a:off x="2897280" y="128412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7229520" y="2782800"/>
            <a:ext cx="151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快乐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工作夹\PPT模版\s1030元旦\原图片\元旦.png"/>
          <p:cNvPicPr/>
          <p:nvPr/>
        </p:nvPicPr>
        <p:blipFill>
          <a:blip r:embed="rId2"/>
          <a:stretch/>
        </p:blipFill>
        <p:spPr>
          <a:xfrm>
            <a:off x="7124760" y="3751200"/>
            <a:ext cx="1824120" cy="142236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9"/>
          <p:cNvSpPr/>
          <p:nvPr/>
        </p:nvSpPr>
        <p:spPr>
          <a:xfrm>
            <a:off x="841320" y="236052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0"/>
          <p:cNvSpPr/>
          <p:nvPr/>
        </p:nvSpPr>
        <p:spPr>
          <a:xfrm>
            <a:off x="841320" y="271620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1"/>
          <p:cNvSpPr/>
          <p:nvPr/>
        </p:nvSpPr>
        <p:spPr>
          <a:xfrm>
            <a:off x="841320" y="200484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479200" y="3597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254720" y="441468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3.334999084472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5:44:41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锐普PPT</cp:lastModifiedBy>
  <dcterms:modified xsi:type="dcterms:W3CDTF">2015-06-30T06:36:40Z</dcterms:modified>
  <cp:revision>2</cp:revision>
  <dc:subject/>
  <dc:title>2012年锐普元旦PPT模板——心愿小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