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6.jpeg" ContentType="image/jpeg"/>
  <Override PartName="/ppt/media/image10.png" ContentType="image/png"/>
  <Override PartName="/ppt/media/chimes.wav" ContentType="audio/x-wav"/>
  <Override PartName="/ppt/media/image13.gif" ContentType="image/gif"/>
  <Override PartName="/ppt/media/clap.wav" ContentType="audio/x-wav"/>
  <Override PartName="/ppt/media/image8.jpeg" ContentType="image/jpeg"/>
  <Override PartName="/ppt/media/image5.png" ContentType="image/png"/>
  <Override PartName="/ppt/media/image4.png" ContentType="image/png"/>
  <Override PartName="/ppt/media/image12.wmf" ContentType="image/x-wmf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wmf" ContentType="image/x-wmf"/>
  <Override PartName="/ppt/media/type.wav" ContentType="audio/x-wav"/>
  <Override PartName="/ppt/media/image17.png" ContentType="image/png"/>
  <Override PartName="/ppt/media/projctor.wav" ContentType="audio/x-wav"/>
  <Override PartName="/ppt/media/image11.png" ContentType="image/png"/>
  <Override PartName="/ppt/media/camera.wav" ContentType="audio/x-wav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4ED-189C-4CC4-8136-997A0447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31E-FBD0-4FF0-9C18-994F2FAD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962-F4BC-4203-9C56-9BE79192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3EA-BFF4-4F0F-AC16-B0B5D762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A1F-F15F-41DA-932D-7524880A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155-6DB6-4F9A-8867-042E831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C99-CCFC-47CC-A1CC-D3291964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3E8-8724-40BF-8647-E4C0F22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0EB-DDA4-4CA7-840D-1DB6CF92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105-CA2C-4684-876D-72FE180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AA0-3738-4EDA-98DA-EC01AAF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1C1-CAFB-4EF5-8EC1-665014C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1AA-FDEA-4331-B9A6-74F0D6FCA9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680" y="1916280"/>
            <a:ext cx="8062920" cy="41050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谋杀”我的隐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切切察察”的毛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摆成“大”字的睡相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令人厌烦的种种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长毛”的往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76360" y="1989000"/>
            <a:ext cx="5400720" cy="4105080"/>
            <a:chOff x="1476360" y="1989000"/>
            <a:chExt cx="5400720" cy="4105080"/>
          </a:xfrm>
        </p:grpSpPr>
        <p:sp>
          <p:nvSpPr>
            <p:cNvPr id="76" name=""/>
            <p:cNvSpPr/>
            <p:nvPr/>
          </p:nvSpPr>
          <p:spPr>
            <a:xfrm>
              <a:off x="4068720" y="1989000"/>
              <a:ext cx="0" cy="4105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6360" y="1989000"/>
              <a:ext cx="0" cy="4033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51280" y="2061720"/>
              <a:ext cx="0" cy="3961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280" y="1989000"/>
              <a:ext cx="0" cy="4105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77080" y="1989000"/>
              <a:ext cx="0" cy="4033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11280" y="5157720"/>
            <a:ext cx="304560" cy="38124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700560" y="3733920"/>
            <a:ext cx="8958600" cy="3124080"/>
          </a:xfrm>
          <a:prstGeom prst="rect">
            <a:avLst/>
          </a:prstGeom>
          <a:solidFill>
            <a:srgbClr val="ff99ff">
              <a:alpha val="50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连真正的名字也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相貌平平甚至有些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多事，切切察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不拘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麻烦、规矩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愚昧，无知，似有阿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心地善良，仁慈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于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380880"/>
            <a:ext cx="198108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9969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精读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00200"/>
            <a:ext cx="7772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精读并按以下句式说话</a:t>
            </a:r>
            <a:r>
              <a:rPr b="1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读文章＿＿＿＿片断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认识到长妈妈是个＿＿＿＿＿＿＿＿的劳动妇女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733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82300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2098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56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耐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191628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的敬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2492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203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076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敬意淡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2565360"/>
            <a:ext cx="102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414972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的敬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628640"/>
            <a:ext cx="838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深沉的怀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9143640" y="-228600"/>
            <a:ext cx="304920" cy="739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9144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781200"/>
            <a:ext cx="28958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一学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981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本文在叙述上注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详略结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，突出了典型事件来体现人物的典型性格；外貌描写、动作描写和语言描写生动、逼真、入木三分；并且采用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先抑后扬（欲扬先抑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的写作手法，展现出作者思想感情的前后变化，给读者留下了深刻的印象，也使得人物形象更加真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质疑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86728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529200" y="380880"/>
            <a:ext cx="2618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方正舒体"/>
              </a:rPr>
              <a:t>阿 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5200" y="1066680"/>
            <a:ext cx="10033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与《山海经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200000">
            <a:off x="5100120" y="1868400"/>
            <a:ext cx="3181680" cy="45975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1066680" y="5410080"/>
            <a:ext cx="2286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华文新魏"/>
              </a:rPr>
              <a:t>鲁迅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76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rcRect l="0" t="0" r="114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《山海经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山海经》是我国第一部描述山川、物产、风俗、民情的大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理著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又是我国古代第一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话传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汇编。全书共十八篇，分为《山经》和《海经》两个部分。它以描述各地山川为纲，记述了许多当地的神话传说。如《精卫填海》、《夸父逐日》、《女娲补天》、《后羿射日》、《大禹治水》、《黄帝擒蚩尤》等神话传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25876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骇          掳           悚            惶急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疮疤             诘问                渴慕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霹雳               烦琐            惧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l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440" y="318456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chuāng b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8160" y="3276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90512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sǒ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9051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huáng 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636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k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040" y="43434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Pī  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65520" y="44197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s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4320" y="44197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d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h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买《山海经》一事的起因、经过、结果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这件事，“我”对“阿长”产生了怎样的看法？你认为“阿长”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0"/>
            <a:ext cx="23763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选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6000" y="1052640"/>
            <a:ext cx="72388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阿长来问《山海经》是怎么一回事时，“我”是怎样想的？这种想法表现了“我”的什么心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阿长说“哥儿，有画儿的‘三哼经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给你买来了”，“我” 有什么反应？表现出怎样的心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说“她确有伟大的神力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四本书，乃是我最初得到，最为心爱的宝物。”为什么这么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05720" y="5257800"/>
            <a:ext cx="13111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12:51Z</dcterms:created>
  <dc:creator>微软用户</dc:creator>
  <dc:description/>
  <dc:language>en-US</dc:language>
  <cp:lastModifiedBy>微软中国</cp:lastModifiedBy>
  <dcterms:modified xsi:type="dcterms:W3CDTF">2011-10-26T07:14:42Z</dcterms:modified>
  <cp:revision>10</cp:revision>
  <dc:subject/>
  <dc:title>幻灯片 1</dc:title>
</cp:coreProperties>
</file>