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9.gif" ContentType="image/gif"/>
  <Override PartName="/ppt/media/driveby.wav" ContentType="audio/x-wav"/>
  <Override PartName="/ppt/media/image18.jpeg" ContentType="image/jpeg"/>
  <Override PartName="/ppt/media/image17.gif" ContentType="image/gif"/>
  <Override PartName="/ppt/media/image15.gif" ContentType="image/gif"/>
  <Override PartName="/ppt/media/image5.jpeg" ContentType="image/jpeg"/>
  <Override PartName="/ppt/media/explode.wav" ContentType="audio/x-wav"/>
  <Override PartName="/ppt/media/image16.gif" ContentType="image/gif"/>
  <Override PartName="/ppt/media/image14.gif" ContentType="image/gif"/>
  <Override PartName="/ppt/media/image31.jpeg" ContentType="image/jpeg"/>
  <Override PartName="/ppt/media/type.wav" ContentType="audio/x-wav"/>
  <Override PartName="/ppt/media/image11.gif" ContentType="image/gif"/>
  <Override PartName="/ppt/media/image12.gif" ContentType="image/gif"/>
  <Override PartName="/ppt/media/carbrake.wav" ContentType="audio/x-wav"/>
  <Override PartName="/ppt/media/image21.png" ContentType="image/png"/>
  <Override PartName="/ppt/media/image22.jpeg" ContentType="image/jpeg"/>
  <Override PartName="/ppt/media/cashreg.wav" ContentType="audio/x-wav"/>
  <Override PartName="/ppt/media/image23.gif" ContentType="image/gif"/>
  <Override PartName="/ppt/media/gunshot.wav" ContentType="audio/x-wav"/>
  <Override PartName="/ppt/media/image3.png" ContentType="image/png"/>
  <Override PartName="/ppt/media/image20.gif" ContentType="image/gif"/>
  <Override PartName="/ppt/media/image24.png" ContentType="image/png"/>
  <Override PartName="/ppt/media/image9.gif" ContentType="image/gif"/>
  <Override PartName="/ppt/media/image26.gif" ContentType="image/gif"/>
  <Override PartName="/ppt/media/image28.png" ContentType="image/png"/>
  <Override PartName="/ppt/media/image7.gif" ContentType="image/gif"/>
  <Override PartName="/ppt/media/image29.jpeg" ContentType="image/jpeg"/>
  <Override PartName="/ppt/media/image8.jpeg" ContentType="image/jpeg"/>
  <Override PartName="/ppt/media/whoosh.wav" ContentType="audio/x-wav"/>
  <Override PartName="/ppt/media/image30.jpeg" ContentType="image/jpeg"/>
  <Override PartName="/ppt/media/applause.wav" ContentType="audio/x-wav"/>
  <Override PartName="/ppt/media/glass.wav" ContentType="audio/x-wav"/>
  <Override PartName="/ppt/media/image1.jpeg" ContentType="image/jpeg"/>
  <Override PartName="/ppt/media/image10.png" ContentType="image/png"/>
  <Override PartName="/ppt/media/image13.gif" ContentType="image/gif"/>
  <Override PartName="/ppt/media/ricochet.wav" ContentType="audio/x-wav"/>
  <Override PartName="/ppt/media/chimes.wav" ContentType="audio/x-wav"/>
  <Override PartName="/ppt/media/image6.gif" ContentType="image/gif"/>
  <Override PartName="/ppt/media/image4.png" ContentType="image/png"/>
  <Override PartName="/ppt/media/drumroll.wav" ContentType="audio/x-wav"/>
  <Override PartName="/ppt/media/image27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A4F-688C-4FED-988E-17F3469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401-329B-4AD5-B6E8-497CB4D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CBA-BDD5-4912-B0B6-8D1BA08B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BE2-D560-4327-9526-B6BD4BAF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E40A-91FC-4FEC-B65A-EAA15851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EBCB-AFD2-4768-B8DA-35D542A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54A4-135B-4071-B75F-9D1A4451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8B89-17EF-4473-8648-CAA3BCD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8657-3424-43C4-8E0E-F83DF193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4F4-EAB3-4EE5-8EFE-31F21AF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568-F554-4E2C-B6FC-7FCD9A6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A4B-32C7-49EB-AC6F-CA26C4C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177C-742A-4E67-976F-77768EF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EF4-7BE4-496B-BD47-5D8124D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4B8-D39F-44C2-BC9F-A49F67C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CFCA-5DF5-45A7-8E52-F8E24FDC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F75-731E-447C-8571-8F661497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8D3-1400-48B9-B2D2-3574C3B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615-1EBA-4871-8D14-0E3B29E1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31F-E523-43C9-AC55-F504A81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7D5-0ADB-4F69-B4B9-DB99271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377-10A5-4323-AA06-65BA003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7AE-44C7-4A5B-A090-9B360257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6E0-E675-4B19-BB3E-4FBC37C0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89F6-82D5-4D7D-855D-DECF708546A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4E3-7346-46D8-A666-20F92F45B48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explod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driveby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" Target="slide2.xml"/><Relationship Id="rId4" Type="http://schemas.openxmlformats.org/officeDocument/2006/relationships/image" Target="../media/image24.png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image" Target="../media/image6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" Target="slide2.xml"/><Relationship Id="rId4" Type="http://schemas.openxmlformats.org/officeDocument/2006/relationships/image" Target="../media/image24.png"/><Relationship Id="rId5" Type="http://schemas.openxmlformats.org/officeDocument/2006/relationships/audio" Target="../media/carbrak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8af4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905120" y="990720"/>
            <a:ext cx="6933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阿长与《山海经》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343400" y="2666880"/>
            <a:ext cx="1981080" cy="2133720"/>
            <a:chOff x="4343400" y="2666880"/>
            <a:chExt cx="1981080" cy="2133720"/>
          </a:xfrm>
        </p:grpSpPr>
        <p:grpSp>
          <p:nvGrpSpPr>
            <p:cNvPr id="92" name=""/>
            <p:cNvGrpSpPr/>
            <p:nvPr/>
          </p:nvGrpSpPr>
          <p:grpSpPr>
            <a:xfrm>
              <a:off x="4495680" y="4343400"/>
              <a:ext cx="1614600" cy="457200"/>
              <a:chOff x="4495680" y="4343400"/>
              <a:chExt cx="1614600" cy="45720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4952880" y="4343400"/>
                <a:ext cx="11574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0">
                      <a:noFill/>
                    </a:ln>
                    <a:solidFill>
                      <a:srgbClr val="333399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隶书"/>
                  </a:rPr>
                  <a:t>鲁迅</a:t>
                </a:r>
                <a:endParaRPr b="1" lang="en-US" sz="2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  <a:ea typeface="隶书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95680" y="441936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" descr=""/>
            <p:cNvPicPr/>
            <p:nvPr/>
          </p:nvPicPr>
          <p:blipFill>
            <a:blip r:embed="rId3"/>
            <a:srcRect l="0" t="0" r="0" b="69"/>
            <a:stretch/>
          </p:blipFill>
          <p:spPr>
            <a:xfrm>
              <a:off x="4343400" y="2666880"/>
              <a:ext cx="1981080" cy="152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b0b"/>
                </a:solidFill>
                <a:latin typeface="Times New Roman"/>
              </a:rPr>
              <a:t>理解分析第一部分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76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第一层（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4d41ed"/>
                </a:solidFill>
                <a:latin typeface="宋体"/>
              </a:rPr>
              <a:t>简单介绍阿长的身份和名字的由来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2670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第二层（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3-5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4d41ed"/>
                </a:solidFill>
                <a:latin typeface="宋体"/>
              </a:rPr>
              <a:t>写长妈妈的粗俗的具体的表现</a:t>
            </a:r>
            <a:r>
              <a:rPr b="1" lang="zh-CN" sz="2800" spc="-1" strike="noStrike">
                <a:solidFill>
                  <a:srgbClr val="198b3f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                            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“切切察察”——</a:t>
            </a:r>
            <a:r>
              <a:rPr b="1" lang="zh-CN" sz="2800" spc="-1" strike="noStrike">
                <a:solidFill>
                  <a:srgbClr val="ff2f2f"/>
                </a:solidFill>
                <a:latin typeface="宋体"/>
              </a:rPr>
              <a:t>饶舌；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                                    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“搞我的状”——</a:t>
            </a:r>
            <a:r>
              <a:rPr b="1" lang="zh-CN" sz="2800" spc="-1" strike="noStrike">
                <a:solidFill>
                  <a:srgbClr val="ff2f2f"/>
                </a:solidFill>
                <a:latin typeface="宋体"/>
              </a:rPr>
              <a:t>多事；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睡觉时成“大”字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2f2f"/>
                </a:solidFill>
                <a:latin typeface="宋体"/>
              </a:rPr>
              <a:t>不拘小节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62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称呼：“长妈妈”、“阿长”、“阿妈”                 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称呼由来：先前的女工叫“阿长”，习惯了          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外形特征：黄瘦而矮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25146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2514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f2f"/>
                </a:solidFill>
                <a:latin typeface="Times New Roman"/>
              </a:rPr>
              <a:t>普通平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143000"/>
            <a:ext cx="8686800" cy="2653200"/>
          </a:xfrm>
          <a:prstGeom prst="rect">
            <a:avLst/>
          </a:prstGeom>
          <a:noFill/>
          <a:ln w="9360">
            <a:solidFill>
              <a:srgbClr val="4d4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第三层（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6-12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）：</a:t>
            </a:r>
            <a:r>
              <a:rPr b="1" lang="zh-CN" sz="3600" spc="-1" strike="noStrike">
                <a:solidFill>
                  <a:srgbClr val="4d41ed"/>
                </a:solidFill>
                <a:latin typeface="宋体"/>
              </a:rPr>
              <a:t>写长妈妈麻烦的礼节</a:t>
            </a:r>
            <a:r>
              <a:rPr b="1" lang="zh-CN" sz="4000" spc="-1" strike="noStrike">
                <a:solidFill>
                  <a:srgbClr val="4d41ed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元旦吃福橘；——</a:t>
            </a:r>
            <a:r>
              <a:rPr b="1" lang="zh-CN" sz="3200" spc="-1" strike="noStrike">
                <a:solidFill>
                  <a:srgbClr val="f70920"/>
                </a:solidFill>
                <a:latin typeface="宋体"/>
              </a:rPr>
              <a:t>详写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人死了要说“老掉了”；         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死人、生了孩子的屋子不该走进去；           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饭粒掉在地上，必须捡起来，最好吃下去；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晒裤字的竹竿下，是万不可钻过去的。                           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、讲长毛的故事。——</a:t>
            </a:r>
            <a:r>
              <a:rPr b="1" lang="zh-CN" sz="3200" spc="-1" strike="noStrike">
                <a:solidFill>
                  <a:srgbClr val="f70920"/>
                </a:solidFill>
                <a:latin typeface="宋体"/>
              </a:rPr>
              <a:t>详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21280" y="541008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f2f"/>
                </a:solidFill>
                <a:latin typeface="Times New Roman"/>
                <a:ea typeface="方正姚体"/>
              </a:rPr>
              <a:t>麻烦多礼、愚昧无知、迷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80060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22860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920"/>
                </a:solidFill>
                <a:latin typeface="宋体"/>
              </a:rPr>
              <a:t>总之：</a:t>
            </a:r>
            <a:r>
              <a:rPr b="1" lang="zh-CN" sz="4000" spc="-1" strike="noStrike">
                <a:solidFill>
                  <a:srgbClr val="13110f"/>
                </a:solidFill>
                <a:latin typeface="宋体"/>
              </a:rPr>
              <a:t>本部分写出了长妈妈的</a:t>
            </a:r>
            <a:r>
              <a:rPr b="1" lang="zh-CN" sz="4000" spc="-1" strike="noStrike">
                <a:solidFill>
                  <a:srgbClr val="4d41ed"/>
                </a:solidFill>
                <a:latin typeface="宋体"/>
              </a:rPr>
              <a:t>饶舌、多事、不拘小节、麻烦多礼、迷信、愚昧无知</a:t>
            </a:r>
            <a:r>
              <a:rPr b="1" lang="zh-CN" sz="40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13110f"/>
                </a:solidFill>
                <a:latin typeface="宋体"/>
              </a:rPr>
              <a:t>表现了作者多长妈妈的</a:t>
            </a:r>
            <a:r>
              <a:rPr b="1" lang="zh-CN" sz="4000" spc="-1" strike="noStrike" u="sng">
                <a:solidFill>
                  <a:srgbClr val="f70920"/>
                </a:solidFill>
                <a:uFillTx/>
                <a:latin typeface="宋体"/>
              </a:rPr>
              <a:t>讨厌、憎恶、不喜欢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0" y="5334120"/>
            <a:ext cx="762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35200" y="990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b0b"/>
                </a:solidFill>
                <a:latin typeface="Times New Roman"/>
              </a:rPr>
              <a:t>理解分析第二部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057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第一层（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18-21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）：“</a:t>
            </a:r>
            <a:r>
              <a:rPr b="1" lang="zh-CN" sz="3200" spc="-1" strike="noStrike">
                <a:solidFill>
                  <a:srgbClr val="4d41ed"/>
                </a:solidFill>
                <a:latin typeface="宋体"/>
              </a:rPr>
              <a:t>我”渴慕《山海经》的缘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048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、作者小时侯为什么喜欢《山海经》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、本层在全文中的作用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733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d3d"/>
                </a:solidFill>
                <a:latin typeface="Times New Roman"/>
                <a:ea typeface="隶书"/>
              </a:rPr>
              <a:t>《山海经》中有很多奇特的插图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562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4a1f"/>
                </a:solidFill>
                <a:latin typeface="Times New Roman"/>
              </a:rPr>
              <a:t>为下文长妈给“我”买《山海经》作铺垫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1295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第二层（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22-28</a:t>
            </a:r>
            <a:r>
              <a:rPr b="1" lang="zh-CN" sz="3200" spc="-1" strike="noStrike">
                <a:solidFill>
                  <a:srgbClr val="13110f"/>
                </a:solidFill>
                <a:latin typeface="宋体"/>
              </a:rPr>
              <a:t>）：</a:t>
            </a:r>
            <a:r>
              <a:rPr b="1" lang="zh-CN" sz="3200" spc="-1" strike="noStrike">
                <a:solidFill>
                  <a:srgbClr val="4d41ed"/>
                </a:solidFill>
                <a:latin typeface="宋体"/>
              </a:rPr>
              <a:t>写长妈妈给“我”买来了渴慕已久的《山海经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895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、阿长是怎样知道“我”非常想得到《山海经》的？（用原文回答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4419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920"/>
                </a:solidFill>
                <a:latin typeface="Times New Roman"/>
              </a:rPr>
              <a:t>大概是太过于念念不忘了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7520" y="499896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19720" y="54100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ddf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99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、当阿长来问《山海经》是怎么一回事时，“我”是怎样想的？            这种想法表现了“我”的什么心理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04812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2f2f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ff2f2f"/>
                </a:solidFill>
                <a:latin typeface="Times New Roman"/>
                <a:ea typeface="隶书"/>
              </a:rPr>
              <a:t>我”认为“她并非学者，     说了也无益”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1ed"/>
                </a:solidFill>
                <a:latin typeface="Times New Roman"/>
                <a:ea typeface="隶书"/>
              </a:rPr>
              <a:t>表现了“我”对从她那儿得到《山海经》不抱任何希望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467480" y="3124080"/>
            <a:ext cx="1067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52480" y="13716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13110f"/>
                </a:solidFill>
                <a:latin typeface="Times New Roman"/>
                <a:ea typeface="隶书"/>
              </a:rPr>
              <a:t>、当阿长说“哥儿，有画儿的‘三哼经’，我给你买来了”，                               </a:t>
            </a:r>
            <a:r>
              <a:rPr b="1" lang="zh-CN" sz="3600" spc="-1" strike="noStrike" u="sng">
                <a:solidFill>
                  <a:srgbClr val="13110f"/>
                </a:solidFill>
                <a:uFillTx/>
                <a:latin typeface="Times New Roman"/>
                <a:ea typeface="隶书"/>
              </a:rPr>
              <a:t>“我”有什么反应？</a:t>
            </a:r>
            <a:r>
              <a:rPr b="1" lang="zh-CN" sz="3600" spc="-1" strike="noStrike">
                <a:solidFill>
                  <a:srgbClr val="13110f"/>
                </a:solidFill>
                <a:latin typeface="Times New Roman"/>
                <a:ea typeface="隶书"/>
              </a:rPr>
              <a:t>                             </a:t>
            </a:r>
            <a:r>
              <a:rPr b="1" lang="zh-CN" sz="3600" spc="-1" strike="noStrike" u="sng">
                <a:solidFill>
                  <a:srgbClr val="13110f"/>
                </a:solidFill>
                <a:uFillTx/>
                <a:latin typeface="Times New Roman"/>
                <a:ea typeface="隶书"/>
              </a:rPr>
              <a:t>表现出什么样的心情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4114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楷体_GB2312"/>
              </a:rPr>
              <a:t>我”的反应：“我似乎遇着了一个霹雳，全体都震悚起来。”</a:t>
            </a:r>
            <a:r>
              <a:rPr b="1" lang="zh-CN" sz="3600" spc="-1" strike="noStrike">
                <a:solidFill>
                  <a:srgbClr val="f43a66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楷体_GB2312"/>
              </a:rPr>
              <a:t>表现出</a:t>
            </a:r>
            <a:r>
              <a:rPr b="1" lang="zh-CN" sz="3600" spc="-1" strike="noStrike" u="sng">
                <a:solidFill>
                  <a:srgbClr val="3232fc"/>
                </a:solidFill>
                <a:uFillTx/>
                <a:latin typeface="Times New Roman"/>
                <a:ea typeface="楷体_GB2312"/>
              </a:rPr>
              <a:t>意外、震惊、感动</a:t>
            </a: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楷体_GB2312"/>
              </a:rPr>
              <a:t>的心情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574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1371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110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13110f"/>
                </a:solidFill>
                <a:latin typeface="Times New Roman"/>
              </a:rPr>
              <a:t>、阿长的伟大之处在于什么？（用原文回答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8954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920"/>
                </a:solidFill>
                <a:latin typeface="隶书"/>
                <a:ea typeface="隶书"/>
              </a:rPr>
              <a:t>别人不肯做，或不能做到的事，她却能够做成功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4952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838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“这又使我发生新的敬意了，别人不肯做，或不能做的事，她却能够做成功。她确实有伟大的神力，”为什么说“她确实有伟大的神力”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819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3a66"/>
                </a:solidFill>
                <a:latin typeface="Times New Roman"/>
                <a:ea typeface="隶书"/>
              </a:rPr>
              <a:t>因为“我”对她能帮“我”这件事没抱过希望，但她却记住了“我”的渴求，并在告假回家时用自己微薄的工资帮“我”买来了“我”渴慕却无法得到的《山海经》，这在“我”幼小的心灵中无异于“伟大的神力”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2296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05120" y="1197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70920"/>
                </a:solidFill>
                <a:latin typeface="Times New Roman"/>
                <a:ea typeface="华文中宋"/>
              </a:rPr>
              <a:t>、“这四本书，乃是我最初得到，最为心爱的宝书。”</a:t>
            </a:r>
            <a:r>
              <a:rPr b="1" lang="zh-CN" sz="3600" spc="-1" strike="noStrike" u="sng">
                <a:solidFill>
                  <a:srgbClr val="f70920"/>
                </a:solidFill>
                <a:uFillTx/>
                <a:latin typeface="Times New Roman"/>
                <a:ea typeface="华文中宋"/>
              </a:rPr>
              <a:t>为什么这么说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6668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110f"/>
                </a:solidFill>
                <a:latin typeface="Times New Roman"/>
                <a:ea typeface="楷体_GB2312"/>
              </a:rPr>
              <a:t>这四本书虽然很粗拙，却有一个谁也想不到的人给“我”买来的，当时给了“我”非常大的震动，让“我”产生过感激和“新的敬意”，并激发了“我”幼时搜集绘图书的兴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91320" y="5105520"/>
            <a:ext cx="2019240" cy="1562040"/>
            <a:chOff x="5791320" y="5105520"/>
            <a:chExt cx="2019240" cy="15620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5791320" y="5105520"/>
              <a:ext cx="20192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651720" y="6036840"/>
              <a:ext cx="595800" cy="3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a3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2590920"/>
            <a:ext cx="662940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60ce"/>
                </a:solidFill>
                <a:latin typeface="Times New Roman"/>
              </a:rPr>
              <a:t>题解        作者简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字词        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导读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         </a:t>
            </a:r>
            <a:r>
              <a:rPr b="1" lang="zh-CN" sz="4000" spc="-1" strike="noStrike">
                <a:solidFill>
                  <a:srgbClr val="7060ce"/>
                </a:solidFill>
                <a:latin typeface="Times New Roman"/>
              </a:rPr>
              <a:t>结构分析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60ce"/>
                </a:solidFill>
                <a:latin typeface="Times New Roman"/>
              </a:rPr>
              <a:t>关于《山海经》部分的问题      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60ce"/>
                </a:solidFill>
                <a:latin typeface="Times New Roman"/>
              </a:rPr>
              <a:t>练习        总结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-1991160" y="2828880"/>
            <a:ext cx="60390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欢迎进入本课的学习</a:t>
            </a:r>
            <a:endParaRPr b="1" i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676520" y="129528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09480" y="914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、长妈妈为“我”买来了《山海经》，表现了她什么样的性格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13372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1ed"/>
                </a:solidFill>
                <a:latin typeface="Times New Roman"/>
              </a:rPr>
              <a:t>表现了长妈妈</a:t>
            </a:r>
            <a:r>
              <a:rPr b="1" lang="zh-CN" sz="3600" spc="-1" strike="noStrike">
                <a:solidFill>
                  <a:srgbClr val="4d41ed"/>
                </a:solidFill>
                <a:latin typeface="宋体"/>
              </a:rPr>
              <a:t>朴实、善良、热情、关心、体贴孩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80988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宋体"/>
              </a:rPr>
              <a:t>总之：</a:t>
            </a:r>
            <a:r>
              <a:rPr b="1" lang="zh-CN" sz="3600" spc="-1" strike="noStrike">
                <a:solidFill>
                  <a:srgbClr val="f43a66"/>
                </a:solidFill>
                <a:latin typeface="宋体"/>
              </a:rPr>
              <a:t>本部分写出了长妈妈为“我”买来了渴慕已久的《山海经》，从中看出长妈妈的</a:t>
            </a:r>
            <a:r>
              <a:rPr b="1" lang="zh-CN" sz="3600" spc="-1" strike="noStrike" u="sng">
                <a:solidFill>
                  <a:srgbClr val="13110f"/>
                </a:solidFill>
                <a:uFillTx/>
                <a:latin typeface="宋体"/>
              </a:rPr>
              <a:t>朴实、善良、热情、关心、体贴孩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1295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第三层（</a:t>
            </a: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29</a:t>
            </a: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）：搜集绘图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243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1ed"/>
                </a:solidFill>
                <a:latin typeface="Times New Roman"/>
              </a:rPr>
              <a:t>长妈妈给作者买来了《山海经》，对作者后来的发展产生了什么样的影响？（用原文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3a66"/>
                </a:solidFill>
                <a:latin typeface="Times New Roman"/>
              </a:rPr>
              <a:t>此后我就更其搜集绘图的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038480" y="5486400"/>
            <a:ext cx="1463760" cy="993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467480" y="4191120"/>
            <a:ext cx="6080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0120" y="76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3a66"/>
                </a:solidFill>
                <a:latin typeface="Times New Roman"/>
              </a:rPr>
              <a:t>理解分析第三部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4479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先写他“憎恶”、“讨厌”阿长，但在结尾处却说“仁厚黑暗的地母啊，愿在你怀里永安她的魂灵”，抒发出一种深沉的怀念之情。你是怎样理解作者的感情的？在作者眼中，阿长妈妈是怎样的一个人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038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1ed"/>
                </a:solidFill>
                <a:latin typeface="Times New Roman"/>
                <a:ea typeface="楷体_GB2312"/>
              </a:rPr>
              <a:t>本文运用了先抑后扬的写法，是为了突出作者对长妈妈的敬佩和怀念之情。先写了她名字的来由，讨厌她的絮叨、对“我”的管束严格、繁多的礼节，其实这一切都是为了反衬后文“我”对她的敬佩和怀念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bb6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838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792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13110f"/>
                </a:solidFill>
                <a:latin typeface="宋体"/>
              </a:rPr>
              <a:t>、结尾一句运用了什么表达方式？抒发了作者什么样的感情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971800"/>
            <a:ext cx="838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3a66"/>
                </a:solidFill>
                <a:latin typeface="Times New Roman"/>
              </a:rPr>
              <a:t>结尾</a:t>
            </a:r>
            <a:r>
              <a:rPr b="1" lang="zh-CN" sz="3600" spc="-1" strike="noStrike">
                <a:solidFill>
                  <a:srgbClr val="4d41ed"/>
                </a:solidFill>
                <a:latin typeface="Times New Roman"/>
              </a:rPr>
              <a:t>总结全文，深化主题</a:t>
            </a:r>
            <a:r>
              <a:rPr b="1" lang="zh-CN" sz="3600" spc="-1" strike="noStrike">
                <a:solidFill>
                  <a:srgbClr val="f43a66"/>
                </a:solidFill>
                <a:latin typeface="Times New Roman"/>
              </a:rPr>
              <a:t>。运用了</a:t>
            </a:r>
            <a:r>
              <a:rPr b="1" lang="zh-CN" sz="3600" spc="-1" strike="noStrike">
                <a:solidFill>
                  <a:srgbClr val="198b3f"/>
                </a:solidFill>
                <a:latin typeface="Times New Roman"/>
              </a:rPr>
              <a:t>抒情</a:t>
            </a:r>
            <a:r>
              <a:rPr b="1" lang="zh-CN" sz="3600" spc="-1" strike="noStrike">
                <a:solidFill>
                  <a:srgbClr val="f43a66"/>
                </a:solidFill>
                <a:latin typeface="Times New Roman"/>
              </a:rPr>
              <a:t>的表达方式，表达了作者对长妈妈的</a:t>
            </a:r>
            <a:r>
              <a:rPr b="1" lang="zh-CN" sz="3600" spc="-1" strike="noStrike" u="sng">
                <a:solidFill>
                  <a:srgbClr val="f43a66"/>
                </a:solidFill>
                <a:uFillTx/>
                <a:latin typeface="Times New Roman"/>
              </a:rPr>
              <a:t>感情、敬意、怀念和祝愿</a:t>
            </a:r>
            <a:r>
              <a:rPr b="1" lang="zh-CN" sz="3600" spc="-1" strike="noStrike">
                <a:solidFill>
                  <a:srgbClr val="f43a66"/>
                </a:solidFill>
                <a:latin typeface="Times New Roman"/>
              </a:rPr>
              <a:t>的思想感情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9144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品的最后两段，表现了鲁迅对长妈妈的</a:t>
            </a:r>
            <a:r>
              <a:rPr b="1" lang="zh-CN" sz="4000" spc="-1" strike="noStrike">
                <a:solidFill>
                  <a:srgbClr val="f43a66"/>
                </a:solidFill>
                <a:latin typeface="楷体_GB2312"/>
                <a:ea typeface="楷体_GB2312"/>
              </a:rPr>
              <a:t>怀念、内疚、祝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情。在鲁迅的人生历程中，长妈妈曾起过那样重要的作用，但他竟不知道她的姓名和经历，这是多么叫人内疚的事情，他所能做的，只有祈祷仁厚的地母，安息阿妈的灵魂。鲁迅对阿长的深沉感情在这里表现得深切感人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dc8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438280" y="762120"/>
            <a:ext cx="38102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8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练笔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8195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3a66"/>
                </a:solidFill>
                <a:latin typeface="楷体_GB2312"/>
                <a:ea typeface="楷体_GB2312"/>
              </a:rPr>
              <a:t>选一个你熟悉的人，写一两件事，尽可能写得真实、生动、传神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83664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2e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8380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品一开头就用“长妈妈”起笔，可以说饱含了鲁迅的怀念和尊重之情。接下来的两个自然段，完全是围绕阿长的名字展开的，从名字切入，表现了阿长真实的社会地位和她在周家大院重要地位。阿长在周家，只是一个带孩子的保姆，乡下人称“老妈子”，她的地位是“卑贱”的。她连名字也没有，她曾经说自己叫什么姑娘来着，但大家并没有在意，也没有记住。她沿用的只是在她之前的一个女工的名字。可见这“阿长”只是一个代号而已，一个佣人的代号。作者又从“阿长”这个名字，巧妙地转到她的长相描写上，说她“黄胖而矮”。地位卑贱，长相又丑，阿长的命运可真够惨了。可就是这样一个阿长，却在周家有着不一般的，无可替代的重要地位。为什么呢？作者也没有正面去写，只是从周家众人的称呼中含蓄地表现了出来。母亲和别的人都客气、尊敬地称阿长为“长妈妈”，祖母则直呼其名，称为“阿长”，在随意中表现出一种亲切。而童年的“我”呢，则把阿长当作母亲，唤为“长阿妈”和“阿妈”，几代人不同的称呼，充分地表现了阿长在周家地特殊地位。阿长何以在周家有如此重要的地位呢？作者没有说，但这正是让读者充分发挥想象的地方。也许是阿长在周家年代很长，劳苦功高？也许是阿长淳朴、勤劳、热心，深得周家上下得喜欢？作者得两段“名字的由来”，使我们联想到了很多。由小见大，迂回深入，这是鲁迅散文创作中的习惯手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 rot="5400000">
            <a:off x="-724320" y="1104840"/>
            <a:ext cx="259092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总结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dd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38080" y="1066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但鲁迅并没有拔高、美化阿长，而是真实地刻画了阿长作为一个乡下妇女的局限和缺点。这些缺点也正是儿时的鲁迅不佩服她的地方。阿长的缺点有这样几个方面。首先是阿长喜欢“切切察察”，表现了她的热心、爱管闲事，以及在周家的地位，但也反映了她的曲意逢迎和有心计。鲁迅自小就是一个正直、坦率的人，他当然“最讨厌”阿长的这种性格。其次是阿长对鲁迅的管束太多、太严，这自然是阿长认真负责、小心谨慎的一面，但也反映了她的无知，不懂得给孩子以必要的自由，更好地发展他的天性。还有她睡觉时的丑相以及对小主人的挤兑，这自然是乡下佣人的一种粗俗了。而最让鲁迅不耐烦的是阿长知道很多规矩，还要让小主人去遵守。譬如过年时的说吉言、吃福桶，譬如吃饭时必须把落在地上的饭粒拣起来，譬如不可钻过晒裤子的竹竿底下……鲁迅从小就喜欢自由、蔑视清规戒律，却恰恰遇到了这样一个思想守旧、循规蹈矩的老妈子，他对阿长的“不耐烦”也就是必然的了。鲁迅感激阿长的养育之恩，从她的身上看到了下层民众的可贵品格，但他同时也洞察到了她身上那种根深蒂固的局限和缺点，把它真实地揭示出来，塑造了一个活生生的底层妇女的形象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91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0720" y="129528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“然而我……空前的敬意”开始，鲁迅写了阿长正面的性格品格，这是全文的重心所在。鲁迅最初对阿长的敬意源于童年鲁迅对 她“神力”的敬仰。（就是 关于“长毛”的故事）阿长给鲁迅讲的太平天国以及女人的故事，纯系没有是非观念、荒唐可笑的传说，但却把天真的鲁迅给吸引了、震慑了，让小小的鲁迅感到“意外”“惊异”，觉得阿长是那样“神奇”，有一种“伟大的神力”，不能不产生“特别的敬意”。这是一段充满了幽默感的描写。而真正使鲁迅对阿长产生感激和敬意的，是阿长给他买到了《山海经》。这是一部鲁迅渴望已久的神话传说图画书，但一直难以得到，大字不识的阿长却及小主人所急，想小主人所想，设法买回了《山海经》，这不能不让鲁迅感到意外、惊喜！而正是这个偶然的事件，不仅满足了鲁迅的愿望，同时激发了鲁迅大量买书的热情，特别是作为少年鲁迅的一部文艺启蒙书，对他以后的创作产生过深刻的影响。这正是鲁迅几次在作品中写到她，对她充满了感激、怀念、敬意的原因所在。至此，一个有点粗俗、迷信、守旧，但却善良、热心、忠厚、真诚的阿长的形象就完成了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阿长与《山海经》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鲁迅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13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110f"/>
                </a:solidFill>
                <a:latin typeface="Times New Roman"/>
              </a:rPr>
              <a:t>这是一篇纪实性的文章。文章真实而亲切地再现了鲁迅童年时与长妈妈相处的情景，表现了长妈妈的性格特点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13110f"/>
                </a:solidFill>
                <a:latin typeface="Times New Roman"/>
              </a:rPr>
              <a:t>作者通过对儿时</a:t>
            </a:r>
            <a:r>
              <a:rPr b="1" lang="zh-CN" sz="3200" spc="-1" strike="noStrike">
                <a:solidFill>
                  <a:srgbClr val="3232fc"/>
                </a:solidFill>
                <a:latin typeface="Times New Roman"/>
              </a:rPr>
              <a:t>往事的回忆</a:t>
            </a:r>
            <a:r>
              <a:rPr b="0" lang="zh-CN" sz="3200" spc="-1" strike="noStrike">
                <a:solidFill>
                  <a:srgbClr val="13110f"/>
                </a:solidFill>
                <a:latin typeface="Times New Roman"/>
              </a:rPr>
              <a:t>，表达了对长妈妈这样一个劳动妇女的深深怀念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685800"/>
            <a:ext cx="86868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70920"/>
                </a:solidFill>
                <a:uFillTx/>
                <a:latin typeface="Times New Roman"/>
              </a:rPr>
              <a:t>题解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阿长”，人名，鲁迅家的一个女工；    “《山海经》”，书名。题目为一并列词组，文章即</a:t>
            </a:r>
            <a:r>
              <a:rPr b="1" lang="zh-CN" sz="3200" spc="-1" strike="noStrike">
                <a:solidFill>
                  <a:srgbClr val="f70920"/>
                </a:solidFill>
                <a:latin typeface="Times New Roman"/>
              </a:rPr>
              <a:t>通过写阿长和《山海经》的关系来体现阿长的性格特点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《山海经》，作者不详，共有十八篇，内容主要为民间传说中的地理知识，保存了不少远古的神话传说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本文选自</a:t>
            </a:r>
            <a:r>
              <a:rPr b="1" lang="zh-CN" sz="3200" spc="-1" strike="noStrike">
                <a:solidFill>
                  <a:srgbClr val="f70920"/>
                </a:solidFill>
                <a:latin typeface="Times New Roman"/>
              </a:rPr>
              <a:t>《朝花夕拾》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。《朝花夕拾》，散文集，收录鲁迅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1926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年所作回忆性散文十篇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2401200"/>
            <a:ext cx="7993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920"/>
                </a:solidFill>
                <a:latin typeface="宋体"/>
              </a:rPr>
              <a:t>重点强化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．为什么题目上不写“长妈妈”而写“阿长”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　　不同的称呼，标志着不同的身份、品位。《阿长与〈山海经〉》前一部分所写的人物行状，多用抑笔，又是“不大佩服她”，又是“讨厌”，又是“不耐烦”，又是“麻烦”，倘用“妈妈”称呼，名实不符，用“阿长”称呼，名副其实。所以，这个题目其实标示文章的一半是抑笔。再则，将“阿长”与“《山海经》”连接，又是一个看似矛盾的联系，一个文盲妇女与一本古典名著怎样联系起来了呢，有什么联系呢，令人好奇。再则，题目用的是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46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岁写作时的口气，宜用“阿长”称呼，而“阿”字又有亲昵的意味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260280"/>
            <a:ext cx="38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八年级语文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上册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阿长与《山海经》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4000" y="25614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、文章围绕阿长写了哪些事情？哪些事是详写？哪些事是略写？为什么要这样安排？</a:t>
            </a:r>
            <a:br>
              <a:rPr sz="2800"/>
            </a:b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　　文章先介绍了人们对长妈妈的称呼，称呼的由来和她外形的特点，以及她的一些不好的习惯，如写她喜欢“切切察察”、喜欢“告状”、睡觉爱摆“大”字等；接着写她懂得的许多“我听不耐烦”的规矩。比如元旦吃福橘、人死了要说“去掉了”等；她给“我”讲长毛的故事，为“我”买《山海经》。详写的是写她给“我”买来了《山海经》，而略写其他。作者写此文目的不在于写自己厌烦、讨厌阿长，大揭其短，而是要表述出自己对长妈妈的敬意和怀念。因此着重写买《山海经》，突出了文章的中心意思，作者力求写出一个真实而鲜活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妈妈的形象，也为后面抒写对长妈妈的敬意和怀念作了铺垫，是采用了欲扬先抑的写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260280"/>
            <a:ext cx="38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八年级语文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上册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阿长与《山海经》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5280" y="2235960"/>
            <a:ext cx="820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32f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232fc"/>
                </a:solidFill>
                <a:latin typeface="宋体"/>
              </a:rPr>
              <a:t>、作者在刻画长妈妈的形象时，采用了多种方法，使人物形象生动、鲜明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fc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3232fc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3232fc"/>
                </a:solidFill>
                <a:latin typeface="宋体"/>
              </a:rPr>
              <a:t>．描写法：如写长妈妈是个普通劳动妇女，作者除简介她的身份、地位、名字的来历外，着重选择了两个生动的细节：一是她在“向人低声絮说些什么事”的时候，还要“竖直第二个手指”，在空中上下摇动，或者点着对手或自己的鼻尖；二是夏天睡觉时，“她又伸开两脚两手，在床中间摆成一个‘大’字”。后经提醒，仍是满床摆着一个“大”字。长妈妈质朴、略带粗野的性格在这些细节中刻画得栩栩如生，收到了此处无声胜有声的艺术效果。</a:t>
            </a:r>
            <a:br>
              <a:rPr sz="2400"/>
            </a:br>
            <a:r>
              <a:rPr b="1" lang="zh-CN" sz="2400" spc="-1" strike="noStrike">
                <a:solidFill>
                  <a:srgbClr val="3232fc"/>
                </a:solidFill>
                <a:latin typeface="宋体"/>
              </a:rPr>
              <a:t>　　本文中对人物的语言描写和动作描写别具特色。如元旦时，她教“我”说恭喜的话和吃福橘的情节，作者通过“伸出……按住……惶急……”“摇……笑……塞……”这些动作和“恭喜恭喜！大家恭喜！真聪明！恭喜恭喜！”充满欢乐和热情的语言写出了真诚的祈求，表现了她善良而迷信的一面。　心理描写，突出中心。如当长妈妈买回了《山海经》后“我似乎遇着了一个霹雳，全体都震悚起来”，这个心理活动，写出了“我”的吃惊。正是这种吃惊，引起了另一心理活动——对长妈妈产生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260280"/>
            <a:ext cx="38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八年级语文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上册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阿长与《山海经》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4000" y="1628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13110f"/>
                </a:solidFill>
                <a:latin typeface="宋体"/>
              </a:rPr>
              <a:t>．对比、映衬法：本文中将“叔祖”与长妈妈进行了对比，突出了长妈妈对“我”的热情和关心，《山海经》的模样和“宝书”进行对比映衬，突出“宝”的特殊意义——视“长妈妈”给“我”买书的伟大神力为“宝”，视《山海经》的内容为“宝”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00720" y="260280"/>
            <a:ext cx="38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八年级语文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上册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阿长与《山海经》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35280" y="1916280"/>
            <a:ext cx="568800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692360" y="1773360"/>
            <a:ext cx="58323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63640" y="1916280"/>
            <a:ext cx="61214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学习重 点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13110f"/>
                </a:solidFill>
                <a:latin typeface="Times New Roman"/>
              </a:rPr>
              <a:t>学习本文选取</a:t>
            </a:r>
            <a:r>
              <a:rPr b="1" lang="zh-CN" sz="2900" spc="-1" strike="noStrike">
                <a:solidFill>
                  <a:srgbClr val="0000ff"/>
                </a:solidFill>
                <a:latin typeface="Times New Roman"/>
              </a:rPr>
              <a:t>典型事例表现人物主要性格</a:t>
            </a: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以</a:t>
            </a:r>
            <a:r>
              <a:rPr b="0" lang="zh-CN" sz="2900" spc="-1" strike="noStrike">
                <a:solidFill>
                  <a:srgbClr val="13110f"/>
                </a:solidFill>
                <a:latin typeface="Times New Roman"/>
              </a:rPr>
              <a:t>及的详写与略写相结合写法</a:t>
            </a: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。</a:t>
            </a:r>
            <a:br>
              <a:rPr sz="2900"/>
            </a:b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13110f"/>
                </a:solidFill>
                <a:latin typeface="Times New Roman"/>
              </a:rPr>
              <a:t>理清作者的</a:t>
            </a:r>
            <a:r>
              <a:rPr b="1" lang="zh-CN" sz="2900" spc="-1" strike="noStrike">
                <a:solidFill>
                  <a:srgbClr val="3232fc"/>
                </a:solidFill>
                <a:latin typeface="Times New Roman"/>
              </a:rPr>
              <a:t>写作思路</a:t>
            </a:r>
            <a:r>
              <a:rPr b="0" lang="zh-CN" sz="2900" spc="-1" strike="noStrike">
                <a:solidFill>
                  <a:srgbClr val="13110f"/>
                </a:solidFill>
                <a:latin typeface="Times New Roman"/>
              </a:rPr>
              <a:t>，把握住课文内容，然后再着重研读长妈妈为“我”买《山海经》的事。</a:t>
            </a:r>
            <a:br>
              <a:rPr sz="2900"/>
            </a:b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609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你还记得鲁迅先生吗？记得？那就请你向大家介绍一下吧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20" y="2590920"/>
            <a:ext cx="8610120" cy="2432160"/>
            <a:chOff x="533520" y="2590920"/>
            <a:chExt cx="8610120" cy="2432160"/>
          </a:xfrm>
        </p:grpSpPr>
        <p:sp>
          <p:nvSpPr>
            <p:cNvPr id="104" name=""/>
            <p:cNvSpPr/>
            <p:nvPr/>
          </p:nvSpPr>
          <p:spPr>
            <a:xfrm>
              <a:off x="2782800" y="2590920"/>
              <a:ext cx="63608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d41ed"/>
                  </a:solidFill>
                  <a:latin typeface="楷体_GB2312"/>
                  <a:ea typeface="楷体_GB2312"/>
                </a:rPr>
                <a:t>鲁迅</a:t>
              </a:r>
              <a:r>
                <a:rPr b="1" lang="zh-CN" sz="3600" spc="-1" strike="noStrike">
                  <a:solidFill>
                    <a:srgbClr val="13110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3600" spc="-1" strike="noStrike">
                  <a:solidFill>
                    <a:srgbClr val="13110f"/>
                  </a:solidFill>
                  <a:latin typeface="楷体_GB2312"/>
                  <a:ea typeface="楷体_GB2312"/>
                </a:rPr>
                <a:t>1881—1936</a:t>
              </a:r>
              <a:r>
                <a:rPr b="1" lang="zh-CN" sz="3600" spc="-1" strike="noStrike">
                  <a:solidFill>
                    <a:srgbClr val="13110f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《鲁迅全集》里</a:t>
              </a:r>
              <a:r>
                <a:rPr b="1" lang="zh-CN" sz="4000" spc="-1" strike="noStrike">
                  <a:solidFill>
                    <a:srgbClr val="13110f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13110f"/>
                  </a:solidFill>
                  <a:latin typeface="楷体_GB2312"/>
                  <a:ea typeface="楷体_GB2312"/>
                </a:rPr>
                <a:t>我们曾学过他的《社戏》《从百草园到三味书屋》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rcRect l="0" t="0" r="127" b="-288"/>
            <a:stretch/>
          </p:blipFill>
          <p:spPr>
            <a:xfrm>
              <a:off x="533520" y="2668320"/>
              <a:ext cx="2171880" cy="235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50160" y="914400"/>
            <a:ext cx="2193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b5b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62320" y="175248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13110f"/>
                </a:solidFill>
                <a:latin typeface="Times New Roman"/>
              </a:rPr>
              <a:t>在鲁迅的生活中，阿长是一个很有影响的人物，鲁迅在作品中几次提到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Times New Roman"/>
              </a:rPr>
              <a:t>阿长是鲁迅家里的一个女工。她连真实姓都不为人知，也不会识字作文，作者却她和《山海经》连在了一起。那么，她与《山海经》有什么关系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19438200">
            <a:off x="457200" y="762120"/>
            <a:ext cx="5029200" cy="477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3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73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29528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00400" y="2666880"/>
            <a:ext cx="6629400" cy="1844640"/>
            <a:chOff x="3200400" y="2666880"/>
            <a:chExt cx="6629400" cy="1844640"/>
          </a:xfrm>
        </p:grpSpPr>
        <p:sp>
          <p:nvSpPr>
            <p:cNvPr id="111" name=""/>
            <p:cNvSpPr/>
            <p:nvPr/>
          </p:nvSpPr>
          <p:spPr>
            <a:xfrm>
              <a:off x="3200400" y="2971800"/>
              <a:ext cx="4267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391520" y="266688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29000" y="3809880"/>
              <a:ext cx="6400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3733920"/>
            <a:ext cx="78487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Times New Roman"/>
              </a:rPr>
              <a:t>本文的中心思想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10f"/>
                </a:solidFill>
                <a:latin typeface="Times New Roman"/>
              </a:rPr>
              <a:t>本文可分为几段？各段都说了写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3110f"/>
                </a:solidFill>
                <a:latin typeface="Times New Roman"/>
                <a:ea typeface="隶书"/>
              </a:rPr>
              <a:t>回答得出来吗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74320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b0b"/>
                </a:solidFill>
                <a:latin typeface="Times New Roman"/>
                <a:ea typeface="楷体_GB2312"/>
              </a:rPr>
              <a:t>那就请你回答几个问题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954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600200" y="1752480"/>
            <a:ext cx="7010280" cy="2850480"/>
            <a:chOff x="1600200" y="1752480"/>
            <a:chExt cx="7010280" cy="2850480"/>
          </a:xfrm>
        </p:grpSpPr>
        <p:sp>
          <p:nvSpPr>
            <p:cNvPr id="117" name=""/>
            <p:cNvSpPr/>
            <p:nvPr/>
          </p:nvSpPr>
          <p:spPr>
            <a:xfrm>
              <a:off x="6248160" y="1857240"/>
              <a:ext cx="533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舫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0200" y="1857240"/>
              <a:ext cx="7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骇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2320" y="1752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掳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160" y="18572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160" y="18572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10f"/>
                  </a:solidFill>
                  <a:latin typeface="Times New Roman"/>
                </a:rPr>
                <a:t>惶急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4143240"/>
              <a:ext cx="106668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疮疤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414324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诘  问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160" y="4143240"/>
              <a:ext cx="106704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渴慕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160" y="4143240"/>
              <a:ext cx="106704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霹雳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160" y="414324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陆玑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4143240"/>
              <a:ext cx="1143000" cy="459720"/>
            </a:xfrm>
            <a:prstGeom prst="rect">
              <a:avLst/>
            </a:prstGeom>
            <a:noFill/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粗拙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160" y="18572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295280" y="1371600"/>
            <a:ext cx="7848720" cy="2745720"/>
            <a:chOff x="1295280" y="1371600"/>
            <a:chExt cx="7848720" cy="2745720"/>
          </a:xfrm>
        </p:grpSpPr>
        <p:sp>
          <p:nvSpPr>
            <p:cNvPr id="130" name=""/>
            <p:cNvSpPr/>
            <p:nvPr/>
          </p:nvSpPr>
          <p:spPr>
            <a:xfrm>
              <a:off x="1676520" y="1371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3110f"/>
                  </a:solidFill>
                  <a:latin typeface="Times New Roman"/>
                </a:rPr>
                <a:t>haì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13716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3110f"/>
                  </a:solidFill>
                  <a:latin typeface="Times New Roman"/>
                </a:rPr>
                <a:t>lǔ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371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110f"/>
                  </a:solidFill>
                  <a:latin typeface="Times New Roman"/>
                </a:rPr>
                <a:t>sǒng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47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zhāi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13716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3110f"/>
                  </a:solidFill>
                  <a:latin typeface="Times New Roman"/>
                </a:rPr>
                <a:t>fǎng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7480" y="13716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3110f"/>
                  </a:solidFill>
                  <a:latin typeface="Times New Roman"/>
                </a:rPr>
                <a:t>huáng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81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chuāng   bā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3581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10f"/>
                  </a:solidFill>
                  <a:latin typeface="Times New Roman"/>
                </a:rPr>
                <a:t>jié  wè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10f"/>
                  </a:solidFill>
                  <a:latin typeface="Times New Roman"/>
                </a:rPr>
                <a:t>kě   mù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3581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10f"/>
                  </a:solidFill>
                  <a:latin typeface="Times New Roman"/>
                </a:rPr>
                <a:t>pī    lì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432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10f"/>
                  </a:solidFill>
                  <a:latin typeface="Times New Roman"/>
                </a:rPr>
                <a:t>jī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3280" y="3581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110f"/>
                  </a:solidFill>
                  <a:latin typeface="Times New Roman"/>
                </a:rPr>
                <a:t>zhuō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" y="685800"/>
            <a:ext cx="8686800" cy="4876560"/>
            <a:chOff x="457200" y="685800"/>
            <a:chExt cx="8686800" cy="4876560"/>
          </a:xfrm>
        </p:grpSpPr>
        <p:grpSp>
          <p:nvGrpSpPr>
            <p:cNvPr id="143" name=""/>
            <p:cNvGrpSpPr/>
            <p:nvPr/>
          </p:nvGrpSpPr>
          <p:grpSpPr>
            <a:xfrm>
              <a:off x="2286000" y="2286000"/>
              <a:ext cx="2286000" cy="609480"/>
              <a:chOff x="2286000" y="2286000"/>
              <a:chExt cx="228600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2286000" y="2286000"/>
                <a:ext cx="2286000" cy="609480"/>
              </a:xfrm>
              <a:prstGeom prst="wedgeEllipseCallout">
                <a:avLst>
                  <a:gd name="adj1" fmla="val -48125"/>
                  <a:gd name="adj2" fmla="val -83074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90920" y="236196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惊吓；震惊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429000" y="685800"/>
              <a:ext cx="2209680" cy="609480"/>
              <a:chOff x="3429000" y="685800"/>
              <a:chExt cx="2209680" cy="609480"/>
            </a:xfrm>
          </p:grpSpPr>
          <p:sp>
            <p:nvSpPr>
              <p:cNvPr id="147" name=""/>
              <p:cNvSpPr/>
              <p:nvPr/>
            </p:nvSpPr>
            <p:spPr>
              <a:xfrm>
                <a:off x="3429000" y="685800"/>
                <a:ext cx="2209680" cy="609480"/>
              </a:xfrm>
              <a:prstGeom prst="wedgeEllipseCallout">
                <a:avLst>
                  <a:gd name="adj1" fmla="val -46981"/>
                  <a:gd name="adj2" fmla="val 62500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600" y="76176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把人抢走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800600" y="2514600"/>
              <a:ext cx="1371600" cy="609480"/>
              <a:chOff x="4800600" y="2514600"/>
              <a:chExt cx="1371600" cy="60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800600" y="2514600"/>
                <a:ext cx="1371600" cy="609480"/>
              </a:xfrm>
              <a:prstGeom prst="wedgeEllipseCallout">
                <a:avLst>
                  <a:gd name="adj1" fmla="val -65972"/>
                  <a:gd name="adj2" fmla="val -127342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259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害怕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934320" y="2666880"/>
              <a:ext cx="2209680" cy="609480"/>
              <a:chOff x="6934320" y="2666880"/>
              <a:chExt cx="2209680" cy="609480"/>
            </a:xfrm>
          </p:grpSpPr>
          <p:sp>
            <p:nvSpPr>
              <p:cNvPr id="153" name=""/>
              <p:cNvSpPr/>
              <p:nvPr/>
            </p:nvSpPr>
            <p:spPr>
              <a:xfrm>
                <a:off x="6934320" y="2666880"/>
                <a:ext cx="2057400" cy="609480"/>
              </a:xfrm>
              <a:prstGeom prst="wedgeEllipseCallout">
                <a:avLst>
                  <a:gd name="adj1" fmla="val -384"/>
                  <a:gd name="adj2" fmla="val -145050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5200" y="274320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2f2f"/>
                    </a:solidFill>
                    <a:latin typeface="Times New Roman"/>
                  </a:rPr>
                  <a:t>恐惧着急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295280" y="4952880"/>
              <a:ext cx="1905120" cy="609480"/>
              <a:chOff x="1295280" y="4952880"/>
              <a:chExt cx="1905120" cy="609480"/>
            </a:xfrm>
          </p:grpSpPr>
          <p:sp>
            <p:nvSpPr>
              <p:cNvPr id="156" name=""/>
              <p:cNvSpPr/>
              <p:nvPr/>
            </p:nvSpPr>
            <p:spPr>
              <a:xfrm>
                <a:off x="1295280" y="4952880"/>
                <a:ext cx="1905120" cy="609480"/>
              </a:xfrm>
              <a:prstGeom prst="wedgeEllipseCallout">
                <a:avLst>
                  <a:gd name="adj1" fmla="val 53166"/>
                  <a:gd name="adj2" fmla="val -115884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7920" y="5029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追问；责问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76720" y="4952880"/>
              <a:ext cx="1828800" cy="609480"/>
              <a:chOff x="3276720" y="4952880"/>
              <a:chExt cx="1828800" cy="609480"/>
            </a:xfrm>
          </p:grpSpPr>
          <p:sp>
            <p:nvSpPr>
              <p:cNvPr id="159" name=""/>
              <p:cNvSpPr/>
              <p:nvPr/>
            </p:nvSpPr>
            <p:spPr>
              <a:xfrm>
                <a:off x="3276720" y="4952880"/>
                <a:ext cx="1828800" cy="609480"/>
              </a:xfrm>
              <a:prstGeom prst="wedgeEllipseCallout">
                <a:avLst>
                  <a:gd name="adj1" fmla="val 24912"/>
                  <a:gd name="adj2" fmla="val -108592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29000" y="502920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非常思慕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57200" y="2895480"/>
              <a:ext cx="3276720" cy="609480"/>
              <a:chOff x="457200" y="2895480"/>
              <a:chExt cx="3276720" cy="60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457200" y="2895480"/>
                <a:ext cx="3276720" cy="609480"/>
              </a:xfrm>
              <a:prstGeom prst="wedgeEllipseCallout">
                <a:avLst>
                  <a:gd name="adj1" fmla="val 9546"/>
                  <a:gd name="adj2" fmla="val 96615"/>
                </a:avLst>
              </a:prstGeom>
              <a:solidFill>
                <a:srgbClr val="f8fd95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62120" y="297180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b0b"/>
                    </a:solidFill>
                    <a:latin typeface="Times New Roman"/>
                  </a:rPr>
                  <a:t>好了以后留下的疤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13110f"/>
                </a:solidFill>
                <a:latin typeface="Times New Roman"/>
              </a:rPr>
              <a:t>本文记叙了阿长和鲁迅童年时生活中的几件事，生动地刻画了长妈妈饶舌、多事、不拘小节、有许多烦琐的礼节，但又爽朗、热情、乐于助人，有着淳朴、宽厚、善良、仁慈的美德。</a:t>
            </a:r>
            <a:r>
              <a:rPr b="1" lang="zh-CN" sz="3600" spc="-1" strike="noStrike">
                <a:solidFill>
                  <a:srgbClr val="f70920"/>
                </a:solidFill>
                <a:latin typeface="Times New Roman"/>
              </a:rPr>
              <a:t>表达了童年时鲁迅内心世界的丰富多彩和对长妈妈深深的怀念之情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800" y="8380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b0b"/>
                </a:solidFill>
                <a:latin typeface="Times New Roman"/>
                <a:ea typeface="隶书"/>
              </a:rPr>
              <a:t>中心思想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1148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685800" y="1066680"/>
            <a:ext cx="7086600" cy="3276720"/>
            <a:chOff x="685800" y="1066680"/>
            <a:chExt cx="7086600" cy="3276720"/>
          </a:xfrm>
        </p:grpSpPr>
        <p:sp>
          <p:nvSpPr>
            <p:cNvPr id="169" name=""/>
            <p:cNvSpPr/>
            <p:nvPr/>
          </p:nvSpPr>
          <p:spPr>
            <a:xfrm>
              <a:off x="685800" y="1066680"/>
              <a:ext cx="7086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3886200"/>
              <a:ext cx="683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5334120"/>
            <a:ext cx="1371600" cy="965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066680"/>
            <a:ext cx="84582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b0b"/>
                </a:solidFill>
                <a:latin typeface="Times New Roman"/>
              </a:rPr>
              <a:t>本文可分为三部分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—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介绍长妈妈的身份及名字的由来，    和“我”对长妈妈由“不大佩服”到“空前的敬意”到这种敬意消失的过程。                                      二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—2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写通过给“我”买《山海经》，我   对长妈妈又产生了“新的敬意”。                                                                                               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抒发了“我”对长妈妈的深沉的怀念之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9T06:58:44Z</dcterms:created>
  <dc:creator>hy</dc:creator>
  <dc:description/>
  <dc:language>en-US</dc:language>
  <cp:lastModifiedBy>微软用户</cp:lastModifiedBy>
  <dcterms:modified xsi:type="dcterms:W3CDTF">2011-10-18T14:26:57Z</dcterms:modified>
  <cp:revision>30</cp:revision>
  <dc:subject/>
  <dc:title>PowerPoint 演示文稿</dc:title>
</cp:coreProperties>
</file>