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himes.wav" ContentType="audio/x-wav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5315-F628-4D38-954A-D86A01D5B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5344-F505-4814-A450-87A881BD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7A3A-18D3-4425-8332-1B0757F0D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1234-B489-401D-9FF5-6DA3B2E7D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DFA4-F24A-44DC-B85B-62F2CAF2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792A-99C1-4D23-95F1-766468D9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1D15-6736-43E8-A973-13A8B143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0EEB-753F-424B-BFEB-BBCD85EA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BD79-6766-47DD-BDA4-05B1F783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9369-C602-4282-B3D9-9A47B49A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896F-D5D3-4E66-A270-96996FB9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209D-2C8C-4B7C-88F2-3CC057F0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C79C-A500-41EA-B7F4-63C0ADC50C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743200" y="2514600"/>
            <a:ext cx="2438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长妈妈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42670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她讲的美女蛇的故事真是神秘莫测，给百草园蒙上一层神秘的面纱。那么，长妈妈是一个什么样的人呢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我们—起来看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6094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鲁迅先生的散文《从百草园到三味书屋》里，鲁迅除写了自己的老师寿镜吾先生之外，还写到了—个人，这个人是谁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91600" y="4572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总结阿长的形象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49200" y="12114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妈妈是一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12193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                      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很不幸，又渴望一生平安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劳动妇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75248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           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她没有文化，愚昧无知，粗俗好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不拘小节，但又心地善良，热心帮助孩子解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疑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90720" y="533520"/>
            <a:ext cx="693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</a:rPr>
              <a:t>作者对长妈妈的态度和感情是怎样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变化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</a:rPr>
              <a:t>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2280" y="2286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开篇写知道阿长谋害了“我”的隐鼠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76320" y="56386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文章最后以“仁厚黑暗的地母啊，愿在你怀里永安她的魂灵”结束，表达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2193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对于阿长的平常举动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2133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对于阿长所懂得的许多规矩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457200" y="30481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阿长给“我”讲长毛的故事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457200" y="4343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阿长给“我”买来《山海经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76212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0" y="1752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26668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38098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525780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60800" y="23184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感情上是“憎恶”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05320" y="12193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我实在不大佩服她”，“最讨厌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21920" y="213372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我”也是‘不耐烦的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38480" y="304812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我”也曾“发生过空前的敬意”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但那后来也“逐渐淡漠”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24600" y="4329000"/>
            <a:ext cx="3774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才真正“使我发生新的敬意了”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甚至连“谋害隐鼠的怨恨，从此完全消灭了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937200" y="60199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作者对阿长的深切怀念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4920" y="45720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—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然段都在写“不大佩服”“讨厌”“憎恶”阿长，结尾却说“仁厚黑暗的地母啊，愿在你怀里永安她的魂灵！”这是一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什么样的写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表达了作者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怎样的思想感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26640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章没有入笔就写长妈妈这好那好，却用了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/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篇幅来写长妈妈的“缺点”和“错误”：饶舌、多事、睡相不好、有许多繁文缛节、愚昧无知。而在后文又用她给我买《山海经》的事，表现出她爽朗、热情、乐于帮助别人的性情。这就是采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先抑后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手法。作者以此凸现出长妈妈淳朴、宽厚、善良、仁慈的美德，表达自己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深切思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这样文章更加真切生动，人物形象更为丰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62120" y="6094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本文的记叙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线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5238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散文的“神不散”说的是：主题集中。写散文时要散得开，但是要受到中心思想的制约，所以还得收得拢。在阅读散文时，要注意抓住文章的线索，理清全篇的层次结构和理解全篇思想内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本文是以</a:t>
            </a:r>
            <a:r>
              <a:rPr b="1" lang="zh-CN" sz="3600" spc="-1" strike="noStrike" u="sng">
                <a:solidFill>
                  <a:srgbClr val="000066"/>
                </a:solidFill>
                <a:uFillTx/>
                <a:latin typeface="Arial"/>
              </a:rPr>
              <a:t>                   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为线索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28560" y="4724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作者的感情变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4920" y="7588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课文前半部分，作者大写他如何“憎恶”“讨厌”阿长，但在这些充满贬义的文字后面，你能感受到作者对阿长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同情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与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怀念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吗？请同学们交流一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1066680" y="685800"/>
            <a:ext cx="79250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宋体"/>
              </a:rPr>
              <a:t>阿长与《山海经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宋体"/>
              <a:ea typeface="宋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248520" y="2438280"/>
            <a:ext cx="1828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鲁迅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8" name=""/>
          <p:cNvSpPr/>
          <p:nvPr/>
        </p:nvSpPr>
        <p:spPr>
          <a:xfrm>
            <a:off x="2209680" y="4419720"/>
            <a:ext cx="411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第三课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04920" y="2286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仔细阅读课文中买《山海经》的部分，回答下列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5238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、当阿长来问《山海经》是怎么一回事时，“我”是怎样想的？这种想法表现了“我”的什么心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34290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、当阿长买来《山海经》时，“我”有什么反应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49528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、你怎样理解文中说的阿长“确有伟大的神力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09480" y="6858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、当阿长来问《山海经》是怎么一回事时，“我”是怎样想的？这种想法表现了“我”的什么心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327672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因为“我知道她并非学者，说了也无益”，阿长不但没文化，而且也不会理解我渴望这本书的心情。这种想法表明了“我”对阿长心存隔膜乃至轻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7621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、当阿长买来《山海经》时，“我”有什么反应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2860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我似乎遇着一个霹雳，全体都震悚起来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这又使我发生新的敬意了”，觉得“她确有伟大的神力。谋害隐鼠的怨恨，从此完全消灭了。”觉得又惊又喜，感激不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066680" y="685800"/>
            <a:ext cx="79250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宋体"/>
              </a:rPr>
              <a:t>阿长与《山海经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宋体"/>
              <a:ea typeface="宋体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248520" y="2438280"/>
            <a:ext cx="1828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鲁迅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4419720"/>
            <a:ext cx="411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第一课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09480" y="9144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、你怎样理解文中说的阿长“确有伟大的神力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28195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        “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别人不肯做，或不能做的事”，热心的阿长却能够做成功。不识字的她，一定是费尽周折为我买来《山海经》，所以觉得她确有伟大的神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66680" y="1143000"/>
            <a:ext cx="67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在你的童年生活中，有没有像阿长这样的给你留下深刻印象的普通人？你怎样看待他们？请用一二百字写下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52280" y="485640"/>
            <a:ext cx="8610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拓展延伸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: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写阿长买《山海经》的笔墨并不多，大家想像一下她是怎样到处打听，怎样跑书店书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操了多少心才买到这本书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294012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我们假设阿长现在还健在，她读了鲁迅这篇文章，会对鲁迅说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426564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请同学们紧扣课文内容与人物性格特征，放飞想象的翅膀，赋予人物新的时代特色，代长妈妈说些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1143000"/>
            <a:ext cx="7800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       “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哥儿啊，我虽无名无姓，但经你一写，现在也成了名人了，可是你说我无名无姓，生得黄胖而矮倒也罢了，怎么连颈上的灸疮疤也写进去了呢？说我规矩多、烦琐、迷信也罢了，那时谁不迷信啊？可是你，怎么连我睡相不好这种私事都写进去了呢？特别是给你讲长毛故事时，讲的将我们掳去后，让我们脱下裤子站在墙头，大炮就放不出来，你也照实写下来了，你不怕人笑话我还怕人笑话呢！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04920" y="76320"/>
            <a:ext cx="8229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主积累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鲁迅诗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自题小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灵台无计逃神矢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风雨如磐暗故园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cc0000"/>
                </a:solidFill>
                <a:latin typeface="Arial"/>
              </a:rPr>
              <a:t>寄意寒星荃不察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cc0000"/>
                </a:solidFill>
                <a:latin typeface="Arial"/>
              </a:rPr>
              <a:t>我以我血荐轩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67760" y="3841920"/>
            <a:ext cx="3289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                 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自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交华盖欲何求， 未敢翻身已碰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破帽遮颜过闹市， 漏船载酒泛中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cc0000"/>
                </a:solidFill>
                <a:latin typeface="Arial"/>
              </a:rPr>
              <a:t>横眉冷对千夫指 ，俯首甘为孺子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躲进小楼成一统， 管它冬夏与春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rcRect l="55850" t="8879" r="0" b="9992"/>
          <a:stretch/>
        </p:blipFill>
        <p:spPr>
          <a:xfrm>
            <a:off x="5029200" y="0"/>
            <a:ext cx="41148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239760"/>
            <a:ext cx="59436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鲁迅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8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～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3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〕，中国（           ）（           ）和（            ）。原名（            ），字（         ），浙江绍兴人。出身于破落封建家庭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0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去日本留学，原在仙台医学院学医， 后从事文艺工作，企图用以改变国民精神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1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，首次用“鲁迅”的笔名，发表中国现代文学史上第一篇白话小说《                  》，奠定了新文学运动的 基石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1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2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间，陆续创作出版了小说集《           》、《             》、论文集《         》、 散文诗集《           》、散文集《                》、杂文集《           》、《               》等专集。其中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2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发表的中篇小说《                》，是中国现代文学史上的不朽杰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609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文学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609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思想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990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革命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990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周树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295280"/>
            <a:ext cx="12193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豫才</a:t>
            </a:r>
            <a:r>
              <a:rPr b="1" lang="zh-CN" sz="1800" spc="-1" strike="noStrike">
                <a:solidFill>
                  <a:srgbClr val="cc00cc"/>
                </a:solidFill>
                <a:latin typeface="Arial"/>
              </a:rPr>
              <a:t>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3124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狂人日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3886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呐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3886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彷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4648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朝花夕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5334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阿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Q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正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4267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4267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野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8620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热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952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华盖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6320" y="685800"/>
            <a:ext cx="9372600" cy="50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阿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     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震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疮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诘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渴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霹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孤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憎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絮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福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恭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烦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惧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哀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守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粗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76320" y="685800"/>
            <a:ext cx="9372600" cy="50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阿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chá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hài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l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震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sǒ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huá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疮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chuāng b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诘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ji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渴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m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sh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霹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pīl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孤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shuā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憎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zēng w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絮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x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福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j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恭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gō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烦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su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p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惧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dà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哀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dà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守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gu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粗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zhu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28600"/>
            <a:ext cx="33526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释下列词语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惶急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诘问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惧惮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渴慕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霹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烦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震悚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毫不相干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情有可原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深不可测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莫名其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65320" y="6858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恐惧着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76200" y="121932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追问、责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57440" y="16765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害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69440" y="21636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迫切地羡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22200" y="2620800"/>
            <a:ext cx="5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来势迅猛响声很大的雷。形容极大的震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41640" y="31240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繁杂琐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12280" y="41450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一点关系也没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55560" y="46483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这种情况有可以原谅之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84000" y="513540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深度大，难以测量。形容深奥难以理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64440" y="5638680"/>
            <a:ext cx="421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没有人能说明它的奥妙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{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道理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}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名，说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77640" y="36115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全身因恐惧或过度兴奋而颤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716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．称呼的由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95280" y="25909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．摆成“大”字的睡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19810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．常喜欢切切察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32004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．元旦时“逼”我吃福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51498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．给我讲长毛的故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58356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．给我买来《山海经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38098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5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．长妈妈有一肚子繁琐的道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44956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．谋害了我的隐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320" y="763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速读课文，总结归纳一下，文章围绕阿长写了哪些事件？请整理在学案卷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1066680" y="685800"/>
            <a:ext cx="79250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宋体"/>
              </a:rPr>
              <a:t>阿长与《山海经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宋体"/>
              <a:ea typeface="宋体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248520" y="2438280"/>
            <a:ext cx="1828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鲁迅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0" name=""/>
          <p:cNvSpPr/>
          <p:nvPr/>
        </p:nvSpPr>
        <p:spPr>
          <a:xfrm>
            <a:off x="2209680" y="4419720"/>
            <a:ext cx="411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2280" y="15228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章主要描写的对象是长妈妈，作者几乎是按生活的原样，真实而亲切地再现了自己童年时期与长妈妈相处的情景。请同学们在自读课文的基础上，找出描写长妈妈的事件或细节，并说说这些事件或细节体现了长妈妈什么样的性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17524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称呼的由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320" y="274320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摆成“大”字的睡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228600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常喜欢切切察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32004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元旦时“逼”我吃福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53341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给我讲长毛的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603396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给我买来《山海经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16765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地位低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33920" y="266688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粗俗、不拘小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33920" y="2209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喜欢饶舌多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527220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愚昧无知而又淳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60339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热心善良，关心孩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37339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5 </a:t>
            </a: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长妈妈有一肚子繁琐的道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46483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．谋害了我的隐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312408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迷信，但淳朴善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41911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迷信、守旧，但淳朴善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1-10-24T00:04:56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