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4.jpeg" ContentType="image/jpeg"/>
  <Override PartName="/ppt/media/chimes.wav" ContentType="audio/x-wav"/>
  <Override PartName="/ppt/media/image16.jpeg" ContentType="image/jpeg"/>
  <Override PartName="/ppt/media/type.wav" ContentType="audio/x-wav"/>
  <Override PartName="/ppt/media/image7.jpeg" ContentType="image/jpeg"/>
  <Override PartName="/ppt/media/image18.png" ContentType="image/png"/>
  <Override PartName="/ppt/media/camera.wav" ContentType="audio/x-wav"/>
  <Override PartName="/ppt/media/image21.jpeg" ContentType="image/jpeg"/>
  <Override PartName="/ppt/media/image2.jpeg" ContentType="image/jpeg"/>
  <Override PartName="/ppt/media/image22.jpeg" ContentType="image/jpeg"/>
  <Override PartName="/ppt/media/image17.jpeg" ContentType="image/jpeg"/>
  <Override PartName="/ppt/media/laser.wav" ContentType="audio/x-wav"/>
  <Override PartName="/ppt/media/image15.jpeg" ContentType="image/jpeg"/>
  <Override PartName="/ppt/media/image1.png" ContentType="image/png"/>
  <Override PartName="/ppt/media/image3.jpeg" ContentType="image/jpeg"/>
  <Override PartName="/ppt/media/carbrake.wav" ContentType="audio/x-wav"/>
  <Override PartName="/ppt/media/image14.jpeg" ContentType="image/jpeg"/>
  <Override PartName="/ppt/media/image20.gif" ContentType="image/gif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6172200" y="304920"/>
            <a:ext cx="271620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" name=""/>
          <p:cNvGraphicFramePr/>
          <p:nvPr/>
        </p:nvGraphicFramePr>
        <p:xfrm>
          <a:off x="76320" y="1981080"/>
          <a:ext cx="5943600" cy="4130640"/>
        </p:xfrm>
        <a:graphic>
          <a:graphicData uri="http://schemas.openxmlformats.org/drawingml/2006/table">
            <a:tbl>
              <a:tblPr/>
              <a:tblGrid>
                <a:gridCol w="1981080"/>
                <a:gridCol w="2100240"/>
                <a:gridCol w="1862280"/>
              </a:tblGrid>
              <a:tr h="108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2f2f"/>
                          </a:solidFill>
                          <a:latin typeface="Arial"/>
                        </a:rPr>
                        <a:t>篇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2f2f"/>
                          </a:solidFill>
                          <a:latin typeface="Arial"/>
                        </a:rPr>
                        <a:t>出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2f2f"/>
                          </a:solidFill>
                          <a:latin typeface="Arial"/>
                        </a:rPr>
                        <a:t>文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</a:tr>
              <a:tr h="108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</a:tr>
              <a:tr h="102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</a:tr>
              <a:tr h="93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pSp>
        <p:nvGrpSpPr>
          <p:cNvPr id="41" name=""/>
          <p:cNvGrpSpPr/>
          <p:nvPr/>
        </p:nvGrpSpPr>
        <p:grpSpPr>
          <a:xfrm>
            <a:off x="304920" y="3124080"/>
            <a:ext cx="5410080" cy="825480"/>
            <a:chOff x="304920" y="3124080"/>
            <a:chExt cx="5410080" cy="825480"/>
          </a:xfrm>
        </p:grpSpPr>
        <p:sp>
          <p:nvSpPr>
            <p:cNvPr id="42" name=""/>
            <p:cNvSpPr/>
            <p:nvPr/>
          </p:nvSpPr>
          <p:spPr>
            <a:xfrm>
              <a:off x="304920" y="312408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从百草园到三味书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572000" y="32767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散   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62320" y="32767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朝花夕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95280" y="5445000"/>
            <a:ext cx="5262120" cy="536040"/>
            <a:chOff x="395280" y="5445000"/>
            <a:chExt cx="5262120" cy="536040"/>
          </a:xfrm>
        </p:grpSpPr>
        <p:sp>
          <p:nvSpPr>
            <p:cNvPr id="46" name=""/>
            <p:cNvSpPr/>
            <p:nvPr/>
          </p:nvSpPr>
          <p:spPr>
            <a:xfrm>
              <a:off x="395280" y="544500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风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349720" y="5521320"/>
              <a:ext cx="165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野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29880" y="5521320"/>
              <a:ext cx="112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散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80880" y="4343400"/>
            <a:ext cx="5333760" cy="459720"/>
            <a:chOff x="380880" y="4343400"/>
            <a:chExt cx="5333760" cy="459720"/>
          </a:xfrm>
        </p:grpSpPr>
        <p:sp>
          <p:nvSpPr>
            <p:cNvPr id="50" name=""/>
            <p:cNvSpPr/>
            <p:nvPr/>
          </p:nvSpPr>
          <p:spPr>
            <a:xfrm>
              <a:off x="380880" y="4343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社      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1640" y="43434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小   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1960" y="43434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呐      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7696080" y="5943600"/>
            <a:ext cx="914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0800" y="53352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</a:rPr>
              <a:t>我们学过的鲁迅作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75614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你简要叙述鲁迅的生平及作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1728720" cy="2159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916360" y="1628640"/>
            <a:ext cx="3365280" cy="2540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056360" y="1628640"/>
            <a:ext cx="2087640" cy="3313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0" y="4365720"/>
            <a:ext cx="2916360" cy="2232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419640" y="4365720"/>
            <a:ext cx="3384360" cy="2322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990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8360" y="1773360"/>
            <a:ext cx="8458200" cy="2384280"/>
            <a:chOff x="468360" y="1773360"/>
            <a:chExt cx="8458200" cy="2384280"/>
          </a:xfrm>
        </p:grpSpPr>
        <p:sp>
          <p:nvSpPr>
            <p:cNvPr id="90" name=""/>
            <p:cNvSpPr/>
            <p:nvPr/>
          </p:nvSpPr>
          <p:spPr>
            <a:xfrm>
              <a:off x="2678040" y="1773360"/>
              <a:ext cx="6248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鲁迅（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81—1936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，原名周树人，浙江省绍兴市人，伟大的文学家、思想家、革命家。著作有杂文、小说、散文、诗歌等，收在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鲁迅全集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里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468360" y="1849320"/>
              <a:ext cx="2133720" cy="2308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260280"/>
            <a:ext cx="5257800" cy="3080160"/>
          </a:xfrm>
          <a:prstGeom prst="rect">
            <a:avLst/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，首次用“鲁迅”的笔名，发表中国现代文学史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第一篇白话小说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狂人日记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奠定了新文学运动的 基石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2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间，陆续创作出版了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小说集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呐喊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、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彷徨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论文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 散文诗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散文集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朝花夕拾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杂文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热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华盖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等专集。其中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发表的中篇小说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阿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Q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正传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是中国现代文学 史上的不朽杰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692360" y="1844640"/>
            <a:ext cx="7010280" cy="2745720"/>
            <a:chOff x="1692360" y="1844640"/>
            <a:chExt cx="7010280" cy="2745720"/>
          </a:xfrm>
        </p:grpSpPr>
        <p:sp>
          <p:nvSpPr>
            <p:cNvPr id="95" name=""/>
            <p:cNvSpPr/>
            <p:nvPr/>
          </p:nvSpPr>
          <p:spPr>
            <a:xfrm>
              <a:off x="6340320" y="1844640"/>
              <a:ext cx="53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舫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2360" y="184464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73960" y="1844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54320" y="1844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83320" y="18446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惶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92360" y="4130640"/>
              <a:ext cx="1066680" cy="45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疮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5360" y="4130640"/>
              <a:ext cx="1143000" cy="45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诘  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54320" y="4130640"/>
              <a:ext cx="1067040" cy="45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渴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97320" y="4130640"/>
              <a:ext cx="1067040" cy="45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霹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40320" y="4130640"/>
              <a:ext cx="1143000" cy="45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陆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59640" y="4130640"/>
              <a:ext cx="1143000" cy="45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粗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97320" y="1844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366920" y="1341360"/>
            <a:ext cx="7776720" cy="2745720"/>
            <a:chOff x="1366920" y="1341360"/>
            <a:chExt cx="7776720" cy="2745720"/>
          </a:xfrm>
        </p:grpSpPr>
        <p:sp>
          <p:nvSpPr>
            <p:cNvPr id="108" name=""/>
            <p:cNvSpPr/>
            <p:nvPr/>
          </p:nvSpPr>
          <p:spPr>
            <a:xfrm>
              <a:off x="1744560" y="1341360"/>
              <a:ext cx="9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77120" y="1341360"/>
              <a:ext cx="7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4920" y="1341360"/>
              <a:ext cx="9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ǒ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93080" y="1417680"/>
              <a:ext cx="7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hā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50040" y="1341360"/>
              <a:ext cx="107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ǎ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82600" y="1341360"/>
              <a:ext cx="13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uá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66920" y="3551040"/>
              <a:ext cx="21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uāng   b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77120" y="3551040"/>
              <a:ext cx="12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ié  wè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4920" y="3551040"/>
              <a:ext cx="120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ě   m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17480" y="3551040"/>
              <a:ext cx="105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ī    l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54480" y="362736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62280" y="3551040"/>
              <a:ext cx="9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hu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57200" y="762120"/>
            <a:ext cx="8686800" cy="4876560"/>
            <a:chOff x="457200" y="762120"/>
            <a:chExt cx="8686800" cy="4876560"/>
          </a:xfrm>
        </p:grpSpPr>
        <p:grpSp>
          <p:nvGrpSpPr>
            <p:cNvPr id="121" name=""/>
            <p:cNvGrpSpPr/>
            <p:nvPr/>
          </p:nvGrpSpPr>
          <p:grpSpPr>
            <a:xfrm>
              <a:off x="2286000" y="2362320"/>
              <a:ext cx="2286000" cy="609480"/>
              <a:chOff x="2286000" y="2362320"/>
              <a:chExt cx="2286000" cy="609480"/>
            </a:xfrm>
          </p:grpSpPr>
          <p:sp>
            <p:nvSpPr>
              <p:cNvPr id="122" name=""/>
              <p:cNvSpPr/>
              <p:nvPr/>
            </p:nvSpPr>
            <p:spPr>
              <a:xfrm>
                <a:off x="2286000" y="2362320"/>
                <a:ext cx="2286000" cy="609480"/>
              </a:xfrm>
              <a:prstGeom prst="wedgeEllipseCallout">
                <a:avLst>
                  <a:gd name="adj1" fmla="val -48125"/>
                  <a:gd name="adj2" fmla="val -83074"/>
                </a:avLst>
              </a:prstGeom>
              <a:solidFill>
                <a:srgbClr val="f8fd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90920" y="2438280"/>
                <a:ext cx="190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惊吓；震惊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3429000" y="762120"/>
              <a:ext cx="2209680" cy="609480"/>
              <a:chOff x="3429000" y="762120"/>
              <a:chExt cx="2209680" cy="609480"/>
            </a:xfrm>
          </p:grpSpPr>
          <p:sp>
            <p:nvSpPr>
              <p:cNvPr id="125" name=""/>
              <p:cNvSpPr/>
              <p:nvPr/>
            </p:nvSpPr>
            <p:spPr>
              <a:xfrm>
                <a:off x="3429000" y="762120"/>
                <a:ext cx="2209680" cy="609480"/>
              </a:xfrm>
              <a:prstGeom prst="wedgeEllipseCallout">
                <a:avLst>
                  <a:gd name="adj1" fmla="val -46981"/>
                  <a:gd name="adj2" fmla="val 62500"/>
                </a:avLst>
              </a:prstGeom>
              <a:solidFill>
                <a:srgbClr val="f8fd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657600" y="83808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把人抢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00600" y="2590920"/>
              <a:ext cx="1371600" cy="609480"/>
              <a:chOff x="4800600" y="2590920"/>
              <a:chExt cx="1371600" cy="609480"/>
            </a:xfrm>
          </p:grpSpPr>
          <p:sp>
            <p:nvSpPr>
              <p:cNvPr id="128" name=""/>
              <p:cNvSpPr/>
              <p:nvPr/>
            </p:nvSpPr>
            <p:spPr>
              <a:xfrm>
                <a:off x="4800600" y="2590920"/>
                <a:ext cx="1371600" cy="609480"/>
              </a:xfrm>
              <a:prstGeom prst="wedgeEllipseCallout">
                <a:avLst>
                  <a:gd name="adj1" fmla="val -65972"/>
                  <a:gd name="adj2" fmla="val -127342"/>
                </a:avLst>
              </a:prstGeom>
              <a:solidFill>
                <a:srgbClr val="f8fd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05520" y="26668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害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6934320" y="2743200"/>
              <a:ext cx="2209680" cy="609480"/>
              <a:chOff x="6934320" y="2743200"/>
              <a:chExt cx="2209680" cy="609480"/>
            </a:xfrm>
          </p:grpSpPr>
          <p:sp>
            <p:nvSpPr>
              <p:cNvPr id="131" name=""/>
              <p:cNvSpPr/>
              <p:nvPr/>
            </p:nvSpPr>
            <p:spPr>
              <a:xfrm>
                <a:off x="6934320" y="2743200"/>
                <a:ext cx="2057400" cy="609480"/>
              </a:xfrm>
              <a:prstGeom prst="wedgeEllipseCallout">
                <a:avLst>
                  <a:gd name="adj1" fmla="val -384"/>
                  <a:gd name="adj2" fmla="val -145050"/>
                </a:avLst>
              </a:prstGeom>
              <a:solidFill>
                <a:srgbClr val="f8fd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315200" y="281952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恐惧着急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1295280" y="5029200"/>
              <a:ext cx="1905120" cy="609480"/>
              <a:chOff x="1295280" y="5029200"/>
              <a:chExt cx="1905120" cy="609480"/>
            </a:xfrm>
          </p:grpSpPr>
          <p:sp>
            <p:nvSpPr>
              <p:cNvPr id="134" name=""/>
              <p:cNvSpPr/>
              <p:nvPr/>
            </p:nvSpPr>
            <p:spPr>
              <a:xfrm>
                <a:off x="1295280" y="5029200"/>
                <a:ext cx="1905120" cy="609480"/>
              </a:xfrm>
              <a:prstGeom prst="wedgeEllipseCallout">
                <a:avLst>
                  <a:gd name="adj1" fmla="val 53166"/>
                  <a:gd name="adj2" fmla="val -115884"/>
                </a:avLst>
              </a:prstGeom>
              <a:solidFill>
                <a:srgbClr val="f8fd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447920" y="510552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追问；责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3276720" y="5029200"/>
              <a:ext cx="1828800" cy="609480"/>
              <a:chOff x="3276720" y="5029200"/>
              <a:chExt cx="1828800" cy="609480"/>
            </a:xfrm>
          </p:grpSpPr>
          <p:sp>
            <p:nvSpPr>
              <p:cNvPr id="137" name=""/>
              <p:cNvSpPr/>
              <p:nvPr/>
            </p:nvSpPr>
            <p:spPr>
              <a:xfrm>
                <a:off x="3276720" y="5029200"/>
                <a:ext cx="1828800" cy="609480"/>
              </a:xfrm>
              <a:prstGeom prst="wedgeEllipseCallout">
                <a:avLst>
                  <a:gd name="adj1" fmla="val 24912"/>
                  <a:gd name="adj2" fmla="val -108592"/>
                </a:avLst>
              </a:prstGeom>
              <a:solidFill>
                <a:srgbClr val="f8fd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29000" y="5105520"/>
                <a:ext cx="16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非常思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57200" y="2971800"/>
              <a:ext cx="3276720" cy="609480"/>
              <a:chOff x="457200" y="2971800"/>
              <a:chExt cx="3276720" cy="609480"/>
            </a:xfrm>
          </p:grpSpPr>
          <p:sp>
            <p:nvSpPr>
              <p:cNvPr id="140" name=""/>
              <p:cNvSpPr/>
              <p:nvPr/>
            </p:nvSpPr>
            <p:spPr>
              <a:xfrm>
                <a:off x="457200" y="2971800"/>
                <a:ext cx="3276720" cy="609480"/>
              </a:xfrm>
              <a:prstGeom prst="wedgeEllipseCallout">
                <a:avLst>
                  <a:gd name="adj1" fmla="val 9546"/>
                  <a:gd name="adj2" fmla="val 96615"/>
                </a:avLst>
              </a:prstGeom>
              <a:solidFill>
                <a:srgbClr val="f8fd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2120" y="3048120"/>
                <a:ext cx="281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好了以后留下的疤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562720"/>
            <a:ext cx="1676520" cy="129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71640" y="476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识记字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590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Arial"/>
              </a:rPr>
              <a:t>听读课文    初步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853272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阿长”名字的由来是怎样的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作者对“阿长”的感情是怎样变化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文章围绕“阿长”写了几件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0920" y="476280"/>
            <a:ext cx="807696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文章开头写阿长名字由来的目的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2205000"/>
            <a:ext cx="8353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作者这样写，形象地刻画出阿长是一个不被人重视、地位低下的劳动人民形象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此外，以写名字的由来开头，还能起到使读者对阿长有个总的印象，从而很自然地引出下文的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549360"/>
            <a:ext cx="4038480" cy="5105160"/>
            <a:chOff x="0" y="549360"/>
            <a:chExt cx="4038480" cy="5105160"/>
          </a:xfrm>
        </p:grpSpPr>
        <p:sp>
          <p:nvSpPr>
            <p:cNvPr id="149" name=""/>
            <p:cNvSpPr/>
            <p:nvPr/>
          </p:nvSpPr>
          <p:spPr>
            <a:xfrm>
              <a:off x="0" y="549360"/>
              <a:ext cx="4038480" cy="510516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549360"/>
              <a:ext cx="4038480" cy="510516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930240"/>
              <a:ext cx="4038480" cy="4266720"/>
            </a:xfrm>
            <a:prstGeom prst="flowChartTerminator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2280" y="1920600"/>
              <a:ext cx="3809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一、速读课文，探讨作者对阿长的感情变化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427640" y="476280"/>
            <a:ext cx="25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大佩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57400" y="1916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认为麻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57400" y="3141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空前敬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57400" y="4437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憎恶怨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57400" y="5734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新的敬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1197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64000" y="249228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3716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88920" y="3252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由衷的祝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88000" y="907920"/>
            <a:ext cx="216000" cy="5472360"/>
          </a:xfrm>
          <a:custGeom>
            <a:avLst/>
            <a:gdLst>
              <a:gd name="textAreaLeft" fmla="*/ 0 w 216000"/>
              <a:gd name="textAreaRight" fmla="*/ 78120 w 21600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979640" y="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二、总结全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484200" y="476280"/>
            <a:ext cx="1217160" cy="7245000"/>
            <a:chOff x="-484200" y="476280"/>
            <a:chExt cx="1217160" cy="7245000"/>
          </a:xfrm>
        </p:grpSpPr>
        <p:sp>
          <p:nvSpPr>
            <p:cNvPr id="166" name=""/>
            <p:cNvSpPr/>
            <p:nvPr/>
          </p:nvSpPr>
          <p:spPr>
            <a:xfrm>
              <a:off x="-484200" y="2311560"/>
              <a:ext cx="1155240" cy="26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先  抑  后  扬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2960" y="476280"/>
              <a:ext cx="0" cy="72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8381880" y="457200"/>
            <a:ext cx="762120" cy="5638680"/>
            <a:chOff x="8381880" y="457200"/>
            <a:chExt cx="762120" cy="5638680"/>
          </a:xfrm>
        </p:grpSpPr>
        <p:sp>
          <p:nvSpPr>
            <p:cNvPr id="169" name=""/>
            <p:cNvSpPr/>
            <p:nvPr/>
          </p:nvSpPr>
          <p:spPr>
            <a:xfrm>
              <a:off x="8458200" y="2057400"/>
              <a:ext cx="68580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切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1880" y="457200"/>
              <a:ext cx="0" cy="56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900000" y="1268280"/>
            <a:ext cx="16131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大佩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认为麻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空前敬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憎恶怨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新的敬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994920" y="40464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事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43280" y="981000"/>
            <a:ext cx="556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喜欢切切察察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摆成“大”字的睡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43280" y="22050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旦的古怪仪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3716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讲长毛攻城时护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16360" y="4508640"/>
            <a:ext cx="38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谋害我的隐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16360" y="580536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我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00360" y="1125360"/>
            <a:ext cx="216000" cy="79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0920"/>
              <a:gd name="textAreaBottom" fmla="*/ 770400 h 7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11280" y="4005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84360" y="27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84360" y="4797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84360" y="6165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5734080"/>
            <a:ext cx="914400" cy="696960"/>
          </a:xfrm>
          <a:custGeom>
            <a:avLst/>
            <a:gdLst>
              <a:gd name="textAreaLeft" fmla="*/ 376560 w 914400"/>
              <a:gd name="textAreaRight" fmla="*/ 537840 w 914400"/>
              <a:gd name="textAreaTop" fmla="*/ 287280 h 696960"/>
              <a:gd name="textAreaBottom" fmla="*/ 409680 h 696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16360" y="285264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肚子烦琐的道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0360" y="2421000"/>
            <a:ext cx="216000" cy="7905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8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既然作者这么尊敬她，为何题目直呼阿长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本文前一部分多用抑笔，对她“不大佩服”、“讨厌”、又是“不耐烦”、“麻烦”，倘用“妈妈”称呼，名不符实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将“阿长”与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山海经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连接，看似矛盾，却令人好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用“阿”字有亲呢的意味，符合作者当时已经是四十六岁的中年人的口气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隶书"/>
              </a:rPr>
              <a:t>再读分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06292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别朗读这七件事，想一想，从这些事情中，可以看出长妈妈是怎样的一个人？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边读边想，仔细分析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4581360"/>
            <a:ext cx="835344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阿长是一个很不幸而又渴望一生平安的劳动妇女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她没有文化、粗俗、饶舌、好事，而又淳朴善良、热心助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048120" y="3276720"/>
            <a:ext cx="2438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长妈妈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她讲的美女蛇的故事真是神秘莫测，给百草园蒙上了一层神秘的面纱。那么，长妈妈是一个什么样的人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来看课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5573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在鲁迅先生的散文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从百草园到三味书屋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里，鲁迅除写了自己的老师寿镜吾先生之外，还写到了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个人，这个人是谁呢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3520" y="533520"/>
            <a:ext cx="2743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复习旧知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隶书"/>
              </a:rPr>
              <a:t>探讨研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42472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情感变化的过程中，作者究竟要突出对长妈妈的哪种情感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3789360"/>
            <a:ext cx="8460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么前文为什么要用如此多的笔墨去写如何“憎恶”“讨厌”阿长呢？有什么作用？在这些充满贬义的文字后面，你能感受到作者对阿长的同情与怀念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03280" y="709560"/>
            <a:ext cx="82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后文的感激、赞颂蓄势，起到了铺垫、衬托的作用，运用了欲扬先抑的写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3280" y="3141720"/>
            <a:ext cx="82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了从多角度、全方位地展示长妈妈的形象，使其形象更真实、生动、丰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900000" y="0"/>
            <a:ext cx="24480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重点研讨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836640"/>
            <a:ext cx="91440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读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——2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然段，思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阿长为什么也来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她懂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吗？何以见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当我阿长来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怎么一回事时，“我”是怎样想的？“我”为什么有这样 的想法？这种想法表现了“我”怎样的心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当阿长买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“我”有什么反应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你怎样理解文中说的阿长“确有伟大的神力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文章写阿长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笔墨不多，为什么不详写她是如何买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呢？之前和之后各写了什么事？这样写有什么好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0920" y="260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之所以这样想，是因因为阿长不识字，没有文化，既不知道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山海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是怎样的一部书，更何况她一向似乎并不善于关心“我”，因此她也不会理解“我”渴望得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山海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心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84240" y="3500280"/>
            <a:ext cx="49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这表明“我”对阿长心存隔膜乃至轻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692360" y="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研读课文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42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阿长把《山海经》买回时，“我”有什么反应？体现了怎样的心情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234936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似乎遇到一个霹雳，全体都震悚起来，赶紧去接过来，打开纸包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震惊、感动的同时进而对长妈妈产生了新的敬意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4869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买《山海经》一事写出了长妈妈热爱、关心孩子的美好品质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24000" y="765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“神力”是指神奇之力。因为这件事“别人不肯做”，谁也没有阿长那样知“我”心，谁也没有阿长那么热心；别人也“不能做”，有画的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山海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很难找，要跑多少路，打听多少地方，谁能像阿长这么给“我”操心费事，况且阿长不识字，居然买来了。所以说，阿长“确有伟大的神力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8200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不写阿长是怎么买到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山海经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，就给读者留下一个广阔的想象空间，想象她怎样到处打听，她怎样跑书店书摊，她操了多少心，在想象中更觉得那真是一种“伟大的神力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2637000"/>
            <a:ext cx="849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写之前的事，才能说明阿长为什么使“我”大喜过望，而且感到她确有“伟大的神力”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789360"/>
            <a:ext cx="8893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之后写“我”的震悚的心情，写如获至宝的心情，写此后搜集的图书，写了这些，才能说明阿长怎样令人尊敬而又感激，阿长的热心对“我”的成长有怎样的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隶书"/>
              </a:rPr>
              <a:t>拓展延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80360" cy="28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你的生活中，有没有像阿长这样的给你留下深刻印象的人呢？你怎样看待他（她）？请写一篇随笔，来展示他（她）的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438280" y="1752480"/>
            <a:ext cx="4114800" cy="2133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81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再 见</a:t>
            </a:r>
            <a:endParaRPr b="0" lang="en-US" sz="2400" spc="1" strike="noStrike">
              <a:ln w="381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30440" y="671400"/>
            <a:ext cx="3886200" cy="49532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-1861" t="-1884" r="0" b="0"/>
          <a:stretch/>
        </p:blipFill>
        <p:spPr>
          <a:xfrm>
            <a:off x="2971800" y="1066680"/>
            <a:ext cx="3003480" cy="419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066680" y="1600200"/>
            <a:ext cx="67820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阿长与《山海经》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66680" y="57150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1412640"/>
            <a:ext cx="8893080" cy="3313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阿长（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，后鲁迅称她为长妈妈，浙江绍兴人，她是鲁迅儿时的保姆。长妈妈的夫家姓余，有一个过继的儿子，是做裁缝的，她有一个女儿，后来招进了一个女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长妈妈只是许多旧式女人中的一个，做了一辈子的老妈子（乡下叫做‘做妈妈’），平时也不回家去，直到临死。”长妈妈患有羊角风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“初六日雨中放舟至大树港看戏，长妈妈发病，辰刻身故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451640" cy="83664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早期百科全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675640" cy="5689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一部内容丰富、风貌独特的古代著作，包含历史、地理、民族、神话、宗教、生物、水利、矿产、医学等诸方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性质，历代说法不尽相同。 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库全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此书列入小说类。近代鲁迅认为此书是巫术、方士之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而大多数论者认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一部早期有价值的地理著作，其中尤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藏山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理价值最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8359920" y="0"/>
            <a:ext cx="749160" cy="368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716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6720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1081821754454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191120" cy="5410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17880" y="596412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经典图读山海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封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081821908082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79132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00400" y="6019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 鳐 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362320" y="6400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帝禹山河图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局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235080" y="-6480"/>
            <a:ext cx="9615600" cy="6870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067280" y="549360"/>
            <a:ext cx="4814640" cy="5805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067280" y="549360"/>
            <a:ext cx="4800600" cy="5715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067280" y="549360"/>
            <a:ext cx="4811760" cy="5867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22880" y="836640"/>
            <a:ext cx="127764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方正舒体"/>
              </a:rPr>
              <a:t>鲁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9-25T14:04:09Z</dcterms:modified>
  <cp:revision>63</cp:revision>
  <dc:subject/>
  <dc:title>PowerPoint Presentation</dc:title>
</cp:coreProperties>
</file>