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E0E-7EE6-4F86-9A32-9C3B6B52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3FF-0FFF-4344-AB60-15DA37B8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C07-B66C-4E10-828F-47B4AE6B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82C-A55D-4531-BB07-BA371DDA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A7A-8211-4169-98A6-A9B39102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76B-D43C-47AA-A82D-DFBEE90B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897-C02F-454E-BBC5-DA125842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85A-A34A-4909-BC49-35B8070A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5EC-46DE-4857-B648-E974B268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5FD-07A4-4813-8A5B-87776FF2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3C6-D5F1-4BB3-86D0-A5B5C968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4F6-9495-4F67-A6B5-627F8C99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1873-BE1C-4F06-94E6-4EC5E44AD7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072040" y="101592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429160" y="172404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浪漫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5904360" y="500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925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997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7212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22831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58550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5936760" y="690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40708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855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2068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586512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640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855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212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579384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18572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9977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600804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2928960" y="4572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593676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392652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926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140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4-09T07:37:12Z</dcterms:modified>
  <cp:revision>41</cp:revision>
  <dc:subject/>
  <dc:title>幻灯片 1</dc:title>
</cp:coreProperties>
</file>