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EC9-E3F9-4A77-ADED-52B3A80B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429-4618-4625-B5FA-ACA6A893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BA8-92DE-4F3B-8663-F0332FA0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773-22C5-44DA-B1CB-8706AB49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A868-D0F7-4B1B-8B1B-D4747BB9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8E66-B100-4051-91BD-98890B61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D07B-C574-4B5C-8E42-0E060C4E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957B-195B-4DFD-8AA4-A6D92126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49F3-46DA-4573-BD2F-9CB527A0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FC0F-1ACE-41EE-9751-A53B8526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0D09-543D-4F33-B98E-663EEC0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553-85A7-4F86-89F7-F83C03D4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0867-7599-46F7-B3B2-41566F5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C8B1-DFDB-4A54-99C9-56B694E4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9956-2165-4ECB-8C70-842CD243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5BF8-F9C0-4F5A-A910-06D0A30D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7004-6C54-4900-89B7-6DE9D58D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E9BE-AA95-412C-8CD0-EBB6DD1A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F1BC-F794-47AE-BF4A-FD2FF3F2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7A7D-529A-4F30-9332-00A75452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6F42-6959-41A7-B5B3-1C29137D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68C0-39E7-4AAC-B29E-E8C6738A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644-3EF1-4960-8282-96B7EA58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F6E5-2950-4BA7-AD08-FAD895B8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5374-6603-4021-91EF-0B582D2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A7E5-DA06-414E-BB84-BD3A1B22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6254-C451-421B-9800-D3F39F78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A6EE-8EF6-4A00-8C49-9820381E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9292-7548-46B3-A115-0FDF8C87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88E5-EF9B-4D95-973D-B917E06A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2161E-2EB2-418A-B410-694DC951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0AB1-320C-41AC-88A1-1AB6261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5F489-C4F7-47B9-B541-29D2EBC2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2B4-3B83-41FC-B6E4-6E556368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40E92-1F99-4AA4-AAF5-5DB459CD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8A36-571F-48CE-BE91-CB0A96BA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DB07-D35B-4777-AFA9-14F253E1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66724-BEA2-4E79-8EF3-A9437BA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A261-272E-4C4E-87CB-C99F608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860B6-9673-4E22-98CE-F190F19A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3830B-54B7-49DD-A701-1916881C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A78A-44F8-456C-8E5C-1F4F17F9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3D7E-9247-49D5-815C-E076B6F8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DEF0-101B-4A87-BF53-A2C8DA10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47B-19E1-4A0B-97BA-8ACF15CD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1B14D-6610-43B1-BDD5-90A7BDEF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0B92-EE84-4A8E-9783-126E0DB8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6004E-E7E0-44FE-A392-442EB894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99DD0-9B78-46B4-A64A-75B24557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9DD2-3622-4956-BF8F-73391F33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A1482-3DC3-4BA4-8644-068F36A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4AFEF-0E5B-4346-956F-45E829C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D892-90BE-4984-B41C-99AEAAF6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1283-FEDC-469C-A2CF-CB686770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FF597-ADDA-4BCA-9BCA-CF809179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503-73C4-450C-A72E-D82194F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4DAA5-BEA2-43C3-82C2-0FB22C8E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4F015-7634-42CA-AEA3-5280E729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C2F00-C929-405D-965A-DA11B12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3E20F-4AB1-4119-8FDA-EBA6D524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78A7C-D327-460F-BAB8-44A4B3B6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6858D-2F57-4D79-9D9E-B91EE0DB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AEFD0-EA06-4D59-BB68-90AA05E7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358FE-319D-433E-90F7-DE608DFA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1287F-63C1-49BE-9F5B-512E2FDB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4F087-FD24-4564-85B9-7BA7479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21B-ECC0-4E76-97BC-0CAD646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5557A-282D-4A57-AC07-8DC49C18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33768-A7AF-4806-9081-946C3F9B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9ECBA-3A7C-4DD9-B3B9-CC77FAC9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6FBD7-88E8-4EBA-895E-35A1B8BC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C2E1-B378-44C0-A6F1-C2E932DA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8DD3C-8407-4EA5-B77E-752D969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7D9B-6241-434C-A234-7B0786DE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C64CE-41CD-4176-955F-23DE3C61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CFE9-75FD-4269-9F51-C3B5465B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D625-DB68-442F-AA44-BEC5D17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483-210C-4DD8-86DB-013AF00F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D940C-8A18-4C72-A5B1-9DAC5C3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5CEE9-A7AD-41C8-85CD-A4492922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CB633-E587-419C-A10A-1C835977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D1201-A07A-42CE-AF55-38C8E207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0DE0F-1DFC-4E37-9748-CC0743BD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C5D-6B4F-44CF-ADA6-11D4CBA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D217-52D1-4CDC-891F-8B8C59A22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E59D-C3DC-4651-93E0-465C33CB30A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D07A-AD51-4502-8C40-2202A30081B1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56DB-D0B8-497F-B0DA-4EAB2AA1E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B308-0803-4D3D-BF15-A028E4A73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EDCA-2524-4A41-B2EB-528C1D15BB9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5A10-7AAE-4CB0-A5EC-596F8566F1A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jmuseumnet.org/museum/lubo/images/luxun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kmt.org.tw/Content/images/42_4778_129_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219320" y="152388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阿长与《山海经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248520" y="464832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1479960" y="587592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内容欢迎莅临天马行空官方博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.qq.com/tmxk_do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600200" y="0"/>
            <a:ext cx="70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2</a:t>
            </a: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、课文对哪些内容详写</a:t>
            </a: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?</a:t>
            </a: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哪些内容写得比较简单</a:t>
            </a: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1905120"/>
            <a:ext cx="8001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略写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阿长的称呼的来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2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切切察察”的毛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摆成“大”字的睡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阿长让“我”过元旦时吃福橘的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讲阿长的故事时说到她的作用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文中详写了一件事：阿长买《山海经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0"/>
            <a:ext cx="1547640" cy="19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琥珀"/>
              </a:rPr>
              <a:t>思考：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6836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略写的内容能使人对长妈妈有一个初步了解。详写买《山海经》一事，令人对长妈妈刮目相看，在所这看来在作者看来“别人不肯做，或不能做的事情，她却能做成功”。这样安排详略得当，突出表现长妈妈真诚、善良、富有爱心的一面，也表现出幼小的鲁迅对长妈妈的敬佩和感激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92360" y="54936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为什么这样安排？  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0" y="1197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华文新魏"/>
                <a:ea typeface="华文新魏"/>
              </a:rPr>
              <a:t>文中略写的部分可否删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06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确：记叙文的详略安排，是根据中心来确定的。略写往往是记叙文中的烘托部分，没有略写，文章内容就会呆板，头绪就会不清，情节就会不连贯。如果说详写是红花，略写就是不可 少的绿叶。如文中略写的“我”不大佩服阿长的三件事就起到了丰富文章内容，更全面完整地刻画阿长这个人物形象，增强文章的真实性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0880" y="1600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作者的思想感情有什么变化？找出文中表现作者思想感情变化的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495680" y="5656320"/>
            <a:ext cx="2190960" cy="97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新的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5656320"/>
            <a:ext cx="1828800" cy="97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热爱关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5656320"/>
            <a:ext cx="2438280" cy="97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为“我”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山海经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4465800"/>
            <a:ext cx="219096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特别的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4465800"/>
            <a:ext cx="182880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无知、淳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4465800"/>
            <a:ext cx="243828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讲“长毛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95680" y="3492360"/>
            <a:ext cx="2190960" cy="97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耐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3492360"/>
            <a:ext cx="1828800" cy="97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善良真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3492360"/>
            <a:ext cx="2438280" cy="97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令人厌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规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66880" y="2517840"/>
            <a:ext cx="1828800" cy="974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粗俗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2517840"/>
            <a:ext cx="2438280" cy="974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摆成“大”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睡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86640" y="1495440"/>
            <a:ext cx="2152440" cy="5133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1495440"/>
            <a:ext cx="2190960" cy="199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6880" y="1495440"/>
            <a:ext cx="1828800" cy="1022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饶舌多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1495440"/>
            <a:ext cx="2438280" cy="1022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切切察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毛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86640" y="304920"/>
            <a:ext cx="215244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写作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304920"/>
            <a:ext cx="219096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”的感情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304920"/>
            <a:ext cx="182880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人物性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304920"/>
            <a:ext cx="243828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149544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2517840"/>
            <a:ext cx="426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3492360"/>
            <a:ext cx="6458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4465800"/>
            <a:ext cx="6458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5656320"/>
            <a:ext cx="6458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6629400"/>
            <a:ext cx="8610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304920"/>
            <a:ext cx="0" cy="63244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304920"/>
            <a:ext cx="0" cy="632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304920"/>
            <a:ext cx="0" cy="632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6640" y="304920"/>
            <a:ext cx="0" cy="632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839080" y="304920"/>
            <a:ext cx="0" cy="63244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990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 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明确：文章没有入笔就写长妈妈这好那好，却用了近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2/3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的篇幅来写长妈妈的“缺点”和“错误”：饶舌、多事、睡相不好、有许多繁文缛节、愚昧无知。而在后文又用她给我买《三海经》的事，表现出她爽朗、热情、乐于帮助别人的性情。这就是采用先抑后扬的手法。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作者以此凸现出长妈妈淳朴、宽厚、善良、仁慈的美德，表达自己的深切思念。这样文章更加真切生动，人物形象更为丰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0"/>
            <a:ext cx="8077320" cy="6426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文章为什么要叫《阿长与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山海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》？如果改成《长妈妈与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山海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》不是更有敬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989000"/>
            <a:ext cx="9144000" cy="155628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不同的称呼，标志着不同的身份、品味。文章前一部分所写的人物行状，多用抑笔，又是“不大佩服她”，又是“讨厌”，又是“麻烦”倘用“妈妈”称呼，名不副实，用“阿长”，名副其实。所以，文章其实标志文章的一半抑笔。再则，将阿长与《山海经》连接，又是一个看似矛盾的联系，一个文盲妇女与一本古典著作怎样联系起来了呢，有什么联系，令人好奇。再则，题目用的是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岁写作时的口气，宜用“阿长”称呼，而“阿”字又有亲昵的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26920" y="3645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“我”买回渴慕已久的《山海经》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73000" y="620640"/>
            <a:ext cx="35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5.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读第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8—28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自然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31520" y="1905120"/>
            <a:ext cx="599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最让“我”对她产生敬意的是什么事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33526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她并非学者，说了也无益；但既然来问，也就都对她说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4876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对从她那里得到《山海经》不抱任何希望，只是说说而已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当阿长问《山海经》是怎么一回事时，我是怎样想的？表现了“我”什么心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8195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似乎遇到一个霹雳，全体都震悚起来，赶紧去接过来，打开纸包。”震惊、感动的同时进而对长妈妈产生了新的敬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280" y="501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买《山海经》一事写出了长妈妈热爱、关心孩子的美好品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阿长把《山海经》买回时，“我”有什么反应？体现了怎样的心情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0"/>
            <a:ext cx="4788000" cy="301860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鲁迅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8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～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3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〕，中国</a:t>
            </a:r>
            <a:r>
              <a:rPr b="1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文学家、思想家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革命家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原名</a:t>
            </a:r>
            <a:r>
              <a:rPr b="1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周树人，字豫才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浙江绍兴人。出身于破落封建家庭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去日本留学，原在仙台医学院学医， 后从事文艺工作，企图用以改变国民精神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，首次用“鲁迅”的笔名，发表中国现代文学史上</a:t>
            </a:r>
            <a:r>
              <a:rPr b="1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第一篇白话小说《狂人日记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奠定了新文学运动的 基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66"/>
            </a:gs>
            <a:gs pos="100000">
              <a:srgbClr val="dfeb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为什么在此时作者认为“她确有神力”？这句和前面的阿长讲“长毛的故事”时的“却不料她还有这样伟大的神力”有何区别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16765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因为这件事“别人不肯做”，谁也没有阿长那样知“我”心，谁也没有阿长那样热心；别人也“不能做”，有画的《山海经》很难找，谁能像阿长这么给“我”操心费事，况且阿长不识字，居然买来了。所以说，阿长“她确有神力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前一次带有调侃的意味，第二次却含有称颂的意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26028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这里，作者详细叙述了长妈妈为“我”买《山海经》的经过。请一位同学来复述买书的起因、经过、结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280" y="220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宋体"/>
              </a:rPr>
              <a:t>事情的起因：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我”曾在远房的叔祖那里看到过，后来一直渴慕着绘图的仙海经》。叫远房叔祖那儿已无处可寻，买吧，又没有好机会。因此，“我”对《山海经》一直念念不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8360" y="49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宋体"/>
              </a:rPr>
              <a:t>经过：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阿长向“我”问《山海经》的事，她告假回家以后的四五天，她将《山海经》给“我”买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0"/>
            <a:ext cx="93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结果：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“我”深受感动，从而不由得对长妈妈产生了新的敬意。在“我”渴慕得到绘图的《山海经》，远房叔祖找不到，别人又“不肯真实地回答我”，自己去买又没有机会的时候，长妈妈却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神奇般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地买到了。这是多么令人惊喜的消息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她根本不识字，她连书名都说不准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，但“别人不肯做，或不能做的事情，她却能够做成功”，我们可以想象幼小的鲁迅此时那种激动而又敬佩的心情，“新的敬意”自然而然地在心底萌生。文中用一个“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霹雳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”的比喻和词语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“震惊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”写出了“我”十分震惊的心理，也表现了“我”对长妈妈产生“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新的敬意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”的原因。作者得到绘图〈山海经〉的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欣喜之态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宛然可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8164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这就是鲁迅笔下的长妈妈，她虽然多事饶舌，有些令人厌烦的规矩，但她真诚、善良、淳朴、关心孩子，尽自己的可能帮助孩子，这样的—个人，怎能不让鲁迅深深地怀念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176720" y="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、提问：文中哪些地方抒写了作者这种怀念之情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有感情地朗读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84720" y="155736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明确：最后两个自然段，直接抒发了对长妈妈的深切怀念之情。文章最后一句“仁厚黑暗的地母啊，愿在你的怀里永安她的魂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正是作者深沉怀念的真实写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79280" y="260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隶书"/>
              </a:rPr>
              <a:t>重点与难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4000" y="155736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本文的记叙线索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2498760"/>
            <a:ext cx="9144000" cy="253188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散文的“神不散”说的是：主题集中。写散文时要放得开，但是要受到中心思想的制约，所以还得收得拢。在阅读散文时，要注意抓住文章的线索，理清全篇的层次结构和理解全篇思想内容。本文是以作者的思想变化为线索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首先写知道阿长谋害了“我”的隐鼠时，感情上是“憎恶”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56991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文章最后以“仁厚黑暗的地母啊，愿在你怀里永安她的魂灵”结束，表达了作者对阿长的深切怀念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1125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对于阿长的平常举动，“我实在不大佩服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5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对于阿长所懂得的许多规矩，‘我”也是‘不耐烦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220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尽管在阿长给“我”讲长毛的故事时，“我”也曾“发生过空前的敬意”，但那后来也“逐渐淡漠”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43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是因为阿长给“我”买《山海经》，才真正“使我发生新的敬意了”，甚至连“谋害隐鼠的怨恨，从此完全消灭了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067280" y="54936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67280" y="170028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67280" y="31417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38480" y="4038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67280" y="53737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189000"/>
            <a:ext cx="8686800" cy="58140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简析过渡与照应在本文结构中所起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83664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过渡和照应是记叙文结构的重要组成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过渡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是连接段落、层次之间的纽带。一般来说，内容上的转折、叙述中的总分、行文中的起讫都要安排过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21300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文章中有过渡性语句，如文中“但是她懂得许多规矩”，“然而我有一时也对她发生过空前的敬意”，“但当我哀悼隐鼠，给它复仇的时候，一面又在渴慕着绘图的《山海经》了”等；也有过渡性段落“这种敬意……我惧惮她什么呢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579132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这些过渡使文章能够很自然地由一件事写到另一件事，行文紧凑，结构严谨，浑然一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0" y="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Times New Roman"/>
                <a:ea typeface="隶书"/>
              </a:rPr>
              <a:t>照应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00360" y="386064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通过照应强调了阿长的不被人重视，地位低下。文中照应的例子很多。照应不是重复，而是对前文内容的补充，前后映衬，加深读者的印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981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是指文章有些内容前后呼应，前面讲了，后面也有着落。如文中在开头写道“也终于不知道她姓什么”，后文是这样照应的，“我终于不知道她的姓名，她的经历；仅知道有一个过继的儿子，她大约是青年守寡的孤孀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265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28600" y="22096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作者描写阿长的语言是非常出色的，这些描写有何特色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457200" y="533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分析两个事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09480"/>
            <a:ext cx="896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元旦除夕吃福橘，说是吃了它，一年到头，顺顺溜溜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文中描写了长妈妈塞给“我”福橘的往事，是怎样描写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的这—举动寄托了她怎样的愿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2895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明确：文中写她“立刻伸出臂膊，一把将我按住”“惶急地看着我”。“她又有所要求似的，摇着我的肩”。焦急的神态跃然纸上。而当“我”说：“阿妈，恭喜……”之后，“她于是十分欢喜似的，笑将起来，同时将一点冰冷的东西，塞在我的嘴里。”欣喜之态溢于言表。作者虽然认为这是“元旦辟头的磨难’’，但正是这“磨难”中，寄托着长妈妈怎样善良真诚的愿望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她希望自己和孩子“一年到头，顺顺流流”，这其中更重要的是孩子，因为并不是给自己吃福橘，而是由她“塞在我的嘴里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0" y="0"/>
            <a:ext cx="485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18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间，陆续创作出版了</a:t>
            </a:r>
            <a:r>
              <a:rPr b="1" lang="zh-CN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小说集《呐喊》、《彷徨》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论文集《坟》、 散文诗集《野草》、</a:t>
            </a:r>
            <a:r>
              <a:rPr b="1" lang="zh-CN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散文集《朝花夕拾》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杂文集《热风》、《华盖集》等专集。其中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发表的中篇小说</a:t>
            </a:r>
            <a:r>
              <a:rPr b="1" lang="zh-CN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《阿</a:t>
            </a:r>
            <a:r>
              <a:rPr b="1" lang="en-US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Q</a:t>
            </a:r>
            <a:r>
              <a:rPr b="1" lang="zh-CN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正传》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是中国现代文学 史上的不朽杰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91440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916280" y="628560"/>
            <a:ext cx="7138800" cy="360"/>
            <a:chOff x="1916280" y="628560"/>
            <a:chExt cx="7138800" cy="360"/>
          </a:xfrm>
        </p:grpSpPr>
        <p:sp>
          <p:nvSpPr>
            <p:cNvPr id="515" name="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0" y="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总结全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0" y="692280"/>
            <a:ext cx="53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从整体说来，本文诙谐而富有情趣，但又不失深沉庄重。“切切察察”的神态，睡相的描写，吃福橘日于的紧张心情，“长毛”的故事等，读后令人捧腹开怀，忍俊不禁。可是，当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妈妈为“我”买回《山海经》后，作者的感情变得深沉庄重，深切怀念之情流露于字里行间，这种色彩的变化，使得作者对长妈妈的感情表达得更加真实感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762120" y="6094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识记与理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203832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给下列加横线的字注音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阿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长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    ）             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疮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疤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问（             ）                 惧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惮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震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惊（             ）                 粗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拙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憎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恶（             ）             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絮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说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急（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56386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2514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uā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514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3962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ē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38280" y="4495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351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14600" y="3505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hè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29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30621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7621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选词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这种敬意，虽然也逐渐（冷淡、淡薄、冷漠）起来，但完全（消失、消灭、消亡），大概是在知道她谋害了我的隐鼠之后。那时就极严重地（询问、审问、诘问 ），而且当面叫她阿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358128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这（就、也、又）使我发生新的敬意了，别人不肯做，或不能做的事，她（却、也、还）能够做成功。她确有伟大的神力。谋害隐鼠的怨恨，从此（基本、完全、全部）消灭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386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淡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00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625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20000" y="4292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完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407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诘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．刻画人物形象，常用的有肖像描写、语言描写、动作描写、心理描写。指出下列各旬运用了什么描写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2133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她生得黄胖而矮。（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2666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最讨厌的是常喜欢切切察察，向人们低声絮说些什么事，还竖起第二个手指，在空中上下摇动，或者点着对手或自己的鼻尖。（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3917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她穿着新的蓝布衫回来了，一见面，就将一包书递给我，高兴地说道：“哥儿，有画儿的‘二哼经’，我给你买来了！”（ 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19720" y="2133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肖像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动作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574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语言描写、外貌描写、动作描写、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09480" y="457200"/>
            <a:ext cx="79250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判断正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）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朝花夕拾》是一本散文集，《从百草园到三味书屋》也出自这本集子。（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2362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文中的“我”表示的是采用第一人称叙述，并非真的是指少年鲁迅。（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3581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鲁迅，原名周树人，是我国伟大的文学家、思想家和革命家。著作有杂文、小说、散文、诗歌等，收在《鲁迅全集》里。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122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从题目〈阿长与山海经》可知，课文详写的是阿长买《山海经》送“我”这一件事，其余的都是略写。（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11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81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623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900000" y="2133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69720" y="7621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作 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52480" y="2438280"/>
            <a:ext cx="63248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外阅读《朝花夕拾》，把你喜欢的文章讲给大家听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048120" y="327672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5029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她讲的美女蛇的故事真是神秘莫测，给百草园蒙上一层神秘的面纱。那么，长妈妈是一个什么样的人呢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—起来看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0920" y="1557360"/>
            <a:ext cx="8497800" cy="642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鲁迅先生的散文《从百草园到三味书屋》里，鲁迅除写了自己的老师寿镜吾先生之外，还写到了—个人，这个人是谁呢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50920" y="18900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复习旧知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044720" y="1628640"/>
            <a:ext cx="98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hà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34520" y="155736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huá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96320" y="162864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huāng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7280" y="328464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ǔ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95640" y="321300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ù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03000" y="307656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ī  l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45800" y="479736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ǒ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22160" y="479736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é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88760" y="48006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2057400"/>
            <a:ext cx="727236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骇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惶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急       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疮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掳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渴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慕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霹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悚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诘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          惧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8900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Verdana"/>
                <a:ea typeface="华文新魏"/>
              </a:rPr>
              <a:t>识记字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57200" y="14479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隶书"/>
              </a:rPr>
              <a:t>文章主要描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对象是长妈妈，作者几乎是按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隶书"/>
              </a:rPr>
              <a:t>生活的原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，真实而亲切地再现了自己童年时期与长妈妈相处的情景。请同学们在自读课文的基础上，找出描写长妈妈的事件或细节，并说说这些事件或细节体现了长妈妈什么样的性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189000"/>
            <a:ext cx="16956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研读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4046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．长妈妈是一个没有名字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．长妈妈睡觉时总是“在床中间摆成一个‘大’  字，挤得我没有余地翻身”（长妈妈睡相不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99736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３．长妈妈“常喜欢切切察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5733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４．长妈妈“逼”着我吃福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181080" y="4149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５．长妈妈给我讲长毛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181080" y="5084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６．长妈妈给我买来《山海经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35280" y="907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长妈妈地位低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11640" y="2492280"/>
            <a:ext cx="53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长妈妈是一个粗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299736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喜欢饶舌多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48360" y="357336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有着太多的繁文缛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48000" y="4653000"/>
            <a:ext cx="61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长妈妈是无知而又淳朴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558972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长妈妈是一个真诚，善良，关心孩子，尽可能帮助孩子的好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419640" y="189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作者从多个层面、多个角度刻画了长妈妈的形象，下面请同学们认真分析归纳，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字以内的一句话，提炼出长妈妈的人物形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2920" y="3573360"/>
            <a:ext cx="549108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  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妈妈是一个饶舌、多事、有许多繁文缛节，但又爽朗、热情、乐于帮助别人，有着淳朴、宽厚、善良、仁慈的美德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481640" cy="60199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fq</cp:lastModifiedBy>
  <dcterms:modified xsi:type="dcterms:W3CDTF">2011-06-27T15:08:16Z</dcterms:modified>
  <cp:revision>31</cp:revision>
  <dc:subject/>
  <dc:title>PowerPoint Presentation</dc:title>
</cp:coreProperties>
</file>